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D7A-2FF8-4584-B1E8-EF5D700F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855-BF38-40BC-935A-A83A7ADE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5E2-275E-4646-9EE1-3B1426E7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64E-5CB1-4397-8FF3-905879F6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8F72-8805-434C-92DB-54741D6B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CCC5-513C-4E56-B04D-DF67B3C8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2F8C-B516-4FCD-A535-E00FEBF4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C7B5-5889-41D1-B771-5993251E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0FCC-9F41-4128-9C13-A5448A8E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335A-03EE-49C7-B0A3-C9452488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CF98-7237-4AF6-A987-AB3583E5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393-F5C2-4A24-888E-FED42D49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43FA-D266-4AB5-85EA-849B7348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4E6C-EE15-4A10-B338-21DA2991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DC3F-32C4-452E-A114-50B66CB7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5180-7E97-472D-A091-B799A5B1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1475-F467-4B17-A6DD-DC396823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5B1-05BF-4233-8EE7-93D7D182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A60-02F0-41CD-BE1C-7C9AF23F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EBC-7A7B-4C25-B67D-F6F4C41E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CB6-A0FF-413B-8DFA-9BA715DF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20B-10A6-4C50-9477-34E12150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DA5-983D-447F-9400-505E4EE1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0EF-E603-4340-988B-F79DBF2A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5e7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7186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69a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7bead"/>
                </a:gs>
                <a:gs pos="100000">
                  <a:srgbClr val="a5bd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966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637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283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9c0b0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c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46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cc2b2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7668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7b6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87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f5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e6c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1948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77887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c2b2"/>
                  </a:gs>
                  <a:gs pos="100000">
                    <a:srgbClr val="a5bd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E9FD-E3E8-47EB-A5B9-5300031F3A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5e7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7186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69a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7bead"/>
                </a:gs>
                <a:gs pos="100000">
                  <a:srgbClr val="a5bd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966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96b2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6376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283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9c0b0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c57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46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cc2b2"/>
                </a:gs>
                <a:gs pos="100000">
                  <a:srgbClr val="a5bd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7668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87b6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877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637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4f5b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b9f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58b7c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5e6c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7788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81948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77887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c2b2"/>
                  </a:gs>
                  <a:gs pos="100000">
                    <a:srgbClr val="a5bd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2A83-4AD2-4AE1-8922-0D771E0676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71b9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4ca89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3885070000%5B1%5D.wav" TargetMode="External"/><Relationship Id="rId2" Type="http://schemas.microsoft.com/office/2007/relationships/media" Target="file:///tmp/home/.config/libreoffice/4/user/gallery/MSj03885070000%5B1%5D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arm-up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don Condensed"/>
              </a:rPr>
              <a:t>Objective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Clarendon Condensed"/>
              </a:rPr>
              <a:t>To identify transformations in figures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4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ure is rotated (turned) through a given angle about a given poi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895480"/>
            <a:ext cx="2133720" cy="17528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e88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19112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662670"/>
                <a:lnTo>
                  <a:pt x="9976" y="32"/>
                </a:lnTo>
                <a:arcTo wR="10800" hR="10800" stAng="-5662670" swAng="566267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4e8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314520" y="4762440"/>
            <a:ext cx="2133720" cy="17524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480"/>
              <a:gd name="textAreaBottom" fmla="*/ 1367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e88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52880" y="511812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15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5000" y="15228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84280" y="4653000"/>
            <a:ext cx="88920" cy="1133280"/>
          </a:xfrm>
          <a:custGeom>
            <a:avLst/>
            <a:gdLst/>
            <a:ahLst/>
            <a:rect l="l" t="t" r="r" b="b"/>
            <a:pathLst>
              <a:path w="249" h="3151">
                <a:moveTo>
                  <a:pt x="6821" y="15974"/>
                </a:moveTo>
                <a:cubicBezTo>
                  <a:pt x="6821" y="15958"/>
                  <a:pt x="6821" y="15941"/>
                  <a:pt x="6821" y="15925"/>
                </a:cubicBezTo>
                <a:cubicBezTo>
                  <a:pt x="6876" y="15907"/>
                  <a:pt x="6834" y="15900"/>
                  <a:pt x="6796" y="15900"/>
                </a:cubicBezTo>
                <a:cubicBezTo>
                  <a:pt x="6738" y="15900"/>
                  <a:pt x="6773" y="15984"/>
                  <a:pt x="6821" y="15999"/>
                </a:cubicBezTo>
                <a:cubicBezTo>
                  <a:pt x="6936" y="16035"/>
                  <a:pt x="6846" y="15850"/>
                  <a:pt x="6821" y="15825"/>
                </a:cubicBezTo>
                <a:cubicBezTo>
                  <a:pt x="6750" y="15754"/>
                  <a:pt x="6648" y="15882"/>
                  <a:pt x="6648" y="15949"/>
                </a:cubicBezTo>
                <a:cubicBezTo>
                  <a:pt x="6677" y="16009"/>
                  <a:pt x="6695" y="16032"/>
                  <a:pt x="6747" y="16049"/>
                </a:cubicBezTo>
                <a:cubicBezTo>
                  <a:pt x="6786" y="16021"/>
                  <a:pt x="6893" y="15922"/>
                  <a:pt x="6796" y="15875"/>
                </a:cubicBezTo>
                <a:cubicBezTo>
                  <a:pt x="6712" y="15854"/>
                  <a:pt x="6693" y="15838"/>
                  <a:pt x="6648" y="15875"/>
                </a:cubicBezTo>
                <a:cubicBezTo>
                  <a:pt x="6651" y="15923"/>
                  <a:pt x="6666" y="16185"/>
                  <a:pt x="6796" y="16049"/>
                </a:cubicBezTo>
                <a:cubicBezTo>
                  <a:pt x="6900" y="15940"/>
                  <a:pt x="6829" y="15842"/>
                  <a:pt x="6697" y="15850"/>
                </a:cubicBezTo>
                <a:cubicBezTo>
                  <a:pt x="6606" y="15855"/>
                  <a:pt x="6655" y="16086"/>
                  <a:pt x="6722" y="16073"/>
                </a:cubicBezTo>
                <a:cubicBezTo>
                  <a:pt x="6793" y="16026"/>
                  <a:pt x="6817" y="16013"/>
                  <a:pt x="6821" y="15949"/>
                </a:cubicBezTo>
                <a:cubicBezTo>
                  <a:pt x="6799" y="15923"/>
                  <a:pt x="6704" y="15842"/>
                  <a:pt x="6672" y="15925"/>
                </a:cubicBezTo>
                <a:cubicBezTo>
                  <a:pt x="6647" y="15990"/>
                  <a:pt x="6715" y="16034"/>
                  <a:pt x="6747" y="15949"/>
                </a:cubicBezTo>
                <a:cubicBezTo>
                  <a:pt x="6747" y="15941"/>
                  <a:pt x="6747" y="15933"/>
                  <a:pt x="6747" y="15925"/>
                </a:cubicBezTo>
              </a:path>
              <a:path w="249" h="3151">
                <a:moveTo>
                  <a:pt x="6772" y="15925"/>
                </a:moveTo>
                <a:cubicBezTo>
                  <a:pt x="6772" y="15871"/>
                  <a:pt x="6783" y="15853"/>
                  <a:pt x="6796" y="15801"/>
                </a:cubicBezTo>
                <a:cubicBezTo>
                  <a:pt x="6796" y="15776"/>
                  <a:pt x="6796" y="15768"/>
                  <a:pt x="6796" y="15751"/>
                </a:cubicBezTo>
              </a:path>
              <a:path w="249" h="3151">
                <a:moveTo>
                  <a:pt x="6747" y="15801"/>
                </a:moveTo>
                <a:cubicBezTo>
                  <a:pt x="6769" y="15713"/>
                  <a:pt x="6772" y="15644"/>
                  <a:pt x="6772" y="15553"/>
                </a:cubicBezTo>
              </a:path>
              <a:path w="249" h="3151">
                <a:moveTo>
                  <a:pt x="6747" y="15701"/>
                </a:moveTo>
                <a:cubicBezTo>
                  <a:pt x="6747" y="15548"/>
                  <a:pt x="6745" y="15405"/>
                  <a:pt x="6772" y="15255"/>
                </a:cubicBezTo>
              </a:path>
              <a:path w="249" h="3151">
                <a:moveTo>
                  <a:pt x="6747" y="15429"/>
                </a:moveTo>
                <a:cubicBezTo>
                  <a:pt x="6754" y="15285"/>
                  <a:pt x="6796" y="15126"/>
                  <a:pt x="6772" y="14982"/>
                </a:cubicBezTo>
                <a:cubicBezTo>
                  <a:pt x="6764" y="14957"/>
                  <a:pt x="6755" y="14933"/>
                  <a:pt x="6747" y="14908"/>
                </a:cubicBezTo>
              </a:path>
              <a:path w="249" h="3151">
                <a:moveTo>
                  <a:pt x="6747" y="15032"/>
                </a:moveTo>
                <a:cubicBezTo>
                  <a:pt x="6718" y="14868"/>
                  <a:pt x="6714" y="14701"/>
                  <a:pt x="6697" y="14536"/>
                </a:cubicBezTo>
              </a:path>
              <a:path w="249" h="3151">
                <a:moveTo>
                  <a:pt x="6747" y="14560"/>
                </a:moveTo>
                <a:cubicBezTo>
                  <a:pt x="6747" y="14444"/>
                  <a:pt x="6747" y="14329"/>
                  <a:pt x="6747" y="14213"/>
                </a:cubicBezTo>
              </a:path>
              <a:path w="249" h="3151">
                <a:moveTo>
                  <a:pt x="6747" y="14238"/>
                </a:moveTo>
                <a:cubicBezTo>
                  <a:pt x="6741" y="14115"/>
                  <a:pt x="6717" y="14009"/>
                  <a:pt x="6697" y="13891"/>
                </a:cubicBezTo>
              </a:path>
              <a:path w="249" h="3151">
                <a:moveTo>
                  <a:pt x="6697" y="14064"/>
                </a:moveTo>
                <a:cubicBezTo>
                  <a:pt x="6697" y="13924"/>
                  <a:pt x="6697" y="13783"/>
                  <a:pt x="6697" y="13643"/>
                </a:cubicBezTo>
              </a:path>
              <a:path w="249" h="3151">
                <a:moveTo>
                  <a:pt x="6672" y="13692"/>
                </a:moveTo>
                <a:cubicBezTo>
                  <a:pt x="6666" y="13551"/>
                  <a:pt x="6651" y="13434"/>
                  <a:pt x="6623" y="13295"/>
                </a:cubicBezTo>
              </a:path>
              <a:path w="249" h="3151">
                <a:moveTo>
                  <a:pt x="6623" y="13345"/>
                </a:moveTo>
                <a:cubicBezTo>
                  <a:pt x="6623" y="13254"/>
                  <a:pt x="6623" y="13213"/>
                  <a:pt x="6623" y="13122"/>
                </a:cubicBezTo>
                <a:cubicBezTo>
                  <a:pt x="6623" y="13056"/>
                  <a:pt x="6623" y="12989"/>
                  <a:pt x="6623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7920" y="5697360"/>
            <a:ext cx="1125360" cy="98640"/>
          </a:xfrm>
          <a:custGeom>
            <a:avLst/>
            <a:gdLst/>
            <a:ahLst/>
            <a:rect l="l" t="t" r="r" b="b"/>
            <a:pathLst>
              <a:path w="3126" h="274">
                <a:moveTo>
                  <a:pt x="6796" y="15974"/>
                </a:moveTo>
                <a:cubicBezTo>
                  <a:pt x="6816" y="15874"/>
                  <a:pt x="6806" y="15894"/>
                  <a:pt x="6896" y="15875"/>
                </a:cubicBezTo>
                <a:cubicBezTo>
                  <a:pt x="7017" y="15850"/>
                  <a:pt x="7077" y="15880"/>
                  <a:pt x="7193" y="15900"/>
                </a:cubicBezTo>
              </a:path>
              <a:path w="3126" h="274">
                <a:moveTo>
                  <a:pt x="7119" y="15900"/>
                </a:moveTo>
                <a:cubicBezTo>
                  <a:pt x="7111" y="15900"/>
                  <a:pt x="7102" y="15900"/>
                  <a:pt x="7094" y="15900"/>
                </a:cubicBezTo>
              </a:path>
              <a:path w="3126" h="274">
                <a:moveTo>
                  <a:pt x="6921" y="15949"/>
                </a:moveTo>
                <a:cubicBezTo>
                  <a:pt x="6871" y="15949"/>
                  <a:pt x="6970" y="15949"/>
                  <a:pt x="7020" y="15949"/>
                </a:cubicBezTo>
                <a:cubicBezTo>
                  <a:pt x="7145" y="15949"/>
                  <a:pt x="7265" y="15974"/>
                  <a:pt x="7392" y="15974"/>
                </a:cubicBezTo>
                <a:cubicBezTo>
                  <a:pt x="7417" y="15974"/>
                  <a:pt x="7425" y="15974"/>
                  <a:pt x="7441" y="15974"/>
                </a:cubicBezTo>
              </a:path>
              <a:path w="3126" h="274">
                <a:moveTo>
                  <a:pt x="7293" y="15974"/>
                </a:moveTo>
                <a:cubicBezTo>
                  <a:pt x="7371" y="15974"/>
                  <a:pt x="7439" y="15956"/>
                  <a:pt x="7516" y="15949"/>
                </a:cubicBezTo>
                <a:cubicBezTo>
                  <a:pt x="7620" y="15940"/>
                  <a:pt x="7716" y="15954"/>
                  <a:pt x="7813" y="15974"/>
                </a:cubicBezTo>
              </a:path>
              <a:path w="3126" h="274">
                <a:moveTo>
                  <a:pt x="7689" y="15925"/>
                </a:moveTo>
                <a:cubicBezTo>
                  <a:pt x="7784" y="15955"/>
                  <a:pt x="7885" y="15970"/>
                  <a:pt x="7987" y="15974"/>
                </a:cubicBezTo>
                <a:cubicBezTo>
                  <a:pt x="8028" y="15975"/>
                  <a:pt x="8070" y="15974"/>
                  <a:pt x="8111" y="15974"/>
                </a:cubicBezTo>
              </a:path>
              <a:path w="3126" h="274">
                <a:moveTo>
                  <a:pt x="8086" y="15974"/>
                </a:moveTo>
                <a:cubicBezTo>
                  <a:pt x="8223" y="16006"/>
                  <a:pt x="8321" y="15990"/>
                  <a:pt x="8458" y="15974"/>
                </a:cubicBezTo>
                <a:cubicBezTo>
                  <a:pt x="8732" y="15942"/>
                  <a:pt x="9046" y="16026"/>
                  <a:pt x="9302" y="15949"/>
                </a:cubicBezTo>
                <a:cubicBezTo>
                  <a:pt x="9352" y="15934"/>
                  <a:pt x="9403" y="15971"/>
                  <a:pt x="9451" y="15974"/>
                </a:cubicBezTo>
                <a:cubicBezTo>
                  <a:pt x="9491" y="15977"/>
                  <a:pt x="9543" y="15979"/>
                  <a:pt x="9575" y="15999"/>
                </a:cubicBezTo>
                <a:cubicBezTo>
                  <a:pt x="9616" y="16024"/>
                  <a:pt x="9614" y="16037"/>
                  <a:pt x="9649" y="16049"/>
                </a:cubicBezTo>
              </a:path>
              <a:path w="3126" h="274">
                <a:moveTo>
                  <a:pt x="6672" y="15974"/>
                </a:moveTo>
                <a:cubicBezTo>
                  <a:pt x="6649" y="15901"/>
                  <a:pt x="6611" y="16004"/>
                  <a:pt x="6623" y="16049"/>
                </a:cubicBezTo>
                <a:cubicBezTo>
                  <a:pt x="6631" y="16057"/>
                  <a:pt x="6640" y="16065"/>
                  <a:pt x="6648" y="16073"/>
                </a:cubicBezTo>
                <a:cubicBezTo>
                  <a:pt x="6695" y="16012"/>
                  <a:pt x="6783" y="15861"/>
                  <a:pt x="6623" y="15875"/>
                </a:cubicBezTo>
                <a:cubicBezTo>
                  <a:pt x="6504" y="15886"/>
                  <a:pt x="6480" y="16093"/>
                  <a:pt x="6598" y="16098"/>
                </a:cubicBezTo>
                <a:cubicBezTo>
                  <a:pt x="6798" y="16107"/>
                  <a:pt x="6725" y="15915"/>
                  <a:pt x="6672" y="15825"/>
                </a:cubicBezTo>
                <a:cubicBezTo>
                  <a:pt x="6572" y="15863"/>
                  <a:pt x="6523" y="16034"/>
                  <a:pt x="6672" y="16073"/>
                </a:cubicBezTo>
                <a:cubicBezTo>
                  <a:pt x="6814" y="16110"/>
                  <a:pt x="6775" y="15927"/>
                  <a:pt x="6772" y="15875"/>
                </a:cubicBezTo>
                <a:cubicBezTo>
                  <a:pt x="6679" y="15862"/>
                  <a:pt x="6678" y="15912"/>
                  <a:pt x="6722" y="159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tation - 90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or 180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ure is rotated (turned) in a direction and is named by the degree of the tur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2666880"/>
            <a:ext cx="2133720" cy="17528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e88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7695720" y="403848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4e8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2018880" y="4686120"/>
            <a:ext cx="2133720" cy="17528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e88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8840" y="495288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38840" y="315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2743200"/>
            <a:ext cx="2133720" cy="17524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480"/>
              <a:gd name="textAreaBottom" fmla="*/ 1367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e88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05480" y="552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5714640" y="4800600"/>
            <a:ext cx="2133720" cy="17524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480"/>
              <a:gd name="textAreaBottom" fmla="*/ 1367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4e88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83000" y="3751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96252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574459"/>
                <a:lnTo>
                  <a:pt x="10252" y="14"/>
                </a:lnTo>
                <a:arcTo wR="10800" hR="10800" stAng="-5574459" swAng="557445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4e88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320" y="6516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06920" y="1177920"/>
            <a:ext cx="465120" cy="36360"/>
          </a:xfrm>
          <a:custGeom>
            <a:avLst/>
            <a:gdLst/>
            <a:ahLst/>
            <a:rect l="l" t="t" r="r" b="b"/>
            <a:pathLst>
              <a:path w="1291" h="100">
                <a:moveTo>
                  <a:pt x="12973" y="3349"/>
                </a:moveTo>
                <a:cubicBezTo>
                  <a:pt x="13210" y="3319"/>
                  <a:pt x="13402" y="3319"/>
                  <a:pt x="13643" y="3324"/>
                </a:cubicBezTo>
                <a:cubicBezTo>
                  <a:pt x="13786" y="3327"/>
                  <a:pt x="14057" y="3341"/>
                  <a:pt x="13915" y="3349"/>
                </a:cubicBezTo>
                <a:cubicBezTo>
                  <a:pt x="13667" y="3349"/>
                  <a:pt x="13568" y="3347"/>
                  <a:pt x="13395" y="3324"/>
                </a:cubicBezTo>
                <a:cubicBezTo>
                  <a:pt x="13368" y="3321"/>
                  <a:pt x="12912" y="3269"/>
                  <a:pt x="12948" y="3274"/>
                </a:cubicBezTo>
                <a:cubicBezTo>
                  <a:pt x="13309" y="3324"/>
                  <a:pt x="13676" y="3346"/>
                  <a:pt x="14039" y="3373"/>
                </a:cubicBezTo>
                <a:cubicBezTo>
                  <a:pt x="14279" y="3391"/>
                  <a:pt x="13659" y="3342"/>
                  <a:pt x="13419" y="3324"/>
                </a:cubicBezTo>
                <a:cubicBezTo>
                  <a:pt x="13312" y="3316"/>
                  <a:pt x="13204" y="3307"/>
                  <a:pt x="13097" y="3299"/>
                </a:cubicBezTo>
                <a:cubicBezTo>
                  <a:pt x="13039" y="3305"/>
                  <a:pt x="12473" y="3324"/>
                  <a:pt x="13022" y="3324"/>
                </a:cubicBezTo>
                <a:cubicBezTo>
                  <a:pt x="13109" y="3324"/>
                  <a:pt x="14437" y="3293"/>
                  <a:pt x="13791" y="3324"/>
                </a:cubicBezTo>
                <a:cubicBezTo>
                  <a:pt x="13663" y="3330"/>
                  <a:pt x="12818" y="3381"/>
                  <a:pt x="12948" y="3373"/>
                </a:cubicBezTo>
                <a:cubicBezTo>
                  <a:pt x="13280" y="3352"/>
                  <a:pt x="13608" y="3324"/>
                  <a:pt x="13940" y="3324"/>
                </a:cubicBezTo>
                <a:cubicBezTo>
                  <a:pt x="14076" y="3324"/>
                  <a:pt x="13677" y="3399"/>
                  <a:pt x="13543" y="3373"/>
                </a:cubicBezTo>
                <a:cubicBezTo>
                  <a:pt x="13543" y="3365"/>
                  <a:pt x="13543" y="3357"/>
                  <a:pt x="13543" y="33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59680" y="1160640"/>
            <a:ext cx="687240" cy="90360"/>
          </a:xfrm>
          <a:custGeom>
            <a:avLst/>
            <a:gdLst/>
            <a:ahLst/>
            <a:rect l="l" t="t" r="r" b="b"/>
            <a:pathLst>
              <a:path w="1911" h="249">
                <a:moveTo>
                  <a:pt x="17388" y="3225"/>
                </a:moveTo>
                <a:cubicBezTo>
                  <a:pt x="17736" y="3315"/>
                  <a:pt x="18120" y="3330"/>
                  <a:pt x="18479" y="3373"/>
                </a:cubicBezTo>
                <a:cubicBezTo>
                  <a:pt x="18585" y="3386"/>
                  <a:pt x="19293" y="3448"/>
                  <a:pt x="19248" y="3448"/>
                </a:cubicBezTo>
                <a:cubicBezTo>
                  <a:pt x="18840" y="3463"/>
                  <a:pt x="18465" y="3457"/>
                  <a:pt x="18058" y="3423"/>
                </a:cubicBezTo>
                <a:cubicBezTo>
                  <a:pt x="17860" y="3406"/>
                  <a:pt x="17313" y="3398"/>
                  <a:pt x="17512" y="3398"/>
                </a:cubicBezTo>
                <a:cubicBezTo>
                  <a:pt x="18021" y="3398"/>
                  <a:pt x="18542" y="3378"/>
                  <a:pt x="19050" y="3349"/>
                </a:cubicBezTo>
                <a:cubicBezTo>
                  <a:pt x="19099" y="3346"/>
                  <a:pt x="19389" y="3332"/>
                  <a:pt x="19199" y="3349"/>
                </a:cubicBezTo>
                <a:cubicBezTo>
                  <a:pt x="19191" y="3349"/>
                  <a:pt x="19182" y="3349"/>
                  <a:pt x="19174" y="33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133880"/>
            <a:ext cx="1366920" cy="1457280"/>
          </a:xfrm>
          <a:custGeom>
            <a:avLst/>
            <a:gdLst/>
            <a:ahLst/>
            <a:rect l="l" t="t" r="r" b="b"/>
            <a:pathLst>
              <a:path w="3796" h="4044">
                <a:moveTo>
                  <a:pt x="3349" y="15528"/>
                </a:moveTo>
                <a:cubicBezTo>
                  <a:pt x="3293" y="15491"/>
                  <a:pt x="3331" y="15305"/>
                  <a:pt x="3324" y="15230"/>
                </a:cubicBezTo>
                <a:cubicBezTo>
                  <a:pt x="3316" y="15180"/>
                  <a:pt x="3307" y="15131"/>
                  <a:pt x="3299" y="15081"/>
                </a:cubicBezTo>
              </a:path>
              <a:path w="3796" h="4044">
                <a:moveTo>
                  <a:pt x="3473" y="15453"/>
                </a:moveTo>
                <a:cubicBezTo>
                  <a:pt x="3453" y="15338"/>
                  <a:pt x="3417" y="15224"/>
                  <a:pt x="3398" y="15106"/>
                </a:cubicBezTo>
                <a:cubicBezTo>
                  <a:pt x="3377" y="14957"/>
                  <a:pt x="3368" y="14925"/>
                  <a:pt x="3373" y="14833"/>
                </a:cubicBezTo>
              </a:path>
              <a:path w="3796" h="4044">
                <a:moveTo>
                  <a:pt x="3448" y="15478"/>
                </a:moveTo>
                <a:cubicBezTo>
                  <a:pt x="3422" y="15294"/>
                  <a:pt x="3412" y="15118"/>
                  <a:pt x="3398" y="14932"/>
                </a:cubicBezTo>
                <a:cubicBezTo>
                  <a:pt x="3397" y="14912"/>
                  <a:pt x="3361" y="14390"/>
                  <a:pt x="3324" y="14536"/>
                </a:cubicBezTo>
              </a:path>
              <a:path w="3796" h="4044">
                <a:moveTo>
                  <a:pt x="3373" y="15081"/>
                </a:moveTo>
                <a:cubicBezTo>
                  <a:pt x="3361" y="14851"/>
                  <a:pt x="3364" y="14617"/>
                  <a:pt x="3349" y="14387"/>
                </a:cubicBezTo>
                <a:cubicBezTo>
                  <a:pt x="3340" y="14241"/>
                  <a:pt x="3324" y="14110"/>
                  <a:pt x="3324" y="13965"/>
                </a:cubicBezTo>
              </a:path>
              <a:path w="3796" h="4044">
                <a:moveTo>
                  <a:pt x="3324" y="14486"/>
                </a:moveTo>
                <a:cubicBezTo>
                  <a:pt x="3283" y="14230"/>
                  <a:pt x="3255" y="13974"/>
                  <a:pt x="3225" y="13717"/>
                </a:cubicBezTo>
                <a:cubicBezTo>
                  <a:pt x="3207" y="13566"/>
                  <a:pt x="3203" y="13417"/>
                  <a:pt x="3175" y="13271"/>
                </a:cubicBezTo>
              </a:path>
              <a:path w="3796" h="4044">
                <a:moveTo>
                  <a:pt x="3249" y="13692"/>
                </a:moveTo>
                <a:cubicBezTo>
                  <a:pt x="3222" y="13460"/>
                  <a:pt x="3225" y="13232"/>
                  <a:pt x="3225" y="12998"/>
                </a:cubicBezTo>
                <a:cubicBezTo>
                  <a:pt x="3225" y="12805"/>
                  <a:pt x="3225" y="13005"/>
                  <a:pt x="3225" y="12824"/>
                </a:cubicBezTo>
                <a:cubicBezTo>
                  <a:pt x="3225" y="12659"/>
                  <a:pt x="3225" y="12493"/>
                  <a:pt x="3225" y="12328"/>
                </a:cubicBezTo>
                <a:cubicBezTo>
                  <a:pt x="3236" y="12401"/>
                  <a:pt x="3236" y="12478"/>
                  <a:pt x="3249" y="12551"/>
                </a:cubicBezTo>
                <a:cubicBezTo>
                  <a:pt x="3269" y="12670"/>
                  <a:pt x="3295" y="12809"/>
                  <a:pt x="3324" y="12923"/>
                </a:cubicBezTo>
                <a:cubicBezTo>
                  <a:pt x="3349" y="13023"/>
                  <a:pt x="3383" y="13140"/>
                  <a:pt x="3398" y="13246"/>
                </a:cubicBezTo>
                <a:cubicBezTo>
                  <a:pt x="3421" y="13406"/>
                  <a:pt x="3406" y="13582"/>
                  <a:pt x="3423" y="13742"/>
                </a:cubicBezTo>
                <a:cubicBezTo>
                  <a:pt x="3435" y="13857"/>
                  <a:pt x="3435" y="13979"/>
                  <a:pt x="3448" y="14089"/>
                </a:cubicBezTo>
                <a:cubicBezTo>
                  <a:pt x="3459" y="14179"/>
                  <a:pt x="3466" y="14272"/>
                  <a:pt x="3473" y="14362"/>
                </a:cubicBezTo>
                <a:cubicBezTo>
                  <a:pt x="3481" y="14456"/>
                  <a:pt x="3511" y="14541"/>
                  <a:pt x="3522" y="14635"/>
                </a:cubicBezTo>
                <a:cubicBezTo>
                  <a:pt x="3550" y="14886"/>
                  <a:pt x="3536" y="15186"/>
                  <a:pt x="3497" y="15429"/>
                </a:cubicBezTo>
                <a:cubicBezTo>
                  <a:pt x="3497" y="15453"/>
                  <a:pt x="3497" y="15462"/>
                  <a:pt x="3497" y="15478"/>
                </a:cubicBezTo>
                <a:cubicBezTo>
                  <a:pt x="3460" y="15307"/>
                  <a:pt x="3462" y="15159"/>
                  <a:pt x="3448" y="14982"/>
                </a:cubicBezTo>
                <a:cubicBezTo>
                  <a:pt x="3431" y="14769"/>
                  <a:pt x="3407" y="14548"/>
                  <a:pt x="3373" y="14337"/>
                </a:cubicBezTo>
                <a:cubicBezTo>
                  <a:pt x="3349" y="14189"/>
                  <a:pt x="3368" y="14085"/>
                  <a:pt x="3373" y="13940"/>
                </a:cubicBezTo>
                <a:cubicBezTo>
                  <a:pt x="3377" y="13804"/>
                  <a:pt x="3352" y="13678"/>
                  <a:pt x="3349" y="13543"/>
                </a:cubicBezTo>
                <a:cubicBezTo>
                  <a:pt x="3345" y="13366"/>
                  <a:pt x="3336" y="13220"/>
                  <a:pt x="3299" y="13047"/>
                </a:cubicBezTo>
                <a:cubicBezTo>
                  <a:pt x="3274" y="12932"/>
                  <a:pt x="3237" y="12815"/>
                  <a:pt x="3225" y="12700"/>
                </a:cubicBezTo>
                <a:cubicBezTo>
                  <a:pt x="3216" y="12615"/>
                  <a:pt x="3225" y="12551"/>
                  <a:pt x="3200" y="12477"/>
                </a:cubicBezTo>
              </a:path>
              <a:path w="3796" h="4044">
                <a:moveTo>
                  <a:pt x="3572" y="15478"/>
                </a:moveTo>
                <a:cubicBezTo>
                  <a:pt x="3504" y="15430"/>
                  <a:pt x="3554" y="15449"/>
                  <a:pt x="3497" y="15453"/>
                </a:cubicBezTo>
                <a:cubicBezTo>
                  <a:pt x="3473" y="15453"/>
                  <a:pt x="3464" y="15453"/>
                  <a:pt x="3448" y="15453"/>
                </a:cubicBezTo>
                <a:cubicBezTo>
                  <a:pt x="3492" y="15439"/>
                  <a:pt x="3551" y="15414"/>
                  <a:pt x="3597" y="15404"/>
                </a:cubicBezTo>
                <a:cubicBezTo>
                  <a:pt x="3697" y="15383"/>
                  <a:pt x="3810" y="15415"/>
                  <a:pt x="3894" y="15429"/>
                </a:cubicBezTo>
                <a:cubicBezTo>
                  <a:pt x="3966" y="15441"/>
                  <a:pt x="4055" y="15443"/>
                  <a:pt x="4118" y="15453"/>
                </a:cubicBezTo>
                <a:cubicBezTo>
                  <a:pt x="4215" y="15469"/>
                  <a:pt x="4304" y="15445"/>
                  <a:pt x="4390" y="15478"/>
                </a:cubicBezTo>
                <a:cubicBezTo>
                  <a:pt x="4441" y="15471"/>
                  <a:pt x="4421" y="15462"/>
                  <a:pt x="4465" y="15453"/>
                </a:cubicBezTo>
                <a:cubicBezTo>
                  <a:pt x="4549" y="15436"/>
                  <a:pt x="4661" y="15441"/>
                  <a:pt x="4738" y="15429"/>
                </a:cubicBezTo>
                <a:cubicBezTo>
                  <a:pt x="4868" y="15408"/>
                  <a:pt x="5008" y="15425"/>
                  <a:pt x="5135" y="15404"/>
                </a:cubicBezTo>
                <a:cubicBezTo>
                  <a:pt x="5270" y="15381"/>
                  <a:pt x="5429" y="15409"/>
                  <a:pt x="5556" y="15429"/>
                </a:cubicBezTo>
                <a:cubicBezTo>
                  <a:pt x="5608" y="15437"/>
                  <a:pt x="5629" y="15407"/>
                  <a:pt x="5680" y="15404"/>
                </a:cubicBezTo>
                <a:cubicBezTo>
                  <a:pt x="5831" y="15396"/>
                  <a:pt x="5992" y="15409"/>
                  <a:pt x="6127" y="15429"/>
                </a:cubicBezTo>
                <a:cubicBezTo>
                  <a:pt x="6166" y="15435"/>
                  <a:pt x="6211" y="15429"/>
                  <a:pt x="6251" y="15429"/>
                </a:cubicBezTo>
              </a:path>
              <a:path w="3796" h="4044">
                <a:moveTo>
                  <a:pt x="3473" y="15007"/>
                </a:moveTo>
                <a:cubicBezTo>
                  <a:pt x="3526" y="14974"/>
                  <a:pt x="3606" y="14971"/>
                  <a:pt x="3671" y="14957"/>
                </a:cubicBezTo>
                <a:cubicBezTo>
                  <a:pt x="3741" y="14942"/>
                  <a:pt x="3642" y="15003"/>
                  <a:pt x="3597" y="15007"/>
                </a:cubicBezTo>
                <a:cubicBezTo>
                  <a:pt x="3569" y="15007"/>
                  <a:pt x="3558" y="15009"/>
                  <a:pt x="3547" y="15032"/>
                </a:cubicBezTo>
                <a:cubicBezTo>
                  <a:pt x="3642" y="15016"/>
                  <a:pt x="3720" y="15007"/>
                  <a:pt x="3820" y="15007"/>
                </a:cubicBezTo>
                <a:cubicBezTo>
                  <a:pt x="3881" y="15007"/>
                  <a:pt x="3936" y="15024"/>
                  <a:pt x="3944" y="15007"/>
                </a:cubicBezTo>
                <a:cubicBezTo>
                  <a:pt x="3944" y="15104"/>
                  <a:pt x="3955" y="15190"/>
                  <a:pt x="3969" y="15280"/>
                </a:cubicBezTo>
                <a:cubicBezTo>
                  <a:pt x="3975" y="15319"/>
                  <a:pt x="3969" y="15364"/>
                  <a:pt x="3969" y="15404"/>
                </a:cubicBezTo>
                <a:cubicBezTo>
                  <a:pt x="3997" y="15334"/>
                  <a:pt x="3935" y="15289"/>
                  <a:pt x="3919" y="15205"/>
                </a:cubicBezTo>
                <a:cubicBezTo>
                  <a:pt x="3907" y="15145"/>
                  <a:pt x="3902" y="15131"/>
                  <a:pt x="3919" y="15106"/>
                </a:cubicBezTo>
                <a:cubicBezTo>
                  <a:pt x="3903" y="15199"/>
                  <a:pt x="3871" y="15307"/>
                  <a:pt x="3894" y="15404"/>
                </a:cubicBezTo>
                <a:cubicBezTo>
                  <a:pt x="3922" y="15432"/>
                  <a:pt x="3931" y="15445"/>
                  <a:pt x="3919" y="15478"/>
                </a:cubicBezTo>
              </a:path>
              <a:path w="3796" h="4044">
                <a:moveTo>
                  <a:pt x="4614" y="13568"/>
                </a:moveTo>
                <a:cubicBezTo>
                  <a:pt x="4614" y="13473"/>
                  <a:pt x="4657" y="13308"/>
                  <a:pt x="4564" y="13246"/>
                </a:cubicBezTo>
                <a:cubicBezTo>
                  <a:pt x="4539" y="13246"/>
                  <a:pt x="4515" y="13246"/>
                  <a:pt x="4490" y="13246"/>
                </a:cubicBezTo>
                <a:cubicBezTo>
                  <a:pt x="4437" y="13360"/>
                  <a:pt x="4234" y="13788"/>
                  <a:pt x="4415" y="13891"/>
                </a:cubicBezTo>
                <a:cubicBezTo>
                  <a:pt x="4432" y="13874"/>
                  <a:pt x="4448" y="13858"/>
                  <a:pt x="4465" y="13841"/>
                </a:cubicBezTo>
                <a:cubicBezTo>
                  <a:pt x="4529" y="13699"/>
                  <a:pt x="4564" y="13239"/>
                  <a:pt x="4564" y="13395"/>
                </a:cubicBezTo>
                <a:cubicBezTo>
                  <a:pt x="4564" y="13420"/>
                  <a:pt x="4564" y="13444"/>
                  <a:pt x="4564" y="13469"/>
                </a:cubicBezTo>
                <a:cubicBezTo>
                  <a:pt x="4640" y="13735"/>
                  <a:pt x="4643" y="14051"/>
                  <a:pt x="4738" y="14312"/>
                </a:cubicBezTo>
                <a:cubicBezTo>
                  <a:pt x="4746" y="14312"/>
                  <a:pt x="4754" y="14312"/>
                  <a:pt x="4762" y="14312"/>
                </a:cubicBezTo>
              </a:path>
              <a:path w="3796" h="4044">
                <a:moveTo>
                  <a:pt x="4862" y="13246"/>
                </a:moveTo>
                <a:cubicBezTo>
                  <a:pt x="4843" y="13512"/>
                  <a:pt x="4826" y="13867"/>
                  <a:pt x="4961" y="14114"/>
                </a:cubicBezTo>
                <a:cubicBezTo>
                  <a:pt x="4986" y="14130"/>
                  <a:pt x="5010" y="14147"/>
                  <a:pt x="5035" y="14163"/>
                </a:cubicBezTo>
                <a:cubicBezTo>
                  <a:pt x="5198" y="13960"/>
                  <a:pt x="5222" y="13783"/>
                  <a:pt x="5159" y="13519"/>
                </a:cubicBezTo>
                <a:cubicBezTo>
                  <a:pt x="5116" y="13339"/>
                  <a:pt x="5066" y="13210"/>
                  <a:pt x="4887" y="13271"/>
                </a:cubicBezTo>
              </a:path>
              <a:path w="3796" h="4044">
                <a:moveTo>
                  <a:pt x="5259" y="12849"/>
                </a:moveTo>
                <a:cubicBezTo>
                  <a:pt x="5259" y="12922"/>
                  <a:pt x="5258" y="12945"/>
                  <a:pt x="5308" y="12973"/>
                </a:cubicBezTo>
                <a:cubicBezTo>
                  <a:pt x="5355" y="12954"/>
                  <a:pt x="5452" y="12869"/>
                  <a:pt x="5407" y="12799"/>
                </a:cubicBezTo>
                <a:cubicBezTo>
                  <a:pt x="5352" y="12771"/>
                  <a:pt x="5329" y="12763"/>
                  <a:pt x="5283" y="12774"/>
                </a:cubicBezTo>
              </a:path>
              <a:path w="3796" h="4044">
                <a:moveTo>
                  <a:pt x="6970" y="11485"/>
                </a:moveTo>
                <a:cubicBezTo>
                  <a:pt x="6970" y="11493"/>
                  <a:pt x="6970" y="11501"/>
                  <a:pt x="6970" y="115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31080" y="5081760"/>
            <a:ext cx="455760" cy="312480"/>
          </a:xfrm>
          <a:custGeom>
            <a:avLst/>
            <a:gdLst/>
            <a:ahLst/>
            <a:rect l="l" t="t" r="r" b="b"/>
            <a:pathLst>
              <a:path w="1266" h="869">
                <a:moveTo>
                  <a:pt x="21853" y="14213"/>
                </a:moveTo>
                <a:cubicBezTo>
                  <a:pt x="21853" y="14180"/>
                  <a:pt x="21853" y="14147"/>
                  <a:pt x="21853" y="14114"/>
                </a:cubicBezTo>
                <a:cubicBezTo>
                  <a:pt x="21824" y="14344"/>
                  <a:pt x="21777" y="14578"/>
                  <a:pt x="21754" y="14808"/>
                </a:cubicBezTo>
                <a:cubicBezTo>
                  <a:pt x="21733" y="15015"/>
                  <a:pt x="21727" y="14992"/>
                  <a:pt x="21853" y="14908"/>
                </a:cubicBezTo>
              </a:path>
              <a:path w="1266" h="869">
                <a:moveTo>
                  <a:pt x="22448" y="14163"/>
                </a:moveTo>
                <a:cubicBezTo>
                  <a:pt x="22335" y="14224"/>
                  <a:pt x="22189" y="14305"/>
                  <a:pt x="22275" y="14461"/>
                </a:cubicBezTo>
                <a:cubicBezTo>
                  <a:pt x="22338" y="14576"/>
                  <a:pt x="22594" y="14759"/>
                  <a:pt x="22374" y="14883"/>
                </a:cubicBezTo>
                <a:cubicBezTo>
                  <a:pt x="22333" y="14891"/>
                  <a:pt x="22291" y="14900"/>
                  <a:pt x="22250" y="14908"/>
                </a:cubicBezTo>
                <a:cubicBezTo>
                  <a:pt x="22250" y="14662"/>
                  <a:pt x="22354" y="14518"/>
                  <a:pt x="22498" y="14312"/>
                </a:cubicBezTo>
              </a:path>
              <a:path w="1266" h="869">
                <a:moveTo>
                  <a:pt x="22820" y="14114"/>
                </a:moveTo>
                <a:cubicBezTo>
                  <a:pt x="22715" y="14324"/>
                  <a:pt x="22661" y="14503"/>
                  <a:pt x="22671" y="14734"/>
                </a:cubicBezTo>
                <a:cubicBezTo>
                  <a:pt x="22828" y="14760"/>
                  <a:pt x="23091" y="14718"/>
                  <a:pt x="23019" y="14461"/>
                </a:cubicBezTo>
                <a:cubicBezTo>
                  <a:pt x="22981" y="14324"/>
                  <a:pt x="22908" y="14262"/>
                  <a:pt x="22796" y="142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58120" y="5010120"/>
            <a:ext cx="81000" cy="61920"/>
          </a:xfrm>
          <a:custGeom>
            <a:avLst/>
            <a:gdLst/>
            <a:ahLst/>
            <a:rect l="l" t="t" r="r" b="b"/>
            <a:pathLst>
              <a:path w="224" h="175">
                <a:moveTo>
                  <a:pt x="23366" y="13915"/>
                </a:moveTo>
                <a:cubicBezTo>
                  <a:pt x="23313" y="13942"/>
                  <a:pt x="23264" y="13992"/>
                  <a:pt x="23217" y="14039"/>
                </a:cubicBezTo>
                <a:cubicBezTo>
                  <a:pt x="23262" y="14064"/>
                  <a:pt x="23508" y="14047"/>
                  <a:pt x="23440" y="13940"/>
                </a:cubicBezTo>
                <a:cubicBezTo>
                  <a:pt x="23415" y="13932"/>
                  <a:pt x="23391" y="13923"/>
                  <a:pt x="23366" y="139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75760" y="4340160"/>
            <a:ext cx="9360" cy="17640"/>
          </a:xfrm>
          <a:custGeom>
            <a:avLst/>
            <a:gdLst/>
            <a:ahLst/>
            <a:rect l="l" t="t" r="r" b="b"/>
            <a:pathLst>
              <a:path w="26" h="51">
                <a:moveTo>
                  <a:pt x="23267" y="12105"/>
                </a:moveTo>
                <a:cubicBezTo>
                  <a:pt x="23267" y="12064"/>
                  <a:pt x="23280" y="12092"/>
                  <a:pt x="23292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59840" y="2554200"/>
            <a:ext cx="536400" cy="615960"/>
          </a:xfrm>
          <a:custGeom>
            <a:avLst/>
            <a:gdLst/>
            <a:ahLst/>
            <a:rect l="l" t="t" r="r" b="b"/>
            <a:pathLst>
              <a:path w="1490" h="1713">
                <a:moveTo>
                  <a:pt x="23887" y="7119"/>
                </a:moveTo>
                <a:cubicBezTo>
                  <a:pt x="23907" y="7107"/>
                  <a:pt x="23928" y="7078"/>
                  <a:pt x="23986" y="7094"/>
                </a:cubicBezTo>
                <a:cubicBezTo>
                  <a:pt x="24028" y="7105"/>
                  <a:pt x="24031" y="7131"/>
                  <a:pt x="24085" y="7169"/>
                </a:cubicBezTo>
                <a:cubicBezTo>
                  <a:pt x="24130" y="7201"/>
                  <a:pt x="24168" y="7222"/>
                  <a:pt x="24209" y="7268"/>
                </a:cubicBezTo>
                <a:cubicBezTo>
                  <a:pt x="24249" y="7312"/>
                  <a:pt x="24285" y="7382"/>
                  <a:pt x="24309" y="7441"/>
                </a:cubicBezTo>
                <a:cubicBezTo>
                  <a:pt x="24338" y="7513"/>
                  <a:pt x="24395" y="7614"/>
                  <a:pt x="24408" y="7689"/>
                </a:cubicBezTo>
                <a:cubicBezTo>
                  <a:pt x="24421" y="7768"/>
                  <a:pt x="24430" y="7859"/>
                  <a:pt x="24433" y="7938"/>
                </a:cubicBezTo>
                <a:cubicBezTo>
                  <a:pt x="24438" y="8055"/>
                  <a:pt x="24443" y="8173"/>
                  <a:pt x="24408" y="8285"/>
                </a:cubicBezTo>
                <a:cubicBezTo>
                  <a:pt x="24386" y="8357"/>
                  <a:pt x="24363" y="8401"/>
                  <a:pt x="24309" y="8458"/>
                </a:cubicBezTo>
                <a:cubicBezTo>
                  <a:pt x="24244" y="8527"/>
                  <a:pt x="24221" y="8564"/>
                  <a:pt x="24135" y="8607"/>
                </a:cubicBezTo>
                <a:cubicBezTo>
                  <a:pt x="24058" y="8645"/>
                  <a:pt x="23988" y="8691"/>
                  <a:pt x="23912" y="8731"/>
                </a:cubicBezTo>
                <a:cubicBezTo>
                  <a:pt x="23833" y="8772"/>
                  <a:pt x="23798" y="8798"/>
                  <a:pt x="23713" y="8806"/>
                </a:cubicBezTo>
                <a:cubicBezTo>
                  <a:pt x="23641" y="8813"/>
                  <a:pt x="23581" y="8791"/>
                  <a:pt x="23515" y="8781"/>
                </a:cubicBezTo>
                <a:cubicBezTo>
                  <a:pt x="23457" y="8772"/>
                  <a:pt x="23392" y="8746"/>
                  <a:pt x="23341" y="8706"/>
                </a:cubicBezTo>
                <a:cubicBezTo>
                  <a:pt x="23308" y="8680"/>
                  <a:pt x="23289" y="8625"/>
                  <a:pt x="23267" y="8582"/>
                </a:cubicBezTo>
                <a:cubicBezTo>
                  <a:pt x="23241" y="8531"/>
                  <a:pt x="23214" y="8484"/>
                  <a:pt x="23192" y="8434"/>
                </a:cubicBezTo>
                <a:cubicBezTo>
                  <a:pt x="23177" y="8400"/>
                  <a:pt x="23170" y="8374"/>
                  <a:pt x="23168" y="8334"/>
                </a:cubicBezTo>
                <a:cubicBezTo>
                  <a:pt x="23161" y="8211"/>
                  <a:pt x="23168" y="8085"/>
                  <a:pt x="23168" y="7962"/>
                </a:cubicBezTo>
                <a:cubicBezTo>
                  <a:pt x="23103" y="7975"/>
                  <a:pt x="23031" y="7997"/>
                  <a:pt x="22969" y="8037"/>
                </a:cubicBezTo>
                <a:cubicBezTo>
                  <a:pt x="22961" y="8045"/>
                  <a:pt x="22952" y="8054"/>
                  <a:pt x="22944" y="8062"/>
                </a:cubicBezTo>
                <a:cubicBezTo>
                  <a:pt x="23016" y="8034"/>
                  <a:pt x="23090" y="7963"/>
                  <a:pt x="23143" y="7938"/>
                </a:cubicBezTo>
                <a:cubicBezTo>
                  <a:pt x="23169" y="7926"/>
                  <a:pt x="23234" y="7907"/>
                  <a:pt x="23267" y="7913"/>
                </a:cubicBezTo>
                <a:cubicBezTo>
                  <a:pt x="23333" y="7924"/>
                  <a:pt x="23367" y="7971"/>
                  <a:pt x="23416" y="8012"/>
                </a:cubicBezTo>
                <a:cubicBezTo>
                  <a:pt x="23429" y="8023"/>
                  <a:pt x="23451" y="8049"/>
                  <a:pt x="23465" y="8062"/>
                </a:cubicBezTo>
                <a:cubicBezTo>
                  <a:pt x="23481" y="8078"/>
                  <a:pt x="23499" y="8095"/>
                  <a:pt x="23515" y="81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69080" y="4491000"/>
            <a:ext cx="27000" cy="312840"/>
          </a:xfrm>
          <a:custGeom>
            <a:avLst/>
            <a:gdLst/>
            <a:ahLst/>
            <a:rect l="l" t="t" r="r" b="b"/>
            <a:pathLst>
              <a:path w="75" h="869">
                <a:moveTo>
                  <a:pt x="18852" y="12551"/>
                </a:moveTo>
                <a:cubicBezTo>
                  <a:pt x="18852" y="12540"/>
                  <a:pt x="18852" y="12435"/>
                  <a:pt x="18852" y="12502"/>
                </a:cubicBezTo>
                <a:cubicBezTo>
                  <a:pt x="18852" y="12577"/>
                  <a:pt x="18760" y="12638"/>
                  <a:pt x="18802" y="12700"/>
                </a:cubicBezTo>
                <a:cubicBezTo>
                  <a:pt x="18815" y="12719"/>
                  <a:pt x="18847" y="12571"/>
                  <a:pt x="18852" y="12551"/>
                </a:cubicBezTo>
                <a:cubicBezTo>
                  <a:pt x="18867" y="12487"/>
                  <a:pt x="18852" y="12509"/>
                  <a:pt x="18852" y="12576"/>
                </a:cubicBezTo>
                <a:cubicBezTo>
                  <a:pt x="18852" y="12692"/>
                  <a:pt x="18852" y="12725"/>
                  <a:pt x="18852" y="12799"/>
                </a:cubicBezTo>
                <a:cubicBezTo>
                  <a:pt x="18804" y="12926"/>
                  <a:pt x="18804" y="12881"/>
                  <a:pt x="18827" y="12750"/>
                </a:cubicBezTo>
                <a:cubicBezTo>
                  <a:pt x="18830" y="12730"/>
                  <a:pt x="18852" y="12537"/>
                  <a:pt x="18852" y="12601"/>
                </a:cubicBezTo>
                <a:cubicBezTo>
                  <a:pt x="18852" y="12770"/>
                  <a:pt x="18833" y="12930"/>
                  <a:pt x="18827" y="13097"/>
                </a:cubicBezTo>
                <a:cubicBezTo>
                  <a:pt x="18826" y="13138"/>
                  <a:pt x="18827" y="13212"/>
                  <a:pt x="18827" y="13171"/>
                </a:cubicBezTo>
                <a:cubicBezTo>
                  <a:pt x="18827" y="13104"/>
                  <a:pt x="18841" y="13051"/>
                  <a:pt x="18852" y="12998"/>
                </a:cubicBezTo>
                <a:cubicBezTo>
                  <a:pt x="18868" y="12917"/>
                  <a:pt x="18868" y="12807"/>
                  <a:pt x="18876" y="12725"/>
                </a:cubicBezTo>
                <a:cubicBezTo>
                  <a:pt x="18882" y="12660"/>
                  <a:pt x="18876" y="12591"/>
                  <a:pt x="18876" y="12526"/>
                </a:cubicBezTo>
                <a:cubicBezTo>
                  <a:pt x="18876" y="12430"/>
                  <a:pt x="18882" y="12532"/>
                  <a:pt x="18876" y="12576"/>
                </a:cubicBezTo>
                <a:cubicBezTo>
                  <a:pt x="18854" y="12733"/>
                  <a:pt x="18831" y="12889"/>
                  <a:pt x="18827" y="13047"/>
                </a:cubicBezTo>
                <a:cubicBezTo>
                  <a:pt x="18825" y="13132"/>
                  <a:pt x="18823" y="13224"/>
                  <a:pt x="18802" y="13271"/>
                </a:cubicBezTo>
                <a:cubicBezTo>
                  <a:pt x="18776" y="13331"/>
                  <a:pt x="18798" y="13369"/>
                  <a:pt x="18827" y="13271"/>
                </a:cubicBezTo>
                <a:cubicBezTo>
                  <a:pt x="18859" y="13163"/>
                  <a:pt x="18852" y="13060"/>
                  <a:pt x="18852" y="12948"/>
                </a:cubicBezTo>
                <a:cubicBezTo>
                  <a:pt x="18852" y="12849"/>
                  <a:pt x="18861" y="12767"/>
                  <a:pt x="18876" y="12675"/>
                </a:cubicBezTo>
                <a:cubicBezTo>
                  <a:pt x="18876" y="12659"/>
                  <a:pt x="18876" y="12642"/>
                  <a:pt x="18876" y="12626"/>
                </a:cubicBezTo>
                <a:cubicBezTo>
                  <a:pt x="18876" y="12548"/>
                  <a:pt x="18876" y="12848"/>
                  <a:pt x="18876" y="12849"/>
                </a:cubicBezTo>
                <a:cubicBezTo>
                  <a:pt x="18863" y="12992"/>
                  <a:pt x="18850" y="13131"/>
                  <a:pt x="18827" y="13271"/>
                </a:cubicBezTo>
                <a:cubicBezTo>
                  <a:pt x="18827" y="13327"/>
                  <a:pt x="18812" y="13332"/>
                  <a:pt x="18852" y="13345"/>
                </a:cubicBezTo>
                <a:cubicBezTo>
                  <a:pt x="18852" y="13174"/>
                  <a:pt x="18771" y="12795"/>
                  <a:pt x="18876" y="126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tate a poi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90° clockwi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witch the coordinates, then multiply the new y-coordinate by -1 (or just change the sig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tate a poi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90°counterclockwi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witch the coordinates, then multiply the new x-coordinate by -1(or just change the sig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tate a poi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0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ultiply both coordinates by -1(or change both sig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3280" y="22860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10040" y="2027160"/>
            <a:ext cx="2714760" cy="152640"/>
          </a:xfrm>
          <a:custGeom>
            <a:avLst/>
            <a:gdLst/>
            <a:ahLst/>
            <a:rect l="l" t="t" r="r" b="b"/>
            <a:pathLst>
              <a:path w="7542" h="422">
                <a:moveTo>
                  <a:pt x="11137" y="5631"/>
                </a:moveTo>
                <a:lnTo>
                  <a:pt x="11137" y="5631"/>
                </a:lnTo>
              </a:path>
              <a:path w="7542" h="422">
                <a:moveTo>
                  <a:pt x="11137" y="5680"/>
                </a:moveTo>
                <a:cubicBezTo>
                  <a:pt x="11173" y="5714"/>
                  <a:pt x="11197" y="5808"/>
                  <a:pt x="11286" y="5829"/>
                </a:cubicBezTo>
                <a:cubicBezTo>
                  <a:pt x="11422" y="5862"/>
                  <a:pt x="11495" y="5798"/>
                  <a:pt x="11609" y="5755"/>
                </a:cubicBezTo>
                <a:cubicBezTo>
                  <a:pt x="11688" y="5725"/>
                  <a:pt x="11794" y="5681"/>
                  <a:pt x="11881" y="5705"/>
                </a:cubicBezTo>
                <a:cubicBezTo>
                  <a:pt x="12000" y="5739"/>
                  <a:pt x="12098" y="5805"/>
                  <a:pt x="12229" y="5829"/>
                </a:cubicBezTo>
                <a:cubicBezTo>
                  <a:pt x="12402" y="5861"/>
                  <a:pt x="12485" y="5832"/>
                  <a:pt x="12650" y="5779"/>
                </a:cubicBezTo>
                <a:cubicBezTo>
                  <a:pt x="12720" y="5756"/>
                  <a:pt x="12800" y="5722"/>
                  <a:pt x="12874" y="5730"/>
                </a:cubicBezTo>
                <a:cubicBezTo>
                  <a:pt x="13056" y="5749"/>
                  <a:pt x="13262" y="5759"/>
                  <a:pt x="13444" y="5779"/>
                </a:cubicBezTo>
                <a:cubicBezTo>
                  <a:pt x="13553" y="5791"/>
                  <a:pt x="13574" y="5851"/>
                  <a:pt x="13667" y="5879"/>
                </a:cubicBezTo>
                <a:cubicBezTo>
                  <a:pt x="13785" y="5914"/>
                  <a:pt x="13917" y="5911"/>
                  <a:pt x="14039" y="5904"/>
                </a:cubicBezTo>
                <a:cubicBezTo>
                  <a:pt x="14171" y="5896"/>
                  <a:pt x="14253" y="5865"/>
                  <a:pt x="14387" y="5904"/>
                </a:cubicBezTo>
                <a:cubicBezTo>
                  <a:pt x="14542" y="5949"/>
                  <a:pt x="14606" y="5974"/>
                  <a:pt x="14784" y="5978"/>
                </a:cubicBezTo>
                <a:cubicBezTo>
                  <a:pt x="15037" y="5983"/>
                  <a:pt x="15247" y="6062"/>
                  <a:pt x="15503" y="6028"/>
                </a:cubicBezTo>
                <a:cubicBezTo>
                  <a:pt x="15659" y="6007"/>
                  <a:pt x="15773" y="6019"/>
                  <a:pt x="15925" y="6028"/>
                </a:cubicBezTo>
                <a:cubicBezTo>
                  <a:pt x="16107" y="6039"/>
                  <a:pt x="16289" y="5988"/>
                  <a:pt x="16470" y="5978"/>
                </a:cubicBezTo>
                <a:cubicBezTo>
                  <a:pt x="16639" y="5969"/>
                  <a:pt x="16824" y="5977"/>
                  <a:pt x="16991" y="5953"/>
                </a:cubicBezTo>
                <a:cubicBezTo>
                  <a:pt x="17159" y="5929"/>
                  <a:pt x="17319" y="5921"/>
                  <a:pt x="17487" y="5904"/>
                </a:cubicBezTo>
                <a:cubicBezTo>
                  <a:pt x="17778" y="5874"/>
                  <a:pt x="18064" y="5798"/>
                  <a:pt x="18355" y="5779"/>
                </a:cubicBezTo>
                <a:cubicBezTo>
                  <a:pt x="18471" y="5772"/>
                  <a:pt x="18537" y="5779"/>
                  <a:pt x="18653" y="57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10160" y="1258920"/>
            <a:ext cx="392040" cy="295200"/>
          </a:xfrm>
          <a:custGeom>
            <a:avLst/>
            <a:gdLst/>
            <a:ahLst/>
            <a:rect l="l" t="t" r="r" b="b"/>
            <a:pathLst>
              <a:path w="1093" h="820">
                <a:moveTo>
                  <a:pt x="15429" y="3572"/>
                </a:moveTo>
                <a:cubicBezTo>
                  <a:pt x="15437" y="3564"/>
                  <a:pt x="15445" y="3555"/>
                  <a:pt x="15453" y="3547"/>
                </a:cubicBezTo>
                <a:cubicBezTo>
                  <a:pt x="15473" y="3703"/>
                  <a:pt x="15497" y="3863"/>
                  <a:pt x="15528" y="4018"/>
                </a:cubicBezTo>
                <a:cubicBezTo>
                  <a:pt x="15543" y="4093"/>
                  <a:pt x="15553" y="4144"/>
                  <a:pt x="15553" y="4217"/>
                </a:cubicBezTo>
                <a:cubicBezTo>
                  <a:pt x="15553" y="4225"/>
                  <a:pt x="15553" y="4234"/>
                  <a:pt x="15553" y="4242"/>
                </a:cubicBezTo>
                <a:cubicBezTo>
                  <a:pt x="15625" y="4242"/>
                  <a:pt x="15681" y="4201"/>
                  <a:pt x="15751" y="4192"/>
                </a:cubicBezTo>
                <a:cubicBezTo>
                  <a:pt x="15919" y="4171"/>
                  <a:pt x="16102" y="4192"/>
                  <a:pt x="16272" y="4192"/>
                </a:cubicBezTo>
              </a:path>
              <a:path w="1093" h="820">
                <a:moveTo>
                  <a:pt x="16148" y="3894"/>
                </a:moveTo>
                <a:cubicBezTo>
                  <a:pt x="16204" y="3922"/>
                  <a:pt x="16280" y="4000"/>
                  <a:pt x="16346" y="4043"/>
                </a:cubicBezTo>
                <a:cubicBezTo>
                  <a:pt x="16406" y="4082"/>
                  <a:pt x="16410" y="4078"/>
                  <a:pt x="16371" y="4167"/>
                </a:cubicBezTo>
                <a:cubicBezTo>
                  <a:pt x="16332" y="4256"/>
                  <a:pt x="16320" y="4304"/>
                  <a:pt x="16247" y="4316"/>
                </a:cubicBezTo>
              </a:path>
              <a:path w="1093" h="820">
                <a:moveTo>
                  <a:pt x="15429" y="3547"/>
                </a:moveTo>
                <a:cubicBezTo>
                  <a:pt x="15429" y="3506"/>
                  <a:pt x="15338" y="3593"/>
                  <a:pt x="15304" y="3646"/>
                </a:cubicBezTo>
                <a:cubicBezTo>
                  <a:pt x="15304" y="3654"/>
                  <a:pt x="15304" y="3663"/>
                  <a:pt x="15304" y="3671"/>
                </a:cubicBezTo>
                <a:cubicBezTo>
                  <a:pt x="15320" y="3609"/>
                  <a:pt x="15381" y="3570"/>
                  <a:pt x="15429" y="3522"/>
                </a:cubicBezTo>
                <a:cubicBezTo>
                  <a:pt x="15437" y="3514"/>
                  <a:pt x="15445" y="3505"/>
                  <a:pt x="15453" y="3497"/>
                </a:cubicBezTo>
                <a:cubicBezTo>
                  <a:pt x="15516" y="3547"/>
                  <a:pt x="15602" y="3652"/>
                  <a:pt x="15677" y="36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2320" y="5857920"/>
            <a:ext cx="561960" cy="884160"/>
          </a:xfrm>
          <a:custGeom>
            <a:avLst/>
            <a:gdLst/>
            <a:ahLst/>
            <a:rect l="l" t="t" r="r" b="b"/>
            <a:pathLst>
              <a:path w="1563" h="2457">
                <a:moveTo>
                  <a:pt x="1811" y="16768"/>
                </a:moveTo>
                <a:lnTo>
                  <a:pt x="1811" y="16768"/>
                </a:lnTo>
              </a:path>
              <a:path w="1563" h="2457">
                <a:moveTo>
                  <a:pt x="1811" y="16743"/>
                </a:moveTo>
                <a:cubicBezTo>
                  <a:pt x="1822" y="16604"/>
                  <a:pt x="1851" y="16572"/>
                  <a:pt x="1935" y="16470"/>
                </a:cubicBezTo>
                <a:cubicBezTo>
                  <a:pt x="2008" y="16381"/>
                  <a:pt x="2078" y="16323"/>
                  <a:pt x="2183" y="16297"/>
                </a:cubicBezTo>
                <a:cubicBezTo>
                  <a:pt x="2480" y="16223"/>
                  <a:pt x="2829" y="16312"/>
                  <a:pt x="3051" y="16520"/>
                </a:cubicBezTo>
                <a:cubicBezTo>
                  <a:pt x="3363" y="16811"/>
                  <a:pt x="3155" y="17119"/>
                  <a:pt x="3051" y="17438"/>
                </a:cubicBezTo>
                <a:cubicBezTo>
                  <a:pt x="2923" y="17832"/>
                  <a:pt x="3033" y="18006"/>
                  <a:pt x="3225" y="18331"/>
                </a:cubicBezTo>
                <a:cubicBezTo>
                  <a:pt x="3288" y="18437"/>
                  <a:pt x="3309" y="18547"/>
                  <a:pt x="3349" y="18653"/>
                </a:cubicBezTo>
                <a:cubicBezTo>
                  <a:pt x="3349" y="18681"/>
                  <a:pt x="3351" y="18692"/>
                  <a:pt x="3373" y="18703"/>
                </a:cubicBezTo>
                <a:cubicBezTo>
                  <a:pt x="3306" y="18703"/>
                  <a:pt x="3197" y="18731"/>
                  <a:pt x="3150" y="18728"/>
                </a:cubicBezTo>
                <a:cubicBezTo>
                  <a:pt x="3114" y="18725"/>
                  <a:pt x="3131" y="18723"/>
                  <a:pt x="3101" y="187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triangle FGH with vertices F(0,2),G(-3,1), and H(-1,1). Then draw the image after a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clockwise rotation about the origin. Name the coordinates of the rotated fig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otating a Figure - Clockwis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962520" cy="3849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1840" y="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83160" y="2911320"/>
            <a:ext cx="1758960" cy="1509840"/>
          </a:xfrm>
          <a:custGeom>
            <a:avLst/>
            <a:gdLst/>
            <a:ahLst/>
            <a:rect l="l" t="t" r="r" b="b"/>
            <a:pathLst>
              <a:path w="4888" h="4193">
                <a:moveTo>
                  <a:pt x="17785" y="10021"/>
                </a:moveTo>
                <a:cubicBezTo>
                  <a:pt x="17817" y="10010"/>
                  <a:pt x="17825" y="9987"/>
                  <a:pt x="17835" y="9947"/>
                </a:cubicBezTo>
                <a:cubicBezTo>
                  <a:pt x="17774" y="9989"/>
                  <a:pt x="17685" y="10079"/>
                  <a:pt x="17859" y="10071"/>
                </a:cubicBezTo>
                <a:cubicBezTo>
                  <a:pt x="17969" y="10066"/>
                  <a:pt x="17891" y="9960"/>
                  <a:pt x="17835" y="9947"/>
                </a:cubicBezTo>
                <a:cubicBezTo>
                  <a:pt x="17757" y="9929"/>
                  <a:pt x="17714" y="10064"/>
                  <a:pt x="17810" y="10046"/>
                </a:cubicBezTo>
                <a:cubicBezTo>
                  <a:pt x="17835" y="10038"/>
                  <a:pt x="17859" y="10029"/>
                  <a:pt x="17884" y="10021"/>
                </a:cubicBezTo>
                <a:cubicBezTo>
                  <a:pt x="17877" y="9977"/>
                  <a:pt x="17825" y="9916"/>
                  <a:pt x="17760" y="9971"/>
                </a:cubicBezTo>
                <a:cubicBezTo>
                  <a:pt x="17760" y="9996"/>
                  <a:pt x="17760" y="10004"/>
                  <a:pt x="17785" y="9996"/>
                </a:cubicBezTo>
              </a:path>
              <a:path w="4888" h="4193">
                <a:moveTo>
                  <a:pt x="18207" y="10096"/>
                </a:moveTo>
                <a:cubicBezTo>
                  <a:pt x="18232" y="10211"/>
                  <a:pt x="18262" y="10328"/>
                  <a:pt x="18281" y="10443"/>
                </a:cubicBezTo>
                <a:cubicBezTo>
                  <a:pt x="18281" y="10305"/>
                  <a:pt x="18246" y="10182"/>
                  <a:pt x="18231" y="10046"/>
                </a:cubicBezTo>
                <a:cubicBezTo>
                  <a:pt x="18231" y="9988"/>
                  <a:pt x="18231" y="9980"/>
                  <a:pt x="18231" y="9947"/>
                </a:cubicBezTo>
                <a:cubicBezTo>
                  <a:pt x="18315" y="9967"/>
                  <a:pt x="18355" y="9973"/>
                  <a:pt x="18455" y="9947"/>
                </a:cubicBezTo>
                <a:cubicBezTo>
                  <a:pt x="18555" y="9921"/>
                  <a:pt x="18506" y="9890"/>
                  <a:pt x="18554" y="9922"/>
                </a:cubicBezTo>
              </a:path>
              <a:path w="4888" h="4193">
                <a:moveTo>
                  <a:pt x="18256" y="10244"/>
                </a:moveTo>
                <a:cubicBezTo>
                  <a:pt x="18335" y="10244"/>
                  <a:pt x="18402" y="10225"/>
                  <a:pt x="18479" y="10220"/>
                </a:cubicBezTo>
                <a:cubicBezTo>
                  <a:pt x="18487" y="10220"/>
                  <a:pt x="18496" y="10220"/>
                  <a:pt x="18504" y="10220"/>
                </a:cubicBezTo>
              </a:path>
              <a:path w="4888" h="4193">
                <a:moveTo>
                  <a:pt x="15354" y="10840"/>
                </a:moveTo>
                <a:cubicBezTo>
                  <a:pt x="15354" y="10815"/>
                  <a:pt x="15354" y="10807"/>
                  <a:pt x="15354" y="10790"/>
                </a:cubicBezTo>
                <a:cubicBezTo>
                  <a:pt x="15348" y="10821"/>
                  <a:pt x="15287" y="10928"/>
                  <a:pt x="15379" y="10889"/>
                </a:cubicBezTo>
                <a:cubicBezTo>
                  <a:pt x="15407" y="10877"/>
                  <a:pt x="15524" y="10777"/>
                  <a:pt x="15429" y="10740"/>
                </a:cubicBezTo>
                <a:cubicBezTo>
                  <a:pt x="15329" y="10701"/>
                  <a:pt x="15349" y="10888"/>
                  <a:pt x="15354" y="10889"/>
                </a:cubicBezTo>
                <a:cubicBezTo>
                  <a:pt x="15457" y="10915"/>
                  <a:pt x="15480" y="10881"/>
                  <a:pt x="15528" y="10815"/>
                </a:cubicBezTo>
                <a:cubicBezTo>
                  <a:pt x="15470" y="10800"/>
                  <a:pt x="15295" y="10744"/>
                  <a:pt x="15354" y="10889"/>
                </a:cubicBezTo>
                <a:cubicBezTo>
                  <a:pt x="15387" y="10889"/>
                  <a:pt x="15404" y="10889"/>
                  <a:pt x="15429" y="10889"/>
                </a:cubicBezTo>
              </a:path>
              <a:path w="4888" h="4193">
                <a:moveTo>
                  <a:pt x="15925" y="11013"/>
                </a:moveTo>
                <a:cubicBezTo>
                  <a:pt x="15892" y="10964"/>
                  <a:pt x="15798" y="10974"/>
                  <a:pt x="15751" y="11038"/>
                </a:cubicBezTo>
                <a:cubicBezTo>
                  <a:pt x="15704" y="11102"/>
                  <a:pt x="15613" y="11341"/>
                  <a:pt x="15701" y="11410"/>
                </a:cubicBezTo>
                <a:cubicBezTo>
                  <a:pt x="15803" y="11489"/>
                  <a:pt x="16028" y="11395"/>
                  <a:pt x="16073" y="11286"/>
                </a:cubicBezTo>
                <a:cubicBezTo>
                  <a:pt x="16114" y="11187"/>
                  <a:pt x="16033" y="11146"/>
                  <a:pt x="15949" y="11162"/>
                </a:cubicBezTo>
                <a:cubicBezTo>
                  <a:pt x="15933" y="11170"/>
                  <a:pt x="15916" y="11179"/>
                  <a:pt x="15900" y="11187"/>
                </a:cubicBezTo>
              </a:path>
              <a:path w="4888" h="4193">
                <a:moveTo>
                  <a:pt x="15900" y="11137"/>
                </a:moveTo>
                <a:cubicBezTo>
                  <a:pt x="15952" y="11100"/>
                  <a:pt x="16025" y="11061"/>
                  <a:pt x="16049" y="11013"/>
                </a:cubicBezTo>
              </a:path>
              <a:path w="4888" h="4193">
                <a:moveTo>
                  <a:pt x="15379" y="10889"/>
                </a:moveTo>
                <a:cubicBezTo>
                  <a:pt x="15444" y="10857"/>
                  <a:pt x="15517" y="10843"/>
                  <a:pt x="15577" y="10815"/>
                </a:cubicBezTo>
                <a:cubicBezTo>
                  <a:pt x="15635" y="10789"/>
                  <a:pt x="15684" y="10751"/>
                  <a:pt x="15751" y="10740"/>
                </a:cubicBezTo>
                <a:cubicBezTo>
                  <a:pt x="15803" y="10732"/>
                  <a:pt x="15851" y="10734"/>
                  <a:pt x="15900" y="10716"/>
                </a:cubicBezTo>
                <a:cubicBezTo>
                  <a:pt x="15946" y="10699"/>
                  <a:pt x="15958" y="10702"/>
                  <a:pt x="15999" y="10691"/>
                </a:cubicBezTo>
                <a:cubicBezTo>
                  <a:pt x="16015" y="10683"/>
                  <a:pt x="16084" y="10658"/>
                  <a:pt x="16123" y="10641"/>
                </a:cubicBezTo>
                <a:cubicBezTo>
                  <a:pt x="16186" y="10614"/>
                  <a:pt x="16236" y="10596"/>
                  <a:pt x="16297" y="10567"/>
                </a:cubicBezTo>
                <a:cubicBezTo>
                  <a:pt x="16330" y="10551"/>
                  <a:pt x="16365" y="10533"/>
                  <a:pt x="16396" y="10517"/>
                </a:cubicBezTo>
                <a:cubicBezTo>
                  <a:pt x="16432" y="10486"/>
                  <a:pt x="16487" y="10448"/>
                  <a:pt x="16545" y="10418"/>
                </a:cubicBezTo>
                <a:cubicBezTo>
                  <a:pt x="16583" y="10399"/>
                  <a:pt x="16625" y="10390"/>
                  <a:pt x="16669" y="10368"/>
                </a:cubicBezTo>
                <a:cubicBezTo>
                  <a:pt x="16709" y="10348"/>
                  <a:pt x="16725" y="10350"/>
                  <a:pt x="16718" y="10319"/>
                </a:cubicBezTo>
                <a:cubicBezTo>
                  <a:pt x="16742" y="10308"/>
                  <a:pt x="16823" y="10268"/>
                  <a:pt x="16842" y="10269"/>
                </a:cubicBezTo>
                <a:cubicBezTo>
                  <a:pt x="16910" y="10272"/>
                  <a:pt x="16910" y="10299"/>
                  <a:pt x="16991" y="10269"/>
                </a:cubicBezTo>
                <a:cubicBezTo>
                  <a:pt x="17044" y="10249"/>
                  <a:pt x="17094" y="10241"/>
                  <a:pt x="17140" y="10220"/>
                </a:cubicBezTo>
                <a:cubicBezTo>
                  <a:pt x="17182" y="10201"/>
                  <a:pt x="17224" y="10185"/>
                  <a:pt x="17264" y="10170"/>
                </a:cubicBezTo>
                <a:cubicBezTo>
                  <a:pt x="17278" y="10159"/>
                  <a:pt x="17321" y="10113"/>
                  <a:pt x="17338" y="10096"/>
                </a:cubicBezTo>
                <a:cubicBezTo>
                  <a:pt x="17355" y="10088"/>
                  <a:pt x="17386" y="10072"/>
                  <a:pt x="17388" y="10071"/>
                </a:cubicBezTo>
                <a:cubicBezTo>
                  <a:pt x="17433" y="10060"/>
                  <a:pt x="17468" y="10060"/>
                  <a:pt x="17512" y="10046"/>
                </a:cubicBezTo>
                <a:cubicBezTo>
                  <a:pt x="17543" y="10036"/>
                  <a:pt x="17581" y="10024"/>
                  <a:pt x="17611" y="10021"/>
                </a:cubicBezTo>
                <a:cubicBezTo>
                  <a:pt x="17653" y="10017"/>
                  <a:pt x="17706" y="9999"/>
                  <a:pt x="17735" y="9996"/>
                </a:cubicBezTo>
                <a:cubicBezTo>
                  <a:pt x="17760" y="9993"/>
                  <a:pt x="17785" y="9998"/>
                  <a:pt x="17810" y="9996"/>
                </a:cubicBezTo>
                <a:cubicBezTo>
                  <a:pt x="17810" y="9971"/>
                  <a:pt x="17810" y="9963"/>
                  <a:pt x="17835" y="9971"/>
                </a:cubicBezTo>
              </a:path>
              <a:path w="4888" h="4193">
                <a:moveTo>
                  <a:pt x="17090" y="10914"/>
                </a:moveTo>
                <a:cubicBezTo>
                  <a:pt x="17174" y="10886"/>
                  <a:pt x="17057" y="10886"/>
                  <a:pt x="17066" y="10889"/>
                </a:cubicBezTo>
                <a:cubicBezTo>
                  <a:pt x="17113" y="10905"/>
                  <a:pt x="17156" y="10866"/>
                  <a:pt x="17165" y="10840"/>
                </a:cubicBezTo>
                <a:cubicBezTo>
                  <a:pt x="17112" y="10840"/>
                  <a:pt x="17114" y="10846"/>
                  <a:pt x="17090" y="10864"/>
                </a:cubicBezTo>
                <a:cubicBezTo>
                  <a:pt x="17042" y="10888"/>
                  <a:pt x="17026" y="10895"/>
                  <a:pt x="17041" y="10939"/>
                </a:cubicBezTo>
                <a:cubicBezTo>
                  <a:pt x="17091" y="10922"/>
                  <a:pt x="17114" y="10816"/>
                  <a:pt x="17090" y="10864"/>
                </a:cubicBezTo>
                <a:cubicBezTo>
                  <a:pt x="17068" y="10908"/>
                  <a:pt x="17010" y="10945"/>
                  <a:pt x="17066" y="10964"/>
                </a:cubicBezTo>
              </a:path>
              <a:path w="4888" h="4193">
                <a:moveTo>
                  <a:pt x="17140" y="11311"/>
                </a:moveTo>
                <a:cubicBezTo>
                  <a:pt x="17114" y="11276"/>
                  <a:pt x="17123" y="11228"/>
                  <a:pt x="17115" y="11261"/>
                </a:cubicBezTo>
                <a:cubicBezTo>
                  <a:pt x="17100" y="11328"/>
                  <a:pt x="17053" y="11500"/>
                  <a:pt x="17115" y="11559"/>
                </a:cubicBezTo>
                <a:cubicBezTo>
                  <a:pt x="17115" y="11551"/>
                  <a:pt x="17115" y="11542"/>
                  <a:pt x="17115" y="11534"/>
                </a:cubicBezTo>
              </a:path>
              <a:path w="4888" h="4193">
                <a:moveTo>
                  <a:pt x="17314" y="11063"/>
                </a:moveTo>
                <a:cubicBezTo>
                  <a:pt x="17320" y="11179"/>
                  <a:pt x="17338" y="11293"/>
                  <a:pt x="17338" y="11410"/>
                </a:cubicBezTo>
              </a:path>
              <a:path w="4888" h="4193">
                <a:moveTo>
                  <a:pt x="17190" y="11410"/>
                </a:moveTo>
                <a:cubicBezTo>
                  <a:pt x="17265" y="11327"/>
                  <a:pt x="17306" y="11302"/>
                  <a:pt x="17413" y="11261"/>
                </a:cubicBezTo>
              </a:path>
              <a:path w="4888" h="4193">
                <a:moveTo>
                  <a:pt x="17859" y="10071"/>
                </a:moveTo>
                <a:cubicBezTo>
                  <a:pt x="17859" y="10029"/>
                  <a:pt x="17869" y="10033"/>
                  <a:pt x="17835" y="10021"/>
                </a:cubicBezTo>
              </a:path>
              <a:path w="4888" h="4193">
                <a:moveTo>
                  <a:pt x="15404" y="10889"/>
                </a:moveTo>
                <a:cubicBezTo>
                  <a:pt x="15458" y="10856"/>
                  <a:pt x="15514" y="10856"/>
                  <a:pt x="15577" y="10840"/>
                </a:cubicBezTo>
                <a:cubicBezTo>
                  <a:pt x="15641" y="10823"/>
                  <a:pt x="15721" y="10801"/>
                  <a:pt x="15776" y="10790"/>
                </a:cubicBezTo>
                <a:cubicBezTo>
                  <a:pt x="15890" y="10767"/>
                  <a:pt x="16031" y="10790"/>
                  <a:pt x="16148" y="10790"/>
                </a:cubicBezTo>
              </a:path>
              <a:path w="4888" h="4193">
                <a:moveTo>
                  <a:pt x="17090" y="10864"/>
                </a:moveTo>
                <a:cubicBezTo>
                  <a:pt x="17012" y="10864"/>
                  <a:pt x="16885" y="10833"/>
                  <a:pt x="16818" y="10840"/>
                </a:cubicBezTo>
                <a:cubicBezTo>
                  <a:pt x="16775" y="10845"/>
                  <a:pt x="16740" y="10862"/>
                  <a:pt x="16694" y="10864"/>
                </a:cubicBezTo>
                <a:cubicBezTo>
                  <a:pt x="16635" y="10867"/>
                  <a:pt x="16591" y="10880"/>
                  <a:pt x="16545" y="10889"/>
                </a:cubicBezTo>
                <a:cubicBezTo>
                  <a:pt x="16292" y="10937"/>
                  <a:pt x="15995" y="10877"/>
                  <a:pt x="15751" y="10914"/>
                </a:cubicBezTo>
                <a:cubicBezTo>
                  <a:pt x="15586" y="10939"/>
                  <a:pt x="15398" y="10914"/>
                  <a:pt x="15230" y="10914"/>
                </a:cubicBezTo>
              </a:path>
              <a:path w="4888" h="4193">
                <a:moveTo>
                  <a:pt x="17115" y="10914"/>
                </a:moveTo>
                <a:cubicBezTo>
                  <a:pt x="17142" y="10907"/>
                  <a:pt x="17199" y="10863"/>
                  <a:pt x="17214" y="10840"/>
                </a:cubicBezTo>
                <a:cubicBezTo>
                  <a:pt x="17214" y="10832"/>
                  <a:pt x="17214" y="10823"/>
                  <a:pt x="17214" y="10815"/>
                </a:cubicBezTo>
                <a:cubicBezTo>
                  <a:pt x="17249" y="10803"/>
                  <a:pt x="17239" y="10808"/>
                  <a:pt x="17239" y="10765"/>
                </a:cubicBezTo>
                <a:cubicBezTo>
                  <a:pt x="17266" y="10756"/>
                  <a:pt x="17305" y="10729"/>
                  <a:pt x="17314" y="10691"/>
                </a:cubicBezTo>
                <a:cubicBezTo>
                  <a:pt x="17314" y="10683"/>
                  <a:pt x="17314" y="10674"/>
                  <a:pt x="17314" y="10666"/>
                </a:cubicBezTo>
                <a:cubicBezTo>
                  <a:pt x="17362" y="10633"/>
                  <a:pt x="17339" y="10640"/>
                  <a:pt x="17363" y="10592"/>
                </a:cubicBezTo>
                <a:cubicBezTo>
                  <a:pt x="17385" y="10548"/>
                  <a:pt x="17419" y="10516"/>
                  <a:pt x="17438" y="10468"/>
                </a:cubicBezTo>
                <a:cubicBezTo>
                  <a:pt x="17456" y="10450"/>
                  <a:pt x="17467" y="10423"/>
                  <a:pt x="17487" y="10393"/>
                </a:cubicBezTo>
                <a:cubicBezTo>
                  <a:pt x="17510" y="10370"/>
                  <a:pt x="17514" y="10362"/>
                  <a:pt x="17537" y="10368"/>
                </a:cubicBezTo>
                <a:cubicBezTo>
                  <a:pt x="17553" y="10340"/>
                  <a:pt x="17572" y="10287"/>
                  <a:pt x="17611" y="10269"/>
                </a:cubicBezTo>
                <a:cubicBezTo>
                  <a:pt x="17636" y="10269"/>
                  <a:pt x="17644" y="10269"/>
                  <a:pt x="17661" y="10269"/>
                </a:cubicBezTo>
                <a:cubicBezTo>
                  <a:pt x="17672" y="10226"/>
                  <a:pt x="17702" y="10204"/>
                  <a:pt x="17735" y="10170"/>
                </a:cubicBezTo>
                <a:cubicBezTo>
                  <a:pt x="17777" y="10128"/>
                  <a:pt x="17774" y="10123"/>
                  <a:pt x="17785" y="10071"/>
                </a:cubicBezTo>
                <a:cubicBezTo>
                  <a:pt x="17817" y="10060"/>
                  <a:pt x="17825" y="10037"/>
                  <a:pt x="17835" y="9996"/>
                </a:cubicBezTo>
              </a:path>
              <a:path w="4888" h="4193">
                <a:moveTo>
                  <a:pt x="19521" y="11609"/>
                </a:moveTo>
                <a:cubicBezTo>
                  <a:pt x="19481" y="11609"/>
                  <a:pt x="19429" y="11599"/>
                  <a:pt x="19397" y="11633"/>
                </a:cubicBezTo>
                <a:cubicBezTo>
                  <a:pt x="19381" y="11658"/>
                  <a:pt x="19364" y="11683"/>
                  <a:pt x="19348" y="11708"/>
                </a:cubicBezTo>
                <a:cubicBezTo>
                  <a:pt x="19365" y="11813"/>
                  <a:pt x="19462" y="11752"/>
                  <a:pt x="19521" y="11683"/>
                </a:cubicBezTo>
                <a:cubicBezTo>
                  <a:pt x="19580" y="11614"/>
                  <a:pt x="19466" y="11597"/>
                  <a:pt x="19422" y="11609"/>
                </a:cubicBezTo>
                <a:cubicBezTo>
                  <a:pt x="19285" y="11646"/>
                  <a:pt x="19398" y="11728"/>
                  <a:pt x="19472" y="11733"/>
                </a:cubicBezTo>
                <a:cubicBezTo>
                  <a:pt x="19591" y="11741"/>
                  <a:pt x="19487" y="11630"/>
                  <a:pt x="19472" y="11609"/>
                </a:cubicBezTo>
                <a:cubicBezTo>
                  <a:pt x="19451" y="11670"/>
                  <a:pt x="19471" y="11830"/>
                  <a:pt x="19546" y="11708"/>
                </a:cubicBezTo>
                <a:cubicBezTo>
                  <a:pt x="19604" y="11614"/>
                  <a:pt x="19504" y="11677"/>
                  <a:pt x="19496" y="11683"/>
                </a:cubicBezTo>
              </a:path>
              <a:path w="4888" h="4193">
                <a:moveTo>
                  <a:pt x="19720" y="11981"/>
                </a:moveTo>
                <a:cubicBezTo>
                  <a:pt x="19720" y="11894"/>
                  <a:pt x="19778" y="12093"/>
                  <a:pt x="19794" y="12179"/>
                </a:cubicBezTo>
                <a:cubicBezTo>
                  <a:pt x="19794" y="12212"/>
                  <a:pt x="19794" y="12245"/>
                  <a:pt x="19794" y="12278"/>
                </a:cubicBezTo>
                <a:cubicBezTo>
                  <a:pt x="19794" y="12184"/>
                  <a:pt x="19755" y="12092"/>
                  <a:pt x="19720" y="12005"/>
                </a:cubicBezTo>
                <a:cubicBezTo>
                  <a:pt x="19700" y="11965"/>
                  <a:pt x="19691" y="11959"/>
                  <a:pt x="19695" y="11931"/>
                </a:cubicBezTo>
                <a:cubicBezTo>
                  <a:pt x="19774" y="11898"/>
                  <a:pt x="19865" y="11821"/>
                  <a:pt x="19918" y="11832"/>
                </a:cubicBezTo>
              </a:path>
              <a:path w="4888" h="4193">
                <a:moveTo>
                  <a:pt x="19720" y="12080"/>
                </a:moveTo>
                <a:cubicBezTo>
                  <a:pt x="19765" y="12069"/>
                  <a:pt x="19803" y="12052"/>
                  <a:pt x="19844" y="12030"/>
                </a:cubicBezTo>
                <a:cubicBezTo>
                  <a:pt x="19860" y="12022"/>
                  <a:pt x="19877" y="12013"/>
                  <a:pt x="19893" y="12005"/>
                </a:cubicBezTo>
              </a:path>
              <a:path w="4888" h="4193">
                <a:moveTo>
                  <a:pt x="20067" y="11683"/>
                </a:moveTo>
                <a:cubicBezTo>
                  <a:pt x="20107" y="11743"/>
                  <a:pt x="20117" y="11785"/>
                  <a:pt x="20117" y="11857"/>
                </a:cubicBezTo>
              </a:path>
              <a:path w="4888" h="4193">
                <a:moveTo>
                  <a:pt x="18604" y="9227"/>
                </a:moveTo>
                <a:cubicBezTo>
                  <a:pt x="18640" y="9215"/>
                  <a:pt x="18628" y="9197"/>
                  <a:pt x="18628" y="9153"/>
                </a:cubicBezTo>
                <a:cubicBezTo>
                  <a:pt x="18628" y="9128"/>
                  <a:pt x="18628" y="9120"/>
                  <a:pt x="18604" y="9128"/>
                </a:cubicBezTo>
                <a:cubicBezTo>
                  <a:pt x="18558" y="9234"/>
                  <a:pt x="18608" y="9212"/>
                  <a:pt x="18678" y="9153"/>
                </a:cubicBezTo>
                <a:cubicBezTo>
                  <a:pt x="18706" y="9125"/>
                  <a:pt x="18715" y="9112"/>
                  <a:pt x="18703" y="9079"/>
                </a:cubicBezTo>
                <a:cubicBezTo>
                  <a:pt x="18651" y="9069"/>
                  <a:pt x="18520" y="9083"/>
                  <a:pt x="18554" y="9178"/>
                </a:cubicBezTo>
                <a:cubicBezTo>
                  <a:pt x="18581" y="9252"/>
                  <a:pt x="18667" y="9168"/>
                  <a:pt x="18678" y="9153"/>
                </a:cubicBezTo>
                <a:cubicBezTo>
                  <a:pt x="18642" y="9171"/>
                  <a:pt x="18637" y="9181"/>
                  <a:pt x="18628" y="9227"/>
                </a:cubicBezTo>
              </a:path>
              <a:path w="4888" h="4193">
                <a:moveTo>
                  <a:pt x="18852" y="8657"/>
                </a:moveTo>
                <a:cubicBezTo>
                  <a:pt x="18889" y="8582"/>
                  <a:pt x="18895" y="8584"/>
                  <a:pt x="18876" y="8508"/>
                </a:cubicBezTo>
                <a:cubicBezTo>
                  <a:pt x="18755" y="8508"/>
                  <a:pt x="18740" y="8588"/>
                  <a:pt x="18728" y="8706"/>
                </a:cubicBezTo>
                <a:cubicBezTo>
                  <a:pt x="18707" y="8912"/>
                  <a:pt x="18807" y="9047"/>
                  <a:pt x="19025" y="8954"/>
                </a:cubicBezTo>
                <a:cubicBezTo>
                  <a:pt x="19112" y="8889"/>
                  <a:pt x="19140" y="8879"/>
                  <a:pt x="19149" y="8806"/>
                </a:cubicBezTo>
                <a:cubicBezTo>
                  <a:pt x="19052" y="8798"/>
                  <a:pt x="19041" y="8791"/>
                  <a:pt x="18951" y="8855"/>
                </a:cubicBezTo>
              </a:path>
              <a:path w="4888" h="4193">
                <a:moveTo>
                  <a:pt x="19025" y="8086"/>
                </a:moveTo>
                <a:cubicBezTo>
                  <a:pt x="19051" y="8177"/>
                  <a:pt x="19074" y="8268"/>
                  <a:pt x="19100" y="8359"/>
                </a:cubicBezTo>
              </a:path>
              <a:path w="4888" h="4193">
                <a:moveTo>
                  <a:pt x="18579" y="9079"/>
                </a:moveTo>
                <a:cubicBezTo>
                  <a:pt x="18604" y="9079"/>
                  <a:pt x="18612" y="9079"/>
                  <a:pt x="18628" y="9079"/>
                </a:cubicBezTo>
                <a:cubicBezTo>
                  <a:pt x="18634" y="9141"/>
                  <a:pt x="18647" y="9191"/>
                  <a:pt x="18653" y="9252"/>
                </a:cubicBezTo>
                <a:cubicBezTo>
                  <a:pt x="18659" y="9312"/>
                  <a:pt x="18663" y="9369"/>
                  <a:pt x="18678" y="9426"/>
                </a:cubicBezTo>
                <a:cubicBezTo>
                  <a:pt x="18691" y="9472"/>
                  <a:pt x="18698" y="9502"/>
                  <a:pt x="18703" y="9550"/>
                </a:cubicBezTo>
                <a:cubicBezTo>
                  <a:pt x="18709" y="9607"/>
                  <a:pt x="18712" y="9625"/>
                  <a:pt x="18728" y="9674"/>
                </a:cubicBezTo>
                <a:cubicBezTo>
                  <a:pt x="18742" y="9715"/>
                  <a:pt x="18737" y="9757"/>
                  <a:pt x="18752" y="9798"/>
                </a:cubicBezTo>
                <a:cubicBezTo>
                  <a:pt x="18768" y="9842"/>
                  <a:pt x="18763" y="9875"/>
                  <a:pt x="18777" y="9922"/>
                </a:cubicBezTo>
                <a:cubicBezTo>
                  <a:pt x="18786" y="9951"/>
                  <a:pt x="18793" y="9987"/>
                  <a:pt x="18802" y="10021"/>
                </a:cubicBezTo>
                <a:cubicBezTo>
                  <a:pt x="18812" y="10059"/>
                  <a:pt x="18822" y="10078"/>
                  <a:pt x="18827" y="10120"/>
                </a:cubicBezTo>
                <a:cubicBezTo>
                  <a:pt x="18832" y="10167"/>
                  <a:pt x="18839" y="10180"/>
                  <a:pt x="18852" y="10220"/>
                </a:cubicBezTo>
                <a:cubicBezTo>
                  <a:pt x="18868" y="10270"/>
                  <a:pt x="18878" y="10319"/>
                  <a:pt x="18901" y="10368"/>
                </a:cubicBezTo>
                <a:cubicBezTo>
                  <a:pt x="18932" y="10433"/>
                  <a:pt x="18928" y="10502"/>
                  <a:pt x="18951" y="10567"/>
                </a:cubicBezTo>
                <a:cubicBezTo>
                  <a:pt x="18965" y="10608"/>
                  <a:pt x="18972" y="10617"/>
                  <a:pt x="18976" y="10666"/>
                </a:cubicBezTo>
                <a:cubicBezTo>
                  <a:pt x="18978" y="10673"/>
                  <a:pt x="18999" y="10725"/>
                  <a:pt x="19000" y="10765"/>
                </a:cubicBezTo>
                <a:cubicBezTo>
                  <a:pt x="19002" y="10825"/>
                  <a:pt x="19009" y="10860"/>
                  <a:pt x="19025" y="10914"/>
                </a:cubicBezTo>
                <a:cubicBezTo>
                  <a:pt x="19036" y="10950"/>
                  <a:pt x="19036" y="10979"/>
                  <a:pt x="19050" y="11013"/>
                </a:cubicBezTo>
                <a:cubicBezTo>
                  <a:pt x="19072" y="11069"/>
                  <a:pt x="19096" y="11110"/>
                  <a:pt x="19124" y="11162"/>
                </a:cubicBezTo>
                <a:cubicBezTo>
                  <a:pt x="19142" y="11195"/>
                  <a:pt x="19153" y="11227"/>
                  <a:pt x="19174" y="11261"/>
                </a:cubicBezTo>
                <a:cubicBezTo>
                  <a:pt x="19209" y="11318"/>
                  <a:pt x="19226" y="11371"/>
                  <a:pt x="19248" y="11435"/>
                </a:cubicBezTo>
                <a:cubicBezTo>
                  <a:pt x="19260" y="11470"/>
                  <a:pt x="19260" y="11501"/>
                  <a:pt x="19273" y="11534"/>
                </a:cubicBezTo>
                <a:cubicBezTo>
                  <a:pt x="19283" y="11558"/>
                  <a:pt x="19287" y="11585"/>
                  <a:pt x="19298" y="11609"/>
                </a:cubicBezTo>
                <a:cubicBezTo>
                  <a:pt x="19304" y="11618"/>
                  <a:pt x="19342" y="11649"/>
                  <a:pt x="19348" y="11658"/>
                </a:cubicBezTo>
                <a:cubicBezTo>
                  <a:pt x="19383" y="11713"/>
                  <a:pt x="19344" y="11672"/>
                  <a:pt x="19397" y="11708"/>
                </a:cubicBezTo>
              </a:path>
              <a:path w="4888" h="4193">
                <a:moveTo>
                  <a:pt x="18628" y="10840"/>
                </a:moveTo>
                <a:cubicBezTo>
                  <a:pt x="18682" y="10822"/>
                  <a:pt x="18634" y="10808"/>
                  <a:pt x="18628" y="10864"/>
                </a:cubicBezTo>
                <a:cubicBezTo>
                  <a:pt x="18628" y="10889"/>
                  <a:pt x="18628" y="10897"/>
                  <a:pt x="18628" y="10914"/>
                </a:cubicBezTo>
                <a:cubicBezTo>
                  <a:pt x="18643" y="10909"/>
                  <a:pt x="18706" y="10846"/>
                  <a:pt x="18678" y="10815"/>
                </a:cubicBezTo>
                <a:cubicBezTo>
                  <a:pt x="18605" y="10734"/>
                  <a:pt x="18584" y="10833"/>
                  <a:pt x="18579" y="10889"/>
                </a:cubicBezTo>
                <a:cubicBezTo>
                  <a:pt x="18573" y="10957"/>
                  <a:pt x="18673" y="10860"/>
                  <a:pt x="18653" y="10790"/>
                </a:cubicBezTo>
                <a:cubicBezTo>
                  <a:pt x="18638" y="10736"/>
                  <a:pt x="18535" y="10886"/>
                  <a:pt x="18529" y="10914"/>
                </a:cubicBezTo>
                <a:cubicBezTo>
                  <a:pt x="18564" y="10914"/>
                  <a:pt x="18582" y="10909"/>
                  <a:pt x="18604" y="10889"/>
                </a:cubicBezTo>
                <a:cubicBezTo>
                  <a:pt x="18630" y="10827"/>
                  <a:pt x="18599" y="10777"/>
                  <a:pt x="18579" y="10840"/>
                </a:cubicBezTo>
                <a:cubicBezTo>
                  <a:pt x="18558" y="10909"/>
                  <a:pt x="18646" y="10910"/>
                  <a:pt x="18653" y="10864"/>
                </a:cubicBezTo>
                <a:cubicBezTo>
                  <a:pt x="18669" y="10756"/>
                  <a:pt x="18598" y="10797"/>
                  <a:pt x="18579" y="10864"/>
                </a:cubicBezTo>
              </a:path>
              <a:path w="4888" h="4193">
                <a:moveTo>
                  <a:pt x="18306" y="11112"/>
                </a:moveTo>
                <a:cubicBezTo>
                  <a:pt x="18324" y="11221"/>
                  <a:pt x="18328" y="11355"/>
                  <a:pt x="18355" y="11460"/>
                </a:cubicBezTo>
                <a:cubicBezTo>
                  <a:pt x="18363" y="11468"/>
                  <a:pt x="18372" y="11477"/>
                  <a:pt x="18380" y="11485"/>
                </a:cubicBezTo>
              </a:path>
              <a:path w="4888" h="4193">
                <a:moveTo>
                  <a:pt x="18504" y="11112"/>
                </a:moveTo>
                <a:cubicBezTo>
                  <a:pt x="18574" y="11224"/>
                  <a:pt x="18598" y="11326"/>
                  <a:pt x="18604" y="11460"/>
                </a:cubicBezTo>
                <a:cubicBezTo>
                  <a:pt x="18604" y="11476"/>
                  <a:pt x="18604" y="11493"/>
                  <a:pt x="18604" y="11509"/>
                </a:cubicBezTo>
              </a:path>
              <a:path w="4888" h="4193">
                <a:moveTo>
                  <a:pt x="18355" y="11385"/>
                </a:moveTo>
                <a:cubicBezTo>
                  <a:pt x="18431" y="11354"/>
                  <a:pt x="18501" y="11302"/>
                  <a:pt x="18579" y="11286"/>
                </a:cubicBezTo>
              </a:path>
              <a:path w="4888" h="4193">
                <a:moveTo>
                  <a:pt x="18678" y="10988"/>
                </a:moveTo>
                <a:cubicBezTo>
                  <a:pt x="18698" y="11042"/>
                  <a:pt x="18708" y="11084"/>
                  <a:pt x="18728" y="11137"/>
                </a:cubicBezTo>
              </a:path>
              <a:path w="4888" h="4193">
                <a:moveTo>
                  <a:pt x="18529" y="9153"/>
                </a:moveTo>
                <a:cubicBezTo>
                  <a:pt x="18529" y="9145"/>
                  <a:pt x="18529" y="9136"/>
                  <a:pt x="18529" y="9128"/>
                </a:cubicBezTo>
                <a:cubicBezTo>
                  <a:pt x="18538" y="9163"/>
                  <a:pt x="18568" y="9276"/>
                  <a:pt x="18554" y="9351"/>
                </a:cubicBezTo>
                <a:cubicBezTo>
                  <a:pt x="18538" y="9439"/>
                  <a:pt x="18531" y="9508"/>
                  <a:pt x="18529" y="9599"/>
                </a:cubicBezTo>
                <a:cubicBezTo>
                  <a:pt x="18526" y="9703"/>
                  <a:pt x="18514" y="9800"/>
                  <a:pt x="18504" y="9897"/>
                </a:cubicBezTo>
                <a:cubicBezTo>
                  <a:pt x="18485" y="10078"/>
                  <a:pt x="18508" y="10271"/>
                  <a:pt x="18529" y="10443"/>
                </a:cubicBezTo>
                <a:cubicBezTo>
                  <a:pt x="18542" y="10547"/>
                  <a:pt x="18521" y="10641"/>
                  <a:pt x="18554" y="10740"/>
                </a:cubicBezTo>
                <a:cubicBezTo>
                  <a:pt x="18570" y="10789"/>
                  <a:pt x="18572" y="10793"/>
                  <a:pt x="18604" y="10840"/>
                </a:cubicBezTo>
                <a:cubicBezTo>
                  <a:pt x="18622" y="10866"/>
                  <a:pt x="18647" y="10891"/>
                  <a:pt x="18678" y="10914"/>
                </a:cubicBezTo>
                <a:cubicBezTo>
                  <a:pt x="18717" y="10942"/>
                  <a:pt x="18763" y="10966"/>
                  <a:pt x="18802" y="10988"/>
                </a:cubicBezTo>
                <a:cubicBezTo>
                  <a:pt x="18843" y="11012"/>
                  <a:pt x="18845" y="11023"/>
                  <a:pt x="18876" y="11038"/>
                </a:cubicBezTo>
                <a:cubicBezTo>
                  <a:pt x="18937" y="11069"/>
                  <a:pt x="18923" y="11080"/>
                  <a:pt x="18951" y="11112"/>
                </a:cubicBezTo>
                <a:cubicBezTo>
                  <a:pt x="18986" y="11152"/>
                  <a:pt x="19017" y="11198"/>
                  <a:pt x="19050" y="11237"/>
                </a:cubicBezTo>
                <a:cubicBezTo>
                  <a:pt x="19072" y="11262"/>
                  <a:pt x="19135" y="11322"/>
                  <a:pt x="19174" y="11361"/>
                </a:cubicBezTo>
                <a:cubicBezTo>
                  <a:pt x="19216" y="11403"/>
                  <a:pt x="19242" y="11452"/>
                  <a:pt x="19273" y="11485"/>
                </a:cubicBezTo>
                <a:cubicBezTo>
                  <a:pt x="19313" y="11527"/>
                  <a:pt x="19353" y="11559"/>
                  <a:pt x="19397" y="11584"/>
                </a:cubicBezTo>
                <a:cubicBezTo>
                  <a:pt x="19433" y="11604"/>
                  <a:pt x="19459" y="11638"/>
                  <a:pt x="19496" y="11658"/>
                </a:cubicBezTo>
                <a:cubicBezTo>
                  <a:pt x="19504" y="11658"/>
                  <a:pt x="19513" y="11658"/>
                  <a:pt x="19521" y="11658"/>
                </a:cubicBezTo>
                <a:cubicBezTo>
                  <a:pt x="19507" y="11616"/>
                  <a:pt x="19511" y="11575"/>
                  <a:pt x="19496" y="11534"/>
                </a:cubicBezTo>
                <a:cubicBezTo>
                  <a:pt x="19483" y="11498"/>
                  <a:pt x="19463" y="11447"/>
                  <a:pt x="19447" y="11410"/>
                </a:cubicBezTo>
                <a:cubicBezTo>
                  <a:pt x="19422" y="11353"/>
                  <a:pt x="19415" y="11346"/>
                  <a:pt x="19397" y="11311"/>
                </a:cubicBezTo>
                <a:cubicBezTo>
                  <a:pt x="19387" y="11292"/>
                  <a:pt x="19364" y="11226"/>
                  <a:pt x="19348" y="11187"/>
                </a:cubicBezTo>
                <a:cubicBezTo>
                  <a:pt x="19328" y="11140"/>
                  <a:pt x="19319" y="11129"/>
                  <a:pt x="19298" y="11088"/>
                </a:cubicBezTo>
                <a:cubicBezTo>
                  <a:pt x="19272" y="11037"/>
                  <a:pt x="19256" y="11026"/>
                  <a:pt x="19248" y="10964"/>
                </a:cubicBezTo>
                <a:cubicBezTo>
                  <a:pt x="19239" y="10896"/>
                  <a:pt x="19244" y="10830"/>
                  <a:pt x="19224" y="10765"/>
                </a:cubicBezTo>
                <a:cubicBezTo>
                  <a:pt x="19207" y="10710"/>
                  <a:pt x="19218" y="10724"/>
                  <a:pt x="19199" y="10666"/>
                </a:cubicBezTo>
                <a:cubicBezTo>
                  <a:pt x="19184" y="10618"/>
                  <a:pt x="19170" y="10594"/>
                  <a:pt x="19149" y="10542"/>
                </a:cubicBezTo>
                <a:cubicBezTo>
                  <a:pt x="19133" y="10502"/>
                  <a:pt x="19139" y="10458"/>
                  <a:pt x="19124" y="10418"/>
                </a:cubicBezTo>
                <a:cubicBezTo>
                  <a:pt x="19110" y="10382"/>
                  <a:pt x="19091" y="10391"/>
                  <a:pt x="19075" y="10368"/>
                </a:cubicBezTo>
                <a:cubicBezTo>
                  <a:pt x="19061" y="10347"/>
                  <a:pt x="19031" y="10303"/>
                  <a:pt x="19025" y="10294"/>
                </a:cubicBezTo>
                <a:cubicBezTo>
                  <a:pt x="19006" y="10266"/>
                  <a:pt x="18990" y="10210"/>
                  <a:pt x="18976" y="10170"/>
                </a:cubicBezTo>
                <a:cubicBezTo>
                  <a:pt x="18964" y="10136"/>
                  <a:pt x="18963" y="10104"/>
                  <a:pt x="18951" y="10071"/>
                </a:cubicBezTo>
                <a:cubicBezTo>
                  <a:pt x="18936" y="10031"/>
                  <a:pt x="18931" y="9990"/>
                  <a:pt x="18926" y="9947"/>
                </a:cubicBezTo>
                <a:cubicBezTo>
                  <a:pt x="18918" y="9874"/>
                  <a:pt x="18923" y="9853"/>
                  <a:pt x="18901" y="9798"/>
                </a:cubicBezTo>
                <a:cubicBezTo>
                  <a:pt x="18887" y="9764"/>
                  <a:pt x="18887" y="9735"/>
                  <a:pt x="18876" y="9699"/>
                </a:cubicBezTo>
                <a:cubicBezTo>
                  <a:pt x="18862" y="9650"/>
                  <a:pt x="18845" y="9576"/>
                  <a:pt x="18827" y="9525"/>
                </a:cubicBezTo>
                <a:cubicBezTo>
                  <a:pt x="18807" y="9469"/>
                  <a:pt x="18819" y="9479"/>
                  <a:pt x="18802" y="9426"/>
                </a:cubicBezTo>
                <a:cubicBezTo>
                  <a:pt x="18791" y="9392"/>
                  <a:pt x="18797" y="9356"/>
                  <a:pt x="18777" y="9327"/>
                </a:cubicBezTo>
                <a:cubicBezTo>
                  <a:pt x="18757" y="9297"/>
                  <a:pt x="18639" y="9163"/>
                  <a:pt x="18604" y="9178"/>
                </a:cubicBezTo>
                <a:cubicBezTo>
                  <a:pt x="18556" y="9198"/>
                  <a:pt x="18568" y="9218"/>
                  <a:pt x="18529" y="9252"/>
                </a:cubicBezTo>
              </a:path>
              <a:path w="4888" h="4193">
                <a:moveTo>
                  <a:pt x="18554" y="10939"/>
                </a:moveTo>
                <a:cubicBezTo>
                  <a:pt x="18501" y="10947"/>
                  <a:pt x="18470" y="10953"/>
                  <a:pt x="18430" y="10988"/>
                </a:cubicBezTo>
                <a:cubicBezTo>
                  <a:pt x="18396" y="11018"/>
                  <a:pt x="18362" y="11042"/>
                  <a:pt x="18331" y="11063"/>
                </a:cubicBezTo>
                <a:cubicBezTo>
                  <a:pt x="18274" y="11102"/>
                  <a:pt x="18173" y="11200"/>
                  <a:pt x="18157" y="11261"/>
                </a:cubicBezTo>
                <a:cubicBezTo>
                  <a:pt x="18127" y="11276"/>
                  <a:pt x="18113" y="11296"/>
                  <a:pt x="18083" y="11311"/>
                </a:cubicBezTo>
                <a:cubicBezTo>
                  <a:pt x="18074" y="11368"/>
                  <a:pt x="18073" y="11365"/>
                  <a:pt x="18033" y="11410"/>
                </a:cubicBezTo>
                <a:cubicBezTo>
                  <a:pt x="18010" y="11433"/>
                  <a:pt x="18002" y="11437"/>
                  <a:pt x="18008" y="11460"/>
                </a:cubicBezTo>
                <a:cubicBezTo>
                  <a:pt x="17969" y="11473"/>
                  <a:pt x="17967" y="11515"/>
                  <a:pt x="17934" y="11559"/>
                </a:cubicBezTo>
                <a:cubicBezTo>
                  <a:pt x="17909" y="11592"/>
                  <a:pt x="17894" y="11595"/>
                  <a:pt x="17884" y="11633"/>
                </a:cubicBezTo>
                <a:cubicBezTo>
                  <a:pt x="17845" y="11646"/>
                  <a:pt x="17874" y="11645"/>
                  <a:pt x="17835" y="11658"/>
                </a:cubicBezTo>
              </a:path>
              <a:path w="4888" h="4193">
                <a:moveTo>
                  <a:pt x="17239" y="10889"/>
                </a:moveTo>
                <a:cubicBezTo>
                  <a:pt x="17214" y="10889"/>
                  <a:pt x="17190" y="10889"/>
                  <a:pt x="17165" y="10889"/>
                </a:cubicBezTo>
                <a:cubicBezTo>
                  <a:pt x="17175" y="10928"/>
                  <a:pt x="17202" y="10952"/>
                  <a:pt x="17214" y="10988"/>
                </a:cubicBezTo>
                <a:cubicBezTo>
                  <a:pt x="17214" y="10996"/>
                  <a:pt x="17214" y="11005"/>
                  <a:pt x="17214" y="11013"/>
                </a:cubicBezTo>
                <a:cubicBezTo>
                  <a:pt x="17249" y="11025"/>
                  <a:pt x="17243" y="11068"/>
                  <a:pt x="17289" y="11088"/>
                </a:cubicBezTo>
                <a:cubicBezTo>
                  <a:pt x="17341" y="11111"/>
                  <a:pt x="17342" y="11156"/>
                  <a:pt x="17388" y="11187"/>
                </a:cubicBezTo>
                <a:cubicBezTo>
                  <a:pt x="17417" y="11207"/>
                  <a:pt x="17473" y="11269"/>
                  <a:pt x="17512" y="11286"/>
                </a:cubicBezTo>
                <a:cubicBezTo>
                  <a:pt x="17527" y="11292"/>
                  <a:pt x="17620" y="11364"/>
                  <a:pt x="17636" y="11385"/>
                </a:cubicBezTo>
                <a:cubicBezTo>
                  <a:pt x="17636" y="11393"/>
                  <a:pt x="17636" y="11402"/>
                  <a:pt x="17636" y="11410"/>
                </a:cubicBezTo>
                <a:cubicBezTo>
                  <a:pt x="17654" y="11419"/>
                  <a:pt x="17721" y="11487"/>
                  <a:pt x="17735" y="11509"/>
                </a:cubicBezTo>
                <a:cubicBezTo>
                  <a:pt x="17735" y="11517"/>
                  <a:pt x="17735" y="11526"/>
                  <a:pt x="17735" y="11534"/>
                </a:cubicBezTo>
                <a:cubicBezTo>
                  <a:pt x="17775" y="11547"/>
                  <a:pt x="17745" y="11546"/>
                  <a:pt x="17785" y="11559"/>
                </a:cubicBezTo>
                <a:cubicBezTo>
                  <a:pt x="17804" y="11596"/>
                  <a:pt x="17847" y="11621"/>
                  <a:pt x="17884" y="11658"/>
                </a:cubicBezTo>
              </a:path>
              <a:path w="4888" h="4193">
                <a:moveTo>
                  <a:pt x="17884" y="11286"/>
                </a:moveTo>
                <a:cubicBezTo>
                  <a:pt x="17927" y="11347"/>
                  <a:pt x="17924" y="11370"/>
                  <a:pt x="17983" y="11385"/>
                </a:cubicBezTo>
                <a:cubicBezTo>
                  <a:pt x="17914" y="11377"/>
                  <a:pt x="17866" y="11354"/>
                  <a:pt x="17810" y="11311"/>
                </a:cubicBezTo>
                <a:cubicBezTo>
                  <a:pt x="17780" y="11288"/>
                  <a:pt x="17749" y="11265"/>
                  <a:pt x="17711" y="11261"/>
                </a:cubicBezTo>
                <a:cubicBezTo>
                  <a:pt x="17647" y="11254"/>
                  <a:pt x="17666" y="11291"/>
                  <a:pt x="17636" y="11311"/>
                </a:cubicBezTo>
                <a:cubicBezTo>
                  <a:pt x="17618" y="11323"/>
                  <a:pt x="17603" y="11375"/>
                  <a:pt x="17587" y="11385"/>
                </a:cubicBezTo>
                <a:cubicBezTo>
                  <a:pt x="17559" y="11385"/>
                  <a:pt x="17553" y="11387"/>
                  <a:pt x="17587" y="11410"/>
                </a:cubicBezTo>
              </a:path>
              <a:path w="4888" h="4193">
                <a:moveTo>
                  <a:pt x="17587" y="11460"/>
                </a:moveTo>
                <a:cubicBezTo>
                  <a:pt x="17629" y="11449"/>
                  <a:pt x="17666" y="11397"/>
                  <a:pt x="17686" y="11385"/>
                </a:cubicBezTo>
                <a:cubicBezTo>
                  <a:pt x="17694" y="11385"/>
                  <a:pt x="17703" y="11385"/>
                  <a:pt x="17711" y="113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8880" y="2125800"/>
            <a:ext cx="1305000" cy="517320"/>
          </a:xfrm>
          <a:custGeom>
            <a:avLst/>
            <a:gdLst/>
            <a:ahLst/>
            <a:rect l="l" t="t" r="r" b="b"/>
            <a:pathLst>
              <a:path w="3623" h="1439">
                <a:moveTo>
                  <a:pt x="2505" y="6697"/>
                </a:moveTo>
                <a:cubicBezTo>
                  <a:pt x="2450" y="6642"/>
                  <a:pt x="2363" y="6609"/>
                  <a:pt x="2282" y="6672"/>
                </a:cubicBezTo>
                <a:cubicBezTo>
                  <a:pt x="1986" y="6904"/>
                  <a:pt x="2110" y="7184"/>
                  <a:pt x="2332" y="7342"/>
                </a:cubicBezTo>
                <a:cubicBezTo>
                  <a:pt x="2534" y="7154"/>
                  <a:pt x="2891" y="6805"/>
                  <a:pt x="2505" y="6548"/>
                </a:cubicBezTo>
                <a:cubicBezTo>
                  <a:pt x="2410" y="6572"/>
                  <a:pt x="2379" y="6577"/>
                  <a:pt x="2356" y="6648"/>
                </a:cubicBezTo>
              </a:path>
              <a:path w="3623" h="1439">
                <a:moveTo>
                  <a:pt x="2902" y="6796"/>
                </a:moveTo>
                <a:cubicBezTo>
                  <a:pt x="2945" y="6904"/>
                  <a:pt x="2956" y="6927"/>
                  <a:pt x="2977" y="6995"/>
                </a:cubicBezTo>
                <a:cubicBezTo>
                  <a:pt x="2939" y="6845"/>
                  <a:pt x="2868" y="6744"/>
                  <a:pt x="2952" y="6598"/>
                </a:cubicBezTo>
                <a:cubicBezTo>
                  <a:pt x="2968" y="6581"/>
                  <a:pt x="2985" y="6565"/>
                  <a:pt x="3001" y="6548"/>
                </a:cubicBezTo>
              </a:path>
              <a:path w="3623" h="1439">
                <a:moveTo>
                  <a:pt x="3398" y="6772"/>
                </a:moveTo>
                <a:cubicBezTo>
                  <a:pt x="3419" y="6799"/>
                  <a:pt x="3529" y="6923"/>
                  <a:pt x="3423" y="6796"/>
                </a:cubicBezTo>
              </a:path>
              <a:path w="3623" h="1439">
                <a:moveTo>
                  <a:pt x="3249" y="6499"/>
                </a:moveTo>
                <a:cubicBezTo>
                  <a:pt x="3216" y="6499"/>
                  <a:pt x="3208" y="6490"/>
                  <a:pt x="3225" y="6449"/>
                </a:cubicBezTo>
              </a:path>
              <a:path w="3623" h="1439">
                <a:moveTo>
                  <a:pt x="3225" y="6449"/>
                </a:moveTo>
                <a:lnTo>
                  <a:pt x="3225" y="6449"/>
                </a:lnTo>
              </a:path>
              <a:path w="3623" h="1439">
                <a:moveTo>
                  <a:pt x="3597" y="6474"/>
                </a:moveTo>
                <a:cubicBezTo>
                  <a:pt x="3610" y="6627"/>
                  <a:pt x="3611" y="6694"/>
                  <a:pt x="3696" y="6821"/>
                </a:cubicBezTo>
                <a:cubicBezTo>
                  <a:pt x="3707" y="6703"/>
                  <a:pt x="3706" y="6618"/>
                  <a:pt x="3696" y="6499"/>
                </a:cubicBezTo>
                <a:cubicBezTo>
                  <a:pt x="3822" y="6624"/>
                  <a:pt x="4014" y="6895"/>
                  <a:pt x="4043" y="7094"/>
                </a:cubicBezTo>
                <a:cubicBezTo>
                  <a:pt x="4091" y="7426"/>
                  <a:pt x="3831" y="7341"/>
                  <a:pt x="3721" y="7193"/>
                </a:cubicBezTo>
              </a:path>
              <a:path w="3623" h="1439">
                <a:moveTo>
                  <a:pt x="4068" y="6573"/>
                </a:moveTo>
                <a:cubicBezTo>
                  <a:pt x="4134" y="6670"/>
                  <a:pt x="4305" y="6920"/>
                  <a:pt x="4242" y="6821"/>
                </a:cubicBezTo>
                <a:cubicBezTo>
                  <a:pt x="4209" y="6763"/>
                  <a:pt x="4175" y="6706"/>
                  <a:pt x="4142" y="6648"/>
                </a:cubicBezTo>
              </a:path>
              <a:path w="3623" h="1439">
                <a:moveTo>
                  <a:pt x="3919" y="6424"/>
                </a:moveTo>
                <a:lnTo>
                  <a:pt x="3919" y="6424"/>
                </a:lnTo>
              </a:path>
              <a:path w="3623" h="1439">
                <a:moveTo>
                  <a:pt x="4341" y="6499"/>
                </a:moveTo>
                <a:cubicBezTo>
                  <a:pt x="4402" y="6543"/>
                  <a:pt x="4502" y="6647"/>
                  <a:pt x="4539" y="6722"/>
                </a:cubicBezTo>
                <a:cubicBezTo>
                  <a:pt x="4513" y="6617"/>
                  <a:pt x="4476" y="6519"/>
                  <a:pt x="4465" y="6400"/>
                </a:cubicBezTo>
                <a:cubicBezTo>
                  <a:pt x="4632" y="6446"/>
                  <a:pt x="4678" y="6541"/>
                  <a:pt x="4787" y="6672"/>
                </a:cubicBezTo>
              </a:path>
              <a:path w="3623" h="1439">
                <a:moveTo>
                  <a:pt x="4862" y="6375"/>
                </a:moveTo>
                <a:cubicBezTo>
                  <a:pt x="4854" y="6606"/>
                  <a:pt x="4787" y="6644"/>
                  <a:pt x="4986" y="6672"/>
                </a:cubicBezTo>
                <a:cubicBezTo>
                  <a:pt x="5021" y="6531"/>
                  <a:pt x="4841" y="6325"/>
                  <a:pt x="4986" y="6325"/>
                </a:cubicBezTo>
                <a:cubicBezTo>
                  <a:pt x="5110" y="6449"/>
                  <a:pt x="5110" y="6459"/>
                  <a:pt x="5283" y="6449"/>
                </a:cubicBezTo>
              </a:path>
              <a:path w="3623" h="1439">
                <a:moveTo>
                  <a:pt x="5159" y="5928"/>
                </a:moveTo>
                <a:cubicBezTo>
                  <a:pt x="5293" y="6158"/>
                  <a:pt x="5430" y="6380"/>
                  <a:pt x="5581" y="6598"/>
                </a:cubicBezTo>
              </a:path>
              <a:path w="3623" h="1439">
                <a:moveTo>
                  <a:pt x="5259" y="6375"/>
                </a:moveTo>
                <a:cubicBezTo>
                  <a:pt x="5359" y="6341"/>
                  <a:pt x="5452" y="6305"/>
                  <a:pt x="5556" y="6276"/>
                </a:cubicBezTo>
              </a:path>
              <a:path w="3623" h="1439">
                <a:moveTo>
                  <a:pt x="4911" y="6102"/>
                </a:moveTo>
                <a:cubicBezTo>
                  <a:pt x="4911" y="6094"/>
                  <a:pt x="4911" y="6085"/>
                  <a:pt x="4911" y="6077"/>
                </a:cubicBezTo>
                <a:cubicBezTo>
                  <a:pt x="4944" y="6055"/>
                  <a:pt x="4935" y="6017"/>
                  <a:pt x="4961" y="5978"/>
                </a:cubicBezTo>
                <a:cubicBezTo>
                  <a:pt x="4984" y="5955"/>
                  <a:pt x="4988" y="5947"/>
                  <a:pt x="5011" y="5953"/>
                </a:cubicBezTo>
              </a:path>
              <a:path w="3623" h="1439">
                <a:moveTo>
                  <a:pt x="5085" y="5904"/>
                </a:moveTo>
                <a:cubicBezTo>
                  <a:pt x="5211" y="5954"/>
                  <a:pt x="5234" y="6084"/>
                  <a:pt x="5283" y="6201"/>
                </a:cubicBezTo>
                <a:cubicBezTo>
                  <a:pt x="5308" y="6259"/>
                  <a:pt x="5351" y="6578"/>
                  <a:pt x="5457" y="6573"/>
                </a:cubicBezTo>
                <a:cubicBezTo>
                  <a:pt x="5600" y="6566"/>
                  <a:pt x="5619" y="6429"/>
                  <a:pt x="5705" y="6350"/>
                </a:cubicBezTo>
                <a:cubicBezTo>
                  <a:pt x="5713" y="6350"/>
                  <a:pt x="5722" y="6350"/>
                  <a:pt x="5730" y="63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33760" y="2098800"/>
            <a:ext cx="1152360" cy="446040"/>
          </a:xfrm>
          <a:custGeom>
            <a:avLst/>
            <a:gdLst/>
            <a:ahLst/>
            <a:rect l="l" t="t" r="r" b="b"/>
            <a:pathLst>
              <a:path w="3201" h="1241">
                <a:moveTo>
                  <a:pt x="7317" y="6400"/>
                </a:moveTo>
                <a:cubicBezTo>
                  <a:pt x="7390" y="6591"/>
                  <a:pt x="7522" y="6770"/>
                  <a:pt x="7590" y="6970"/>
                </a:cubicBezTo>
                <a:cubicBezTo>
                  <a:pt x="7603" y="7009"/>
                  <a:pt x="7590" y="7086"/>
                  <a:pt x="7590" y="7045"/>
                </a:cubicBezTo>
              </a:path>
              <a:path w="3201" h="1241">
                <a:moveTo>
                  <a:pt x="7541" y="6796"/>
                </a:moveTo>
                <a:cubicBezTo>
                  <a:pt x="7471" y="6617"/>
                  <a:pt x="7425" y="6533"/>
                  <a:pt x="7541" y="6350"/>
                </a:cubicBezTo>
                <a:cubicBezTo>
                  <a:pt x="7627" y="6214"/>
                  <a:pt x="7712" y="6267"/>
                  <a:pt x="7838" y="6300"/>
                </a:cubicBezTo>
              </a:path>
              <a:path w="3201" h="1241">
                <a:moveTo>
                  <a:pt x="8012" y="6350"/>
                </a:moveTo>
                <a:cubicBezTo>
                  <a:pt x="7846" y="6391"/>
                  <a:pt x="7735" y="6588"/>
                  <a:pt x="7838" y="6772"/>
                </a:cubicBezTo>
                <a:cubicBezTo>
                  <a:pt x="7871" y="6788"/>
                  <a:pt x="7905" y="6805"/>
                  <a:pt x="7938" y="6821"/>
                </a:cubicBezTo>
                <a:cubicBezTo>
                  <a:pt x="8103" y="6721"/>
                  <a:pt x="8275" y="6556"/>
                  <a:pt x="8012" y="6424"/>
                </a:cubicBezTo>
                <a:cubicBezTo>
                  <a:pt x="7955" y="6424"/>
                  <a:pt x="7913" y="6424"/>
                  <a:pt x="7962" y="6424"/>
                </a:cubicBezTo>
              </a:path>
              <a:path w="3201" h="1241">
                <a:moveTo>
                  <a:pt x="8285" y="6052"/>
                </a:moveTo>
                <a:cubicBezTo>
                  <a:pt x="8404" y="6253"/>
                  <a:pt x="8537" y="6446"/>
                  <a:pt x="8657" y="6648"/>
                </a:cubicBezTo>
              </a:path>
              <a:path w="3201" h="1241">
                <a:moveTo>
                  <a:pt x="8285" y="6424"/>
                </a:moveTo>
                <a:cubicBezTo>
                  <a:pt x="8461" y="6358"/>
                  <a:pt x="8597" y="6300"/>
                  <a:pt x="8781" y="6325"/>
                </a:cubicBezTo>
              </a:path>
              <a:path w="3201" h="1241">
                <a:moveTo>
                  <a:pt x="8905" y="6350"/>
                </a:moveTo>
                <a:cubicBezTo>
                  <a:pt x="8880" y="6325"/>
                  <a:pt x="8872" y="6317"/>
                  <a:pt x="8855" y="6300"/>
                </a:cubicBezTo>
                <a:cubicBezTo>
                  <a:pt x="8776" y="6362"/>
                  <a:pt x="8562" y="6603"/>
                  <a:pt x="8731" y="6697"/>
                </a:cubicBezTo>
                <a:cubicBezTo>
                  <a:pt x="8972" y="6832"/>
                  <a:pt x="8987" y="6463"/>
                  <a:pt x="8880" y="6350"/>
                </a:cubicBezTo>
                <a:cubicBezTo>
                  <a:pt x="8863" y="6350"/>
                  <a:pt x="8847" y="6350"/>
                  <a:pt x="8830" y="6350"/>
                </a:cubicBezTo>
                <a:cubicBezTo>
                  <a:pt x="8888" y="6423"/>
                  <a:pt x="9053" y="6616"/>
                  <a:pt x="9178" y="6548"/>
                </a:cubicBezTo>
                <a:cubicBezTo>
                  <a:pt x="9194" y="6523"/>
                  <a:pt x="9211" y="6499"/>
                  <a:pt x="9227" y="6474"/>
                </a:cubicBezTo>
              </a:path>
              <a:path w="3201" h="1241">
                <a:moveTo>
                  <a:pt x="9103" y="5978"/>
                </a:moveTo>
                <a:cubicBezTo>
                  <a:pt x="9216" y="6163"/>
                  <a:pt x="9342" y="6337"/>
                  <a:pt x="9451" y="6524"/>
                </a:cubicBezTo>
              </a:path>
              <a:path w="3201" h="1241">
                <a:moveTo>
                  <a:pt x="9079" y="6325"/>
                </a:moveTo>
                <a:cubicBezTo>
                  <a:pt x="9157" y="6317"/>
                  <a:pt x="9438" y="6214"/>
                  <a:pt x="9500" y="6276"/>
                </a:cubicBezTo>
                <a:cubicBezTo>
                  <a:pt x="9500" y="6292"/>
                  <a:pt x="9500" y="6309"/>
                  <a:pt x="9500" y="6325"/>
                </a:cubicBezTo>
              </a:path>
              <a:path w="3201" h="1241">
                <a:moveTo>
                  <a:pt x="9599" y="6350"/>
                </a:moveTo>
                <a:cubicBezTo>
                  <a:pt x="9670" y="6322"/>
                  <a:pt x="9675" y="6324"/>
                  <a:pt x="9723" y="6276"/>
                </a:cubicBezTo>
                <a:cubicBezTo>
                  <a:pt x="9711" y="6203"/>
                  <a:pt x="9607" y="6156"/>
                  <a:pt x="9550" y="6251"/>
                </a:cubicBezTo>
                <a:cubicBezTo>
                  <a:pt x="9394" y="6511"/>
                  <a:pt x="9679" y="6534"/>
                  <a:pt x="9847" y="6548"/>
                </a:cubicBezTo>
              </a:path>
              <a:path w="3201" h="1241">
                <a:moveTo>
                  <a:pt x="10220" y="6152"/>
                </a:moveTo>
                <a:cubicBezTo>
                  <a:pt x="10084" y="6084"/>
                  <a:pt x="10014" y="6120"/>
                  <a:pt x="9947" y="6276"/>
                </a:cubicBezTo>
                <a:cubicBezTo>
                  <a:pt x="9865" y="6467"/>
                  <a:pt x="10045" y="6668"/>
                  <a:pt x="10244" y="6548"/>
                </a:cubicBezTo>
                <a:cubicBezTo>
                  <a:pt x="10352" y="6414"/>
                  <a:pt x="10385" y="6360"/>
                  <a:pt x="10344" y="6226"/>
                </a:cubicBezTo>
              </a:path>
              <a:path w="3201" h="1241">
                <a:moveTo>
                  <a:pt x="10120" y="5829"/>
                </a:moveTo>
                <a:cubicBezTo>
                  <a:pt x="10195" y="6035"/>
                  <a:pt x="10322" y="6215"/>
                  <a:pt x="10443" y="6400"/>
                </a:cubicBezTo>
                <a:cubicBezTo>
                  <a:pt x="10480" y="6456"/>
                  <a:pt x="10475" y="6481"/>
                  <a:pt x="10517" y="64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24040" y="2438280"/>
            <a:ext cx="749160" cy="320760"/>
          </a:xfrm>
          <a:custGeom>
            <a:avLst/>
            <a:gdLst/>
            <a:ahLst/>
            <a:rect l="l" t="t" r="r" b="b"/>
            <a:pathLst>
              <a:path w="2085" h="894">
                <a:moveTo>
                  <a:pt x="5110" y="7069"/>
                </a:moveTo>
                <a:cubicBezTo>
                  <a:pt x="4998" y="6996"/>
                  <a:pt x="4946" y="6901"/>
                  <a:pt x="4837" y="7045"/>
                </a:cubicBezTo>
                <a:cubicBezTo>
                  <a:pt x="4795" y="7127"/>
                  <a:pt x="4770" y="7144"/>
                  <a:pt x="4812" y="7193"/>
                </a:cubicBezTo>
                <a:cubicBezTo>
                  <a:pt x="4978" y="7180"/>
                  <a:pt x="4948" y="7121"/>
                  <a:pt x="5060" y="7020"/>
                </a:cubicBezTo>
                <a:cubicBezTo>
                  <a:pt x="5068" y="7020"/>
                  <a:pt x="5077" y="7020"/>
                  <a:pt x="5085" y="7020"/>
                </a:cubicBezTo>
                <a:cubicBezTo>
                  <a:pt x="5085" y="7218"/>
                  <a:pt x="5085" y="7417"/>
                  <a:pt x="5085" y="7615"/>
                </a:cubicBezTo>
              </a:path>
              <a:path w="2085" h="894">
                <a:moveTo>
                  <a:pt x="5259" y="7069"/>
                </a:moveTo>
                <a:cubicBezTo>
                  <a:pt x="5191" y="7175"/>
                  <a:pt x="5121" y="7388"/>
                  <a:pt x="5209" y="7516"/>
                </a:cubicBezTo>
                <a:cubicBezTo>
                  <a:pt x="5234" y="7524"/>
                  <a:pt x="5258" y="7533"/>
                  <a:pt x="5283" y="7541"/>
                </a:cubicBezTo>
                <a:cubicBezTo>
                  <a:pt x="5394" y="7467"/>
                  <a:pt x="5497" y="7370"/>
                  <a:pt x="5432" y="7218"/>
                </a:cubicBezTo>
                <a:cubicBezTo>
                  <a:pt x="5392" y="7124"/>
                  <a:pt x="5345" y="7129"/>
                  <a:pt x="5259" y="7119"/>
                </a:cubicBezTo>
              </a:path>
              <a:path w="2085" h="894">
                <a:moveTo>
                  <a:pt x="5655" y="6772"/>
                </a:moveTo>
                <a:cubicBezTo>
                  <a:pt x="5592" y="6788"/>
                  <a:pt x="5554" y="6858"/>
                  <a:pt x="5531" y="6921"/>
                </a:cubicBezTo>
                <a:cubicBezTo>
                  <a:pt x="5531" y="6929"/>
                  <a:pt x="5531" y="6937"/>
                  <a:pt x="5531" y="6945"/>
                </a:cubicBezTo>
                <a:cubicBezTo>
                  <a:pt x="5598" y="6945"/>
                  <a:pt x="5676" y="6957"/>
                  <a:pt x="5655" y="6846"/>
                </a:cubicBezTo>
                <a:cubicBezTo>
                  <a:pt x="5647" y="6846"/>
                  <a:pt x="5639" y="6846"/>
                  <a:pt x="5631" y="6846"/>
                </a:cubicBezTo>
              </a:path>
              <a:path w="2085" h="894">
                <a:moveTo>
                  <a:pt x="6003" y="6896"/>
                </a:moveTo>
                <a:cubicBezTo>
                  <a:pt x="6040" y="7025"/>
                  <a:pt x="6052" y="7134"/>
                  <a:pt x="6052" y="7268"/>
                </a:cubicBezTo>
                <a:cubicBezTo>
                  <a:pt x="6052" y="7308"/>
                  <a:pt x="6077" y="7287"/>
                  <a:pt x="6077" y="7342"/>
                </a:cubicBezTo>
                <a:cubicBezTo>
                  <a:pt x="6077" y="7379"/>
                  <a:pt x="6087" y="7382"/>
                  <a:pt x="6077" y="7417"/>
                </a:cubicBezTo>
                <a:cubicBezTo>
                  <a:pt x="6063" y="7467"/>
                  <a:pt x="6052" y="7487"/>
                  <a:pt x="6052" y="7541"/>
                </a:cubicBezTo>
                <a:cubicBezTo>
                  <a:pt x="6172" y="7541"/>
                  <a:pt x="6259" y="7507"/>
                  <a:pt x="6375" y="7491"/>
                </a:cubicBezTo>
                <a:cubicBezTo>
                  <a:pt x="6477" y="7477"/>
                  <a:pt x="6594" y="7491"/>
                  <a:pt x="6697" y="7491"/>
                </a:cubicBezTo>
              </a:path>
              <a:path w="2085" h="894">
                <a:moveTo>
                  <a:pt x="6648" y="7293"/>
                </a:moveTo>
                <a:cubicBezTo>
                  <a:pt x="6609" y="7293"/>
                  <a:pt x="6709" y="7325"/>
                  <a:pt x="6747" y="7342"/>
                </a:cubicBezTo>
                <a:cubicBezTo>
                  <a:pt x="6790" y="7361"/>
                  <a:pt x="6831" y="7382"/>
                  <a:pt x="6871" y="7392"/>
                </a:cubicBezTo>
                <a:cubicBezTo>
                  <a:pt x="6825" y="7483"/>
                  <a:pt x="6725" y="7562"/>
                  <a:pt x="6648" y="7640"/>
                </a:cubicBezTo>
                <a:cubicBezTo>
                  <a:pt x="6640" y="7648"/>
                  <a:pt x="6631" y="7657"/>
                  <a:pt x="6623" y="7665"/>
                </a:cubicBezTo>
              </a:path>
              <a:path w="2085" h="894">
                <a:moveTo>
                  <a:pt x="5904" y="6995"/>
                </a:moveTo>
                <a:cubicBezTo>
                  <a:pt x="5904" y="6882"/>
                  <a:pt x="5851" y="7030"/>
                  <a:pt x="5829" y="7069"/>
                </a:cubicBezTo>
                <a:cubicBezTo>
                  <a:pt x="5770" y="7168"/>
                  <a:pt x="5759" y="7183"/>
                  <a:pt x="5730" y="7243"/>
                </a:cubicBezTo>
                <a:cubicBezTo>
                  <a:pt x="5757" y="7161"/>
                  <a:pt x="5813" y="7077"/>
                  <a:pt x="5854" y="6995"/>
                </a:cubicBezTo>
                <a:cubicBezTo>
                  <a:pt x="5882" y="6938"/>
                  <a:pt x="5906" y="6901"/>
                  <a:pt x="5978" y="6921"/>
                </a:cubicBezTo>
                <a:cubicBezTo>
                  <a:pt x="6062" y="6945"/>
                  <a:pt x="6123" y="7030"/>
                  <a:pt x="6201" y="7069"/>
                </a:cubicBezTo>
                <a:cubicBezTo>
                  <a:pt x="6251" y="7094"/>
                  <a:pt x="6272" y="7094"/>
                  <a:pt x="6325" y="70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36960" y="2554200"/>
            <a:ext cx="320760" cy="295200"/>
          </a:xfrm>
          <a:custGeom>
            <a:avLst/>
            <a:gdLst/>
            <a:ahLst/>
            <a:rect l="l" t="t" r="r" b="b"/>
            <a:pathLst>
              <a:path w="894" h="820">
                <a:moveTo>
                  <a:pt x="8508" y="7243"/>
                </a:moveTo>
                <a:cubicBezTo>
                  <a:pt x="8538" y="7327"/>
                  <a:pt x="8573" y="7507"/>
                  <a:pt x="8632" y="7565"/>
                </a:cubicBezTo>
                <a:cubicBezTo>
                  <a:pt x="8665" y="7565"/>
                  <a:pt x="8674" y="7573"/>
                  <a:pt x="8657" y="7615"/>
                </a:cubicBezTo>
              </a:path>
              <a:path w="894" h="820">
                <a:moveTo>
                  <a:pt x="8756" y="7193"/>
                </a:moveTo>
                <a:cubicBezTo>
                  <a:pt x="8660" y="7289"/>
                  <a:pt x="8571" y="7389"/>
                  <a:pt x="8483" y="7491"/>
                </a:cubicBezTo>
                <a:cubicBezTo>
                  <a:pt x="8445" y="7530"/>
                  <a:pt x="8428" y="7531"/>
                  <a:pt x="8434" y="7565"/>
                </a:cubicBezTo>
              </a:path>
              <a:path w="894" h="820">
                <a:moveTo>
                  <a:pt x="8806" y="7665"/>
                </a:moveTo>
                <a:cubicBezTo>
                  <a:pt x="8791" y="7758"/>
                  <a:pt x="8781" y="7820"/>
                  <a:pt x="8781" y="7913"/>
                </a:cubicBezTo>
              </a:path>
              <a:path w="894" h="820">
                <a:moveTo>
                  <a:pt x="9079" y="7293"/>
                </a:moveTo>
                <a:cubicBezTo>
                  <a:pt x="9139" y="7353"/>
                  <a:pt x="9221" y="7471"/>
                  <a:pt x="9302" y="7491"/>
                </a:cubicBezTo>
              </a:path>
              <a:path w="894" h="820">
                <a:moveTo>
                  <a:pt x="9327" y="7094"/>
                </a:moveTo>
                <a:cubicBezTo>
                  <a:pt x="9319" y="7286"/>
                  <a:pt x="9252" y="7499"/>
                  <a:pt x="9277" y="7689"/>
                </a:cubicBezTo>
                <a:cubicBezTo>
                  <a:pt x="9297" y="7730"/>
                  <a:pt x="9306" y="7736"/>
                  <a:pt x="9302" y="77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6040" y="2732040"/>
            <a:ext cx="1938240" cy="2170080"/>
          </a:xfrm>
          <a:custGeom>
            <a:avLst/>
            <a:gdLst/>
            <a:ahLst/>
            <a:rect l="l" t="t" r="r" b="b"/>
            <a:pathLst>
              <a:path w="5384" h="6029">
                <a:moveTo>
                  <a:pt x="1811" y="9971"/>
                </a:moveTo>
                <a:cubicBezTo>
                  <a:pt x="1718" y="9899"/>
                  <a:pt x="1645" y="9877"/>
                  <a:pt x="1538" y="9947"/>
                </a:cubicBezTo>
                <a:cubicBezTo>
                  <a:pt x="1373" y="10055"/>
                  <a:pt x="1099" y="10429"/>
                  <a:pt x="1265" y="10641"/>
                </a:cubicBezTo>
                <a:cubicBezTo>
                  <a:pt x="1394" y="10806"/>
                  <a:pt x="1784" y="10674"/>
                  <a:pt x="1860" y="10517"/>
                </a:cubicBezTo>
                <a:cubicBezTo>
                  <a:pt x="1949" y="10332"/>
                  <a:pt x="1648" y="10343"/>
                  <a:pt x="1563" y="10368"/>
                </a:cubicBezTo>
                <a:cubicBezTo>
                  <a:pt x="1474" y="10413"/>
                  <a:pt x="1428" y="10429"/>
                  <a:pt x="1538" y="10418"/>
                </a:cubicBezTo>
              </a:path>
              <a:path w="5384" h="6029">
                <a:moveTo>
                  <a:pt x="2629" y="9699"/>
                </a:moveTo>
                <a:cubicBezTo>
                  <a:pt x="2547" y="9615"/>
                  <a:pt x="2408" y="10110"/>
                  <a:pt x="2406" y="10120"/>
                </a:cubicBezTo>
                <a:cubicBezTo>
                  <a:pt x="2355" y="10370"/>
                  <a:pt x="2339" y="10592"/>
                  <a:pt x="2604" y="10666"/>
                </a:cubicBezTo>
                <a:cubicBezTo>
                  <a:pt x="2612" y="10666"/>
                  <a:pt x="2621" y="10666"/>
                  <a:pt x="2629" y="10666"/>
                </a:cubicBezTo>
              </a:path>
              <a:path w="5384" h="6029">
                <a:moveTo>
                  <a:pt x="2828" y="10269"/>
                </a:moveTo>
                <a:cubicBezTo>
                  <a:pt x="2910" y="10252"/>
                  <a:pt x="2968" y="10244"/>
                  <a:pt x="3051" y="10244"/>
                </a:cubicBezTo>
              </a:path>
              <a:path w="5384" h="6029">
                <a:moveTo>
                  <a:pt x="3175" y="9971"/>
                </a:moveTo>
                <a:cubicBezTo>
                  <a:pt x="3278" y="9921"/>
                  <a:pt x="3450" y="9868"/>
                  <a:pt x="3547" y="9971"/>
                </a:cubicBezTo>
                <a:cubicBezTo>
                  <a:pt x="3624" y="10054"/>
                  <a:pt x="3428" y="10148"/>
                  <a:pt x="3398" y="10170"/>
                </a:cubicBezTo>
                <a:cubicBezTo>
                  <a:pt x="3537" y="10140"/>
                  <a:pt x="3767" y="10116"/>
                  <a:pt x="3671" y="10344"/>
                </a:cubicBezTo>
                <a:cubicBezTo>
                  <a:pt x="3614" y="10478"/>
                  <a:pt x="3343" y="10560"/>
                  <a:pt x="3225" y="10468"/>
                </a:cubicBezTo>
                <a:cubicBezTo>
                  <a:pt x="3217" y="10443"/>
                  <a:pt x="3208" y="10418"/>
                  <a:pt x="3200" y="10393"/>
                </a:cubicBezTo>
              </a:path>
              <a:path w="5384" h="6029">
                <a:moveTo>
                  <a:pt x="3845" y="10368"/>
                </a:moveTo>
                <a:cubicBezTo>
                  <a:pt x="3904" y="10486"/>
                  <a:pt x="3822" y="10689"/>
                  <a:pt x="3944" y="10740"/>
                </a:cubicBezTo>
                <a:cubicBezTo>
                  <a:pt x="3952" y="10732"/>
                  <a:pt x="3961" y="10724"/>
                  <a:pt x="3969" y="10716"/>
                </a:cubicBezTo>
              </a:path>
              <a:path w="5384" h="6029">
                <a:moveTo>
                  <a:pt x="4192" y="10021"/>
                </a:moveTo>
                <a:cubicBezTo>
                  <a:pt x="4223" y="10159"/>
                  <a:pt x="4265" y="10269"/>
                  <a:pt x="4316" y="10393"/>
                </a:cubicBezTo>
                <a:cubicBezTo>
                  <a:pt x="4316" y="10421"/>
                  <a:pt x="4318" y="10427"/>
                  <a:pt x="4341" y="10393"/>
                </a:cubicBezTo>
              </a:path>
              <a:path w="5384" h="6029">
                <a:moveTo>
                  <a:pt x="4366" y="9575"/>
                </a:moveTo>
                <a:cubicBezTo>
                  <a:pt x="4613" y="9749"/>
                  <a:pt x="4845" y="9927"/>
                  <a:pt x="4961" y="10220"/>
                </a:cubicBezTo>
                <a:cubicBezTo>
                  <a:pt x="5029" y="10392"/>
                  <a:pt x="4932" y="10533"/>
                  <a:pt x="4837" y="10666"/>
                </a:cubicBezTo>
              </a:path>
              <a:path w="5384" h="6029">
                <a:moveTo>
                  <a:pt x="5804" y="7590"/>
                </a:moveTo>
                <a:cubicBezTo>
                  <a:pt x="5792" y="7623"/>
                  <a:pt x="5753" y="7662"/>
                  <a:pt x="5755" y="7739"/>
                </a:cubicBezTo>
                <a:cubicBezTo>
                  <a:pt x="5757" y="7825"/>
                  <a:pt x="5767" y="7900"/>
                  <a:pt x="5779" y="7987"/>
                </a:cubicBezTo>
                <a:cubicBezTo>
                  <a:pt x="5792" y="8087"/>
                  <a:pt x="5812" y="8187"/>
                  <a:pt x="5829" y="8285"/>
                </a:cubicBezTo>
                <a:cubicBezTo>
                  <a:pt x="5844" y="8372"/>
                  <a:pt x="5852" y="8451"/>
                  <a:pt x="5879" y="8533"/>
                </a:cubicBezTo>
                <a:cubicBezTo>
                  <a:pt x="5901" y="8601"/>
                  <a:pt x="5927" y="8694"/>
                  <a:pt x="5953" y="8756"/>
                </a:cubicBezTo>
                <a:cubicBezTo>
                  <a:pt x="5998" y="8862"/>
                  <a:pt x="6021" y="8946"/>
                  <a:pt x="6052" y="9054"/>
                </a:cubicBezTo>
                <a:cubicBezTo>
                  <a:pt x="6084" y="9165"/>
                  <a:pt x="6103" y="9267"/>
                  <a:pt x="6127" y="9376"/>
                </a:cubicBezTo>
                <a:cubicBezTo>
                  <a:pt x="6159" y="9519"/>
                  <a:pt x="6177" y="9654"/>
                  <a:pt x="6201" y="9798"/>
                </a:cubicBezTo>
                <a:cubicBezTo>
                  <a:pt x="6219" y="9903"/>
                  <a:pt x="6233" y="10011"/>
                  <a:pt x="6226" y="10120"/>
                </a:cubicBezTo>
                <a:cubicBezTo>
                  <a:pt x="6220" y="10206"/>
                  <a:pt x="6206" y="10283"/>
                  <a:pt x="6201" y="10368"/>
                </a:cubicBezTo>
                <a:cubicBezTo>
                  <a:pt x="6191" y="10552"/>
                  <a:pt x="6205" y="10735"/>
                  <a:pt x="6226" y="10914"/>
                </a:cubicBezTo>
                <a:cubicBezTo>
                  <a:pt x="6245" y="11079"/>
                  <a:pt x="6255" y="11244"/>
                  <a:pt x="6276" y="11410"/>
                </a:cubicBezTo>
                <a:cubicBezTo>
                  <a:pt x="6291" y="11533"/>
                  <a:pt x="6301" y="11662"/>
                  <a:pt x="6325" y="11782"/>
                </a:cubicBezTo>
                <a:cubicBezTo>
                  <a:pt x="6351" y="11908"/>
                  <a:pt x="6377" y="12030"/>
                  <a:pt x="6400" y="12154"/>
                </a:cubicBezTo>
                <a:cubicBezTo>
                  <a:pt x="6422" y="12273"/>
                  <a:pt x="6455" y="12385"/>
                  <a:pt x="6474" y="12502"/>
                </a:cubicBezTo>
                <a:cubicBezTo>
                  <a:pt x="6492" y="12613"/>
                  <a:pt x="6526" y="12713"/>
                  <a:pt x="6548" y="12824"/>
                </a:cubicBezTo>
                <a:cubicBezTo>
                  <a:pt x="6572" y="12943"/>
                  <a:pt x="6543" y="13040"/>
                  <a:pt x="6548" y="13146"/>
                </a:cubicBezTo>
                <a:cubicBezTo>
                  <a:pt x="6553" y="13252"/>
                  <a:pt x="6558" y="13388"/>
                  <a:pt x="6573" y="13494"/>
                </a:cubicBezTo>
                <a:cubicBezTo>
                  <a:pt x="6578" y="13532"/>
                  <a:pt x="6620" y="13608"/>
                  <a:pt x="6623" y="136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83000" y="3483000"/>
            <a:ext cx="34920" cy="731880"/>
          </a:xfrm>
          <a:custGeom>
            <a:avLst/>
            <a:gdLst/>
            <a:ahLst/>
            <a:rect l="l" t="t" r="r" b="b"/>
            <a:pathLst>
              <a:path w="100" h="2035">
                <a:moveTo>
                  <a:pt x="9674" y="9699"/>
                </a:moveTo>
                <a:cubicBezTo>
                  <a:pt x="9674" y="9637"/>
                  <a:pt x="9697" y="9761"/>
                  <a:pt x="9699" y="9823"/>
                </a:cubicBezTo>
                <a:cubicBezTo>
                  <a:pt x="9702" y="9918"/>
                  <a:pt x="9674" y="9963"/>
                  <a:pt x="9674" y="10046"/>
                </a:cubicBezTo>
                <a:cubicBezTo>
                  <a:pt x="9674" y="10054"/>
                  <a:pt x="9674" y="10063"/>
                  <a:pt x="9674" y="10071"/>
                </a:cubicBezTo>
              </a:path>
              <a:path w="100" h="2035">
                <a:moveTo>
                  <a:pt x="9748" y="11410"/>
                </a:moveTo>
                <a:cubicBezTo>
                  <a:pt x="9748" y="11337"/>
                  <a:pt x="9773" y="11574"/>
                  <a:pt x="9773" y="11584"/>
                </a:cubicBezTo>
                <a:cubicBezTo>
                  <a:pt x="9773" y="11658"/>
                  <a:pt x="9773" y="11667"/>
                  <a:pt x="9773" y="117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38320" y="2894040"/>
            <a:ext cx="731880" cy="419040"/>
          </a:xfrm>
          <a:custGeom>
            <a:avLst/>
            <a:gdLst/>
            <a:ahLst/>
            <a:rect l="l" t="t" r="r" b="b"/>
            <a:pathLst>
              <a:path w="2035" h="1167">
                <a:moveTo>
                  <a:pt x="8359" y="8037"/>
                </a:moveTo>
                <a:cubicBezTo>
                  <a:pt x="8225" y="8137"/>
                  <a:pt x="8206" y="8577"/>
                  <a:pt x="8186" y="8731"/>
                </a:cubicBezTo>
                <a:cubicBezTo>
                  <a:pt x="8165" y="8893"/>
                  <a:pt x="8102" y="9147"/>
                  <a:pt x="8310" y="9203"/>
                </a:cubicBezTo>
                <a:cubicBezTo>
                  <a:pt x="8349" y="9214"/>
                  <a:pt x="8350" y="9205"/>
                  <a:pt x="8359" y="9178"/>
                </a:cubicBezTo>
              </a:path>
              <a:path w="2035" h="1167">
                <a:moveTo>
                  <a:pt x="8582" y="8483"/>
                </a:moveTo>
                <a:cubicBezTo>
                  <a:pt x="8516" y="8460"/>
                  <a:pt x="8583" y="8380"/>
                  <a:pt x="8607" y="8334"/>
                </a:cubicBezTo>
                <a:cubicBezTo>
                  <a:pt x="8854" y="8356"/>
                  <a:pt x="8789" y="8654"/>
                  <a:pt x="8706" y="8855"/>
                </a:cubicBezTo>
                <a:cubicBezTo>
                  <a:pt x="8647" y="8998"/>
                  <a:pt x="8555" y="9078"/>
                  <a:pt x="8434" y="8979"/>
                </a:cubicBezTo>
                <a:cubicBezTo>
                  <a:pt x="8467" y="8845"/>
                  <a:pt x="8570" y="8745"/>
                  <a:pt x="8731" y="8830"/>
                </a:cubicBezTo>
                <a:cubicBezTo>
                  <a:pt x="8800" y="8867"/>
                  <a:pt x="8855" y="8953"/>
                  <a:pt x="8855" y="9029"/>
                </a:cubicBezTo>
              </a:path>
              <a:path w="2035" h="1167">
                <a:moveTo>
                  <a:pt x="9103" y="8905"/>
                </a:moveTo>
                <a:cubicBezTo>
                  <a:pt x="9135" y="8983"/>
                  <a:pt x="9147" y="9044"/>
                  <a:pt x="9153" y="9128"/>
                </a:cubicBezTo>
              </a:path>
              <a:path w="2035" h="1167">
                <a:moveTo>
                  <a:pt x="9550" y="8434"/>
                </a:moveTo>
                <a:cubicBezTo>
                  <a:pt x="9525" y="8359"/>
                  <a:pt x="9447" y="8454"/>
                  <a:pt x="9426" y="8508"/>
                </a:cubicBezTo>
                <a:cubicBezTo>
                  <a:pt x="9351" y="8702"/>
                  <a:pt x="9381" y="8826"/>
                  <a:pt x="9451" y="9004"/>
                </a:cubicBezTo>
                <a:cubicBezTo>
                  <a:pt x="9601" y="8969"/>
                  <a:pt x="9836" y="8847"/>
                  <a:pt x="9798" y="8632"/>
                </a:cubicBezTo>
                <a:cubicBezTo>
                  <a:pt x="9776" y="8509"/>
                  <a:pt x="9669" y="8462"/>
                  <a:pt x="9575" y="8434"/>
                </a:cubicBezTo>
              </a:path>
              <a:path w="2035" h="1167">
                <a:moveTo>
                  <a:pt x="9872" y="8086"/>
                </a:moveTo>
                <a:cubicBezTo>
                  <a:pt x="10141" y="8292"/>
                  <a:pt x="10189" y="8493"/>
                  <a:pt x="10170" y="8830"/>
                </a:cubicBezTo>
                <a:cubicBezTo>
                  <a:pt x="10163" y="8949"/>
                  <a:pt x="10132" y="9060"/>
                  <a:pt x="10021" y="91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7040" y="3000240"/>
            <a:ext cx="1135080" cy="366840"/>
          </a:xfrm>
          <a:custGeom>
            <a:avLst/>
            <a:gdLst/>
            <a:ahLst/>
            <a:rect l="l" t="t" r="r" b="b"/>
            <a:pathLst>
              <a:path w="3152" h="1018">
                <a:moveTo>
                  <a:pt x="1538" y="8607"/>
                </a:moveTo>
                <a:cubicBezTo>
                  <a:pt x="1538" y="8449"/>
                  <a:pt x="1567" y="8871"/>
                  <a:pt x="1563" y="9029"/>
                </a:cubicBezTo>
                <a:cubicBezTo>
                  <a:pt x="1543" y="9169"/>
                  <a:pt x="1534" y="9193"/>
                  <a:pt x="1538" y="9277"/>
                </a:cubicBezTo>
                <a:cubicBezTo>
                  <a:pt x="1538" y="9059"/>
                  <a:pt x="1521" y="8873"/>
                  <a:pt x="1488" y="8657"/>
                </a:cubicBezTo>
                <a:cubicBezTo>
                  <a:pt x="1475" y="8569"/>
                  <a:pt x="1463" y="8531"/>
                  <a:pt x="1463" y="8458"/>
                </a:cubicBezTo>
                <a:cubicBezTo>
                  <a:pt x="1629" y="8438"/>
                  <a:pt x="1795" y="8407"/>
                  <a:pt x="1960" y="8384"/>
                </a:cubicBezTo>
                <a:cubicBezTo>
                  <a:pt x="1984" y="8384"/>
                  <a:pt x="1992" y="8384"/>
                  <a:pt x="1984" y="8409"/>
                </a:cubicBezTo>
              </a:path>
              <a:path w="3152" h="1018">
                <a:moveTo>
                  <a:pt x="1488" y="8830"/>
                </a:moveTo>
                <a:cubicBezTo>
                  <a:pt x="1623" y="8807"/>
                  <a:pt x="1730" y="8805"/>
                  <a:pt x="1860" y="8830"/>
                </a:cubicBezTo>
                <a:cubicBezTo>
                  <a:pt x="1868" y="8830"/>
                  <a:pt x="1877" y="8830"/>
                  <a:pt x="1885" y="8830"/>
                </a:cubicBezTo>
              </a:path>
              <a:path w="3152" h="1018">
                <a:moveTo>
                  <a:pt x="2480" y="8384"/>
                </a:moveTo>
                <a:cubicBezTo>
                  <a:pt x="2408" y="8347"/>
                  <a:pt x="2308" y="8518"/>
                  <a:pt x="2282" y="8582"/>
                </a:cubicBezTo>
                <a:cubicBezTo>
                  <a:pt x="2177" y="8837"/>
                  <a:pt x="2150" y="9095"/>
                  <a:pt x="2356" y="9302"/>
                </a:cubicBezTo>
                <a:cubicBezTo>
                  <a:pt x="2381" y="9302"/>
                  <a:pt x="2389" y="9302"/>
                  <a:pt x="2356" y="9302"/>
                </a:cubicBezTo>
              </a:path>
              <a:path w="3152" h="1018">
                <a:moveTo>
                  <a:pt x="2853" y="8756"/>
                </a:moveTo>
                <a:cubicBezTo>
                  <a:pt x="2707" y="8772"/>
                  <a:pt x="2615" y="8876"/>
                  <a:pt x="2580" y="9029"/>
                </a:cubicBezTo>
                <a:cubicBezTo>
                  <a:pt x="2526" y="9265"/>
                  <a:pt x="2720" y="9268"/>
                  <a:pt x="2877" y="9178"/>
                </a:cubicBezTo>
                <a:cubicBezTo>
                  <a:pt x="3036" y="9087"/>
                  <a:pt x="3119" y="8934"/>
                  <a:pt x="2952" y="8806"/>
                </a:cubicBezTo>
                <a:cubicBezTo>
                  <a:pt x="2881" y="8751"/>
                  <a:pt x="2852" y="8756"/>
                  <a:pt x="2778" y="8756"/>
                </a:cubicBezTo>
              </a:path>
              <a:path w="3152" h="1018">
                <a:moveTo>
                  <a:pt x="3274" y="9079"/>
                </a:moveTo>
                <a:cubicBezTo>
                  <a:pt x="3280" y="9180"/>
                  <a:pt x="3294" y="9254"/>
                  <a:pt x="3324" y="9351"/>
                </a:cubicBezTo>
              </a:path>
              <a:path w="3152" h="1018">
                <a:moveTo>
                  <a:pt x="3696" y="8682"/>
                </a:moveTo>
                <a:cubicBezTo>
                  <a:pt x="3846" y="8725"/>
                  <a:pt x="4188" y="8832"/>
                  <a:pt x="4018" y="9079"/>
                </a:cubicBezTo>
                <a:cubicBezTo>
                  <a:pt x="3918" y="9224"/>
                  <a:pt x="3742" y="9160"/>
                  <a:pt x="3621" y="9128"/>
                </a:cubicBezTo>
                <a:cubicBezTo>
                  <a:pt x="3642" y="8980"/>
                  <a:pt x="3681" y="8938"/>
                  <a:pt x="3845" y="9004"/>
                </a:cubicBezTo>
                <a:cubicBezTo>
                  <a:pt x="3930" y="9038"/>
                  <a:pt x="4094" y="9165"/>
                  <a:pt x="4167" y="9128"/>
                </a:cubicBezTo>
              </a:path>
              <a:path w="3152" h="1018">
                <a:moveTo>
                  <a:pt x="3994" y="8334"/>
                </a:moveTo>
                <a:cubicBezTo>
                  <a:pt x="4264" y="8484"/>
                  <a:pt x="4536" y="8651"/>
                  <a:pt x="4614" y="8979"/>
                </a:cubicBezTo>
                <a:cubicBezTo>
                  <a:pt x="4657" y="9157"/>
                  <a:pt x="4579" y="9210"/>
                  <a:pt x="4465" y="93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46200" y="2955960"/>
            <a:ext cx="268560" cy="295200"/>
          </a:xfrm>
          <a:custGeom>
            <a:avLst/>
            <a:gdLst/>
            <a:ahLst/>
            <a:rect l="l" t="t" r="r" b="b"/>
            <a:pathLst>
              <a:path w="746" h="820">
                <a:moveTo>
                  <a:pt x="6821" y="8483"/>
                </a:moveTo>
                <a:cubicBezTo>
                  <a:pt x="6836" y="8667"/>
                  <a:pt x="6846" y="8844"/>
                  <a:pt x="6846" y="9029"/>
                </a:cubicBezTo>
                <a:cubicBezTo>
                  <a:pt x="6846" y="8901"/>
                  <a:pt x="6802" y="8787"/>
                  <a:pt x="6796" y="8657"/>
                </a:cubicBezTo>
                <a:cubicBezTo>
                  <a:pt x="6794" y="8599"/>
                  <a:pt x="6777" y="8393"/>
                  <a:pt x="6846" y="8384"/>
                </a:cubicBezTo>
                <a:cubicBezTo>
                  <a:pt x="6929" y="8374"/>
                  <a:pt x="7005" y="8359"/>
                  <a:pt x="7094" y="8359"/>
                </a:cubicBezTo>
                <a:cubicBezTo>
                  <a:pt x="7179" y="8359"/>
                  <a:pt x="7199" y="8365"/>
                  <a:pt x="7243" y="8334"/>
                </a:cubicBezTo>
              </a:path>
              <a:path w="746" h="820">
                <a:moveTo>
                  <a:pt x="6896" y="8731"/>
                </a:moveTo>
                <a:cubicBezTo>
                  <a:pt x="6990" y="8731"/>
                  <a:pt x="7083" y="8728"/>
                  <a:pt x="7169" y="8682"/>
                </a:cubicBezTo>
                <a:cubicBezTo>
                  <a:pt x="7193" y="8657"/>
                  <a:pt x="7201" y="8649"/>
                  <a:pt x="7218" y="8682"/>
                </a:cubicBezTo>
              </a:path>
              <a:path w="746" h="820">
                <a:moveTo>
                  <a:pt x="7541" y="8210"/>
                </a:moveTo>
                <a:cubicBezTo>
                  <a:pt x="7523" y="8319"/>
                  <a:pt x="7496" y="8420"/>
                  <a:pt x="7491" y="8533"/>
                </a:cubicBezTo>
                <a:cubicBezTo>
                  <a:pt x="7491" y="8541"/>
                  <a:pt x="7491" y="8550"/>
                  <a:pt x="7491" y="85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63840" y="3446640"/>
            <a:ext cx="358560" cy="911160"/>
          </a:xfrm>
          <a:custGeom>
            <a:avLst/>
            <a:gdLst/>
            <a:ahLst/>
            <a:rect l="l" t="t" r="r" b="b"/>
            <a:pathLst>
              <a:path w="993" h="2531">
                <a:moveTo>
                  <a:pt x="7193" y="9748"/>
                </a:moveTo>
                <a:cubicBezTo>
                  <a:pt x="7166" y="9707"/>
                  <a:pt x="7066" y="9657"/>
                  <a:pt x="6995" y="9699"/>
                </a:cubicBezTo>
                <a:cubicBezTo>
                  <a:pt x="6806" y="9811"/>
                  <a:pt x="6829" y="10150"/>
                  <a:pt x="6896" y="10319"/>
                </a:cubicBezTo>
                <a:cubicBezTo>
                  <a:pt x="6982" y="10535"/>
                  <a:pt x="7181" y="10406"/>
                  <a:pt x="7293" y="10294"/>
                </a:cubicBezTo>
                <a:cubicBezTo>
                  <a:pt x="7357" y="10208"/>
                  <a:pt x="7382" y="10191"/>
                  <a:pt x="7367" y="10120"/>
                </a:cubicBezTo>
                <a:cubicBezTo>
                  <a:pt x="7266" y="10091"/>
                  <a:pt x="7155" y="10084"/>
                  <a:pt x="7069" y="10170"/>
                </a:cubicBezTo>
                <a:cubicBezTo>
                  <a:pt x="7069" y="10178"/>
                  <a:pt x="7069" y="10187"/>
                  <a:pt x="7069" y="10195"/>
                </a:cubicBezTo>
              </a:path>
              <a:path w="993" h="2531">
                <a:moveTo>
                  <a:pt x="7590" y="9575"/>
                </a:moveTo>
                <a:cubicBezTo>
                  <a:pt x="7577" y="9667"/>
                  <a:pt x="7547" y="9754"/>
                  <a:pt x="7541" y="9847"/>
                </a:cubicBezTo>
                <a:cubicBezTo>
                  <a:pt x="7541" y="9855"/>
                  <a:pt x="7541" y="9864"/>
                  <a:pt x="7541" y="9872"/>
                </a:cubicBezTo>
              </a:path>
              <a:path w="993" h="2531">
                <a:moveTo>
                  <a:pt x="6970" y="11237"/>
                </a:moveTo>
                <a:cubicBezTo>
                  <a:pt x="6982" y="11519"/>
                  <a:pt x="6997" y="11800"/>
                  <a:pt x="7020" y="12080"/>
                </a:cubicBezTo>
                <a:cubicBezTo>
                  <a:pt x="7020" y="12088"/>
                  <a:pt x="7020" y="12097"/>
                  <a:pt x="7020" y="12105"/>
                </a:cubicBezTo>
              </a:path>
              <a:path w="993" h="2531">
                <a:moveTo>
                  <a:pt x="7392" y="11261"/>
                </a:moveTo>
                <a:cubicBezTo>
                  <a:pt x="7392" y="11487"/>
                  <a:pt x="7405" y="11706"/>
                  <a:pt x="7417" y="11931"/>
                </a:cubicBezTo>
                <a:cubicBezTo>
                  <a:pt x="7420" y="11981"/>
                  <a:pt x="7417" y="12080"/>
                  <a:pt x="7417" y="12030"/>
                </a:cubicBezTo>
              </a:path>
              <a:path w="993" h="2531">
                <a:moveTo>
                  <a:pt x="7069" y="11807"/>
                </a:moveTo>
                <a:cubicBezTo>
                  <a:pt x="7184" y="11790"/>
                  <a:pt x="7271" y="11750"/>
                  <a:pt x="7367" y="11708"/>
                </a:cubicBezTo>
                <a:cubicBezTo>
                  <a:pt x="7395" y="11708"/>
                  <a:pt x="7406" y="11710"/>
                  <a:pt x="7417" y="11733"/>
                </a:cubicBezTo>
              </a:path>
              <a:path w="993" h="2531">
                <a:moveTo>
                  <a:pt x="7813" y="10939"/>
                </a:moveTo>
                <a:cubicBezTo>
                  <a:pt x="7827" y="11033"/>
                  <a:pt x="7740" y="11128"/>
                  <a:pt x="7714" y="11237"/>
                </a:cubicBezTo>
                <a:cubicBezTo>
                  <a:pt x="7714" y="11253"/>
                  <a:pt x="7714" y="11270"/>
                  <a:pt x="7714" y="112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55960" y="3429000"/>
            <a:ext cx="187200" cy="401760"/>
          </a:xfrm>
          <a:custGeom>
            <a:avLst/>
            <a:gdLst/>
            <a:ahLst/>
            <a:rect l="l" t="t" r="r" b="b"/>
            <a:pathLst>
              <a:path w="522" h="1117">
                <a:moveTo>
                  <a:pt x="8384" y="9525"/>
                </a:moveTo>
                <a:cubicBezTo>
                  <a:pt x="8219" y="9720"/>
                  <a:pt x="8169" y="10052"/>
                  <a:pt x="8210" y="10319"/>
                </a:cubicBezTo>
                <a:cubicBezTo>
                  <a:pt x="8224" y="10410"/>
                  <a:pt x="8300" y="10614"/>
                  <a:pt x="8409" y="10641"/>
                </a:cubicBezTo>
              </a:path>
              <a:path w="522" h="1117">
                <a:moveTo>
                  <a:pt x="8657" y="9798"/>
                </a:moveTo>
                <a:cubicBezTo>
                  <a:pt x="8704" y="9814"/>
                  <a:pt x="8705" y="10075"/>
                  <a:pt x="8706" y="10096"/>
                </a:cubicBezTo>
                <a:cubicBezTo>
                  <a:pt x="8709" y="10144"/>
                  <a:pt x="8750" y="10292"/>
                  <a:pt x="8731" y="10344"/>
                </a:cubicBezTo>
                <a:cubicBezTo>
                  <a:pt x="8713" y="10393"/>
                  <a:pt x="8714" y="10407"/>
                  <a:pt x="8682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86080" y="3724200"/>
            <a:ext cx="19080" cy="133560"/>
          </a:xfrm>
          <a:custGeom>
            <a:avLst/>
            <a:gdLst/>
            <a:ahLst/>
            <a:rect l="l" t="t" r="r" b="b"/>
            <a:pathLst>
              <a:path w="51" h="373">
                <a:moveTo>
                  <a:pt x="9128" y="10344"/>
                </a:moveTo>
                <a:cubicBezTo>
                  <a:pt x="9185" y="10475"/>
                  <a:pt x="9192" y="10574"/>
                  <a:pt x="9153" y="107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11360" y="3375000"/>
            <a:ext cx="428760" cy="393840"/>
          </a:xfrm>
          <a:custGeom>
            <a:avLst/>
            <a:gdLst/>
            <a:ahLst/>
            <a:rect l="l" t="t" r="r" b="b"/>
            <a:pathLst>
              <a:path w="1192" h="1093">
                <a:moveTo>
                  <a:pt x="9475" y="9922"/>
                </a:moveTo>
                <a:cubicBezTo>
                  <a:pt x="9567" y="9922"/>
                  <a:pt x="9676" y="9901"/>
                  <a:pt x="9748" y="9922"/>
                </a:cubicBezTo>
              </a:path>
              <a:path w="1192" h="1093">
                <a:moveTo>
                  <a:pt x="9947" y="9599"/>
                </a:moveTo>
                <a:cubicBezTo>
                  <a:pt x="9966" y="9543"/>
                  <a:pt x="10089" y="9537"/>
                  <a:pt x="10145" y="9575"/>
                </a:cubicBezTo>
                <a:cubicBezTo>
                  <a:pt x="10298" y="9678"/>
                  <a:pt x="10142" y="9859"/>
                  <a:pt x="10071" y="9947"/>
                </a:cubicBezTo>
                <a:cubicBezTo>
                  <a:pt x="10170" y="9947"/>
                  <a:pt x="10245" y="10024"/>
                  <a:pt x="10269" y="10120"/>
                </a:cubicBezTo>
                <a:cubicBezTo>
                  <a:pt x="10307" y="10274"/>
                  <a:pt x="10102" y="10465"/>
                  <a:pt x="9947" y="10393"/>
                </a:cubicBezTo>
                <a:cubicBezTo>
                  <a:pt x="9898" y="10370"/>
                  <a:pt x="9980" y="10344"/>
                  <a:pt x="9897" y="10344"/>
                </a:cubicBezTo>
              </a:path>
              <a:path w="1192" h="1093">
                <a:moveTo>
                  <a:pt x="10344" y="9376"/>
                </a:moveTo>
                <a:cubicBezTo>
                  <a:pt x="10496" y="9576"/>
                  <a:pt x="10591" y="9772"/>
                  <a:pt x="10641" y="10021"/>
                </a:cubicBezTo>
                <a:cubicBezTo>
                  <a:pt x="10689" y="10261"/>
                  <a:pt x="10638" y="10291"/>
                  <a:pt x="10517" y="10443"/>
                </a:cubicBezTo>
                <a:cubicBezTo>
                  <a:pt x="10517" y="10471"/>
                  <a:pt x="10515" y="10477"/>
                  <a:pt x="10492" y="104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1040" y="4089240"/>
            <a:ext cx="196920" cy="304920"/>
          </a:xfrm>
          <a:custGeom>
            <a:avLst/>
            <a:gdLst/>
            <a:ahLst/>
            <a:rect l="l" t="t" r="r" b="b"/>
            <a:pathLst>
              <a:path w="547" h="844">
                <a:moveTo>
                  <a:pt x="1612" y="11410"/>
                </a:moveTo>
                <a:cubicBezTo>
                  <a:pt x="1612" y="11244"/>
                  <a:pt x="1645" y="11691"/>
                  <a:pt x="1637" y="11857"/>
                </a:cubicBezTo>
                <a:cubicBezTo>
                  <a:pt x="1631" y="11981"/>
                  <a:pt x="1577" y="12313"/>
                  <a:pt x="1637" y="12204"/>
                </a:cubicBezTo>
                <a:cubicBezTo>
                  <a:pt x="1654" y="12163"/>
                  <a:pt x="1670" y="12121"/>
                  <a:pt x="1687" y="12080"/>
                </a:cubicBezTo>
              </a:path>
              <a:path w="547" h="844">
                <a:moveTo>
                  <a:pt x="2059" y="11361"/>
                </a:moveTo>
                <a:cubicBezTo>
                  <a:pt x="2109" y="11611"/>
                  <a:pt x="2152" y="11850"/>
                  <a:pt x="2158" y="12105"/>
                </a:cubicBezTo>
                <a:cubicBezTo>
                  <a:pt x="2158" y="12130"/>
                  <a:pt x="2158" y="12154"/>
                  <a:pt x="2158" y="12179"/>
                </a:cubicBezTo>
              </a:path>
              <a:path w="547" h="844">
                <a:moveTo>
                  <a:pt x="1786" y="11931"/>
                </a:moveTo>
                <a:cubicBezTo>
                  <a:pt x="1896" y="11908"/>
                  <a:pt x="1996" y="11881"/>
                  <a:pt x="2108" y="118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65160" y="4017960"/>
            <a:ext cx="54000" cy="331920"/>
          </a:xfrm>
          <a:custGeom>
            <a:avLst/>
            <a:gdLst/>
            <a:ahLst/>
            <a:rect l="l" t="t" r="r" b="b"/>
            <a:pathLst>
              <a:path w="150" h="919">
                <a:moveTo>
                  <a:pt x="2828" y="11162"/>
                </a:moveTo>
                <a:cubicBezTo>
                  <a:pt x="2737" y="11410"/>
                  <a:pt x="2586" y="11697"/>
                  <a:pt x="2729" y="11956"/>
                </a:cubicBezTo>
                <a:cubicBezTo>
                  <a:pt x="2746" y="11987"/>
                  <a:pt x="2803" y="12046"/>
                  <a:pt x="2828" y="120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4205160"/>
            <a:ext cx="71280" cy="1800"/>
          </a:xfrm>
          <a:custGeom>
            <a:avLst/>
            <a:gdLst/>
            <a:ahLst/>
            <a:rect l="l" t="t" r="r" b="b"/>
            <a:pathLst>
              <a:path w="199" h="1">
                <a:moveTo>
                  <a:pt x="3101" y="11683"/>
                </a:moveTo>
                <a:cubicBezTo>
                  <a:pt x="3167" y="11683"/>
                  <a:pt x="3233" y="11683"/>
                  <a:pt x="3299" y="116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85920" y="4081320"/>
            <a:ext cx="17280" cy="249480"/>
          </a:xfrm>
          <a:custGeom>
            <a:avLst/>
            <a:gdLst/>
            <a:ahLst/>
            <a:rect l="l" t="t" r="r" b="b"/>
            <a:pathLst>
              <a:path w="50" h="695">
                <a:moveTo>
                  <a:pt x="3572" y="11361"/>
                </a:moveTo>
                <a:cubicBezTo>
                  <a:pt x="3572" y="11245"/>
                  <a:pt x="3591" y="11542"/>
                  <a:pt x="3597" y="11658"/>
                </a:cubicBezTo>
                <a:cubicBezTo>
                  <a:pt x="3603" y="11781"/>
                  <a:pt x="3621" y="11907"/>
                  <a:pt x="3621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28840" y="4303800"/>
            <a:ext cx="17280" cy="98280"/>
          </a:xfrm>
          <a:custGeom>
            <a:avLst/>
            <a:gdLst/>
            <a:ahLst/>
            <a:rect l="l" t="t" r="r" b="b"/>
            <a:pathLst>
              <a:path w="50" h="274">
                <a:moveTo>
                  <a:pt x="3969" y="11956"/>
                </a:moveTo>
                <a:cubicBezTo>
                  <a:pt x="3977" y="12050"/>
                  <a:pt x="4005" y="12135"/>
                  <a:pt x="4018" y="122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6040" y="3956040"/>
            <a:ext cx="233280" cy="393840"/>
          </a:xfrm>
          <a:custGeom>
            <a:avLst/>
            <a:gdLst/>
            <a:ahLst/>
            <a:rect l="l" t="t" r="r" b="b"/>
            <a:pathLst>
              <a:path w="646" h="1093">
                <a:moveTo>
                  <a:pt x="4490" y="11286"/>
                </a:moveTo>
                <a:cubicBezTo>
                  <a:pt x="4490" y="11169"/>
                  <a:pt x="4520" y="11468"/>
                  <a:pt x="4539" y="11584"/>
                </a:cubicBezTo>
                <a:cubicBezTo>
                  <a:pt x="4548" y="11641"/>
                  <a:pt x="4556" y="11838"/>
                  <a:pt x="4614" y="11857"/>
                </a:cubicBezTo>
              </a:path>
              <a:path w="646" h="1093">
                <a:moveTo>
                  <a:pt x="4762" y="10988"/>
                </a:moveTo>
                <a:cubicBezTo>
                  <a:pt x="4945" y="11121"/>
                  <a:pt x="5106" y="11322"/>
                  <a:pt x="5135" y="11559"/>
                </a:cubicBezTo>
                <a:cubicBezTo>
                  <a:pt x="5162" y="11781"/>
                  <a:pt x="5059" y="11891"/>
                  <a:pt x="4961" y="12055"/>
                </a:cubicBezTo>
                <a:cubicBezTo>
                  <a:pt x="4961" y="12063"/>
                  <a:pt x="4961" y="12072"/>
                  <a:pt x="4961" y="120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00240" y="4000680"/>
            <a:ext cx="71640" cy="384120"/>
          </a:xfrm>
          <a:custGeom>
            <a:avLst/>
            <a:gdLst/>
            <a:ahLst/>
            <a:rect l="l" t="t" r="r" b="b"/>
            <a:pathLst>
              <a:path w="200" h="1068">
                <a:moveTo>
                  <a:pt x="8458" y="11112"/>
                </a:moveTo>
                <a:cubicBezTo>
                  <a:pt x="8301" y="11290"/>
                  <a:pt x="8322" y="11593"/>
                  <a:pt x="8334" y="11832"/>
                </a:cubicBezTo>
                <a:cubicBezTo>
                  <a:pt x="8341" y="11960"/>
                  <a:pt x="8379" y="12106"/>
                  <a:pt x="8483" y="12179"/>
                </a:cubicBezTo>
                <a:cubicBezTo>
                  <a:pt x="8508" y="12179"/>
                  <a:pt x="8516" y="12179"/>
                  <a:pt x="8533" y="121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78080" y="4098960"/>
            <a:ext cx="9720" cy="241200"/>
          </a:xfrm>
          <a:custGeom>
            <a:avLst/>
            <a:gdLst/>
            <a:ahLst/>
            <a:rect l="l" t="t" r="r" b="b"/>
            <a:pathLst>
              <a:path w="26" h="671">
                <a:moveTo>
                  <a:pt x="8855" y="11410"/>
                </a:moveTo>
                <a:cubicBezTo>
                  <a:pt x="8855" y="11323"/>
                  <a:pt x="8831" y="11807"/>
                  <a:pt x="8830" y="11832"/>
                </a:cubicBezTo>
                <a:cubicBezTo>
                  <a:pt x="8828" y="11912"/>
                  <a:pt x="8834" y="11963"/>
                  <a:pt x="8855" y="12005"/>
                </a:cubicBezTo>
                <a:cubicBezTo>
                  <a:pt x="8855" y="12030"/>
                  <a:pt x="8855" y="12038"/>
                  <a:pt x="8855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0080" y="4340160"/>
            <a:ext cx="34920" cy="125640"/>
          </a:xfrm>
          <a:custGeom>
            <a:avLst/>
            <a:gdLst/>
            <a:ahLst/>
            <a:rect l="l" t="t" r="r" b="b"/>
            <a:pathLst>
              <a:path w="100" h="348">
                <a:moveTo>
                  <a:pt x="9351" y="12055"/>
                </a:moveTo>
                <a:cubicBezTo>
                  <a:pt x="9358" y="12097"/>
                  <a:pt x="9430" y="12433"/>
                  <a:pt x="9302" y="12402"/>
                </a:cubicBezTo>
                <a:cubicBezTo>
                  <a:pt x="9294" y="12386"/>
                  <a:pt x="9285" y="12369"/>
                  <a:pt x="9277" y="123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83000" y="4010040"/>
            <a:ext cx="196920" cy="295200"/>
          </a:xfrm>
          <a:custGeom>
            <a:avLst/>
            <a:gdLst/>
            <a:ahLst/>
            <a:rect l="l" t="t" r="r" b="b"/>
            <a:pathLst>
              <a:path w="547" h="820">
                <a:moveTo>
                  <a:pt x="9699" y="11534"/>
                </a:moveTo>
                <a:cubicBezTo>
                  <a:pt x="9640" y="11534"/>
                  <a:pt x="9764" y="11563"/>
                  <a:pt x="9823" y="11559"/>
                </a:cubicBezTo>
                <a:cubicBezTo>
                  <a:pt x="9897" y="11540"/>
                  <a:pt x="9904" y="11532"/>
                  <a:pt x="9947" y="11534"/>
                </a:cubicBezTo>
              </a:path>
              <a:path w="547" h="820">
                <a:moveTo>
                  <a:pt x="10220" y="11137"/>
                </a:moveTo>
                <a:cubicBezTo>
                  <a:pt x="10220" y="11357"/>
                  <a:pt x="10221" y="11589"/>
                  <a:pt x="10195" y="11807"/>
                </a:cubicBezTo>
                <a:cubicBezTo>
                  <a:pt x="10193" y="11821"/>
                  <a:pt x="10195" y="11993"/>
                  <a:pt x="10195" y="119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68840" y="3894120"/>
            <a:ext cx="61920" cy="500040"/>
          </a:xfrm>
          <a:custGeom>
            <a:avLst/>
            <a:gdLst/>
            <a:ahLst/>
            <a:rect l="l" t="t" r="r" b="b"/>
            <a:pathLst>
              <a:path w="174" h="1390">
                <a:moveTo>
                  <a:pt x="10468" y="10815"/>
                </a:moveTo>
                <a:cubicBezTo>
                  <a:pt x="10573" y="10987"/>
                  <a:pt x="10624" y="11158"/>
                  <a:pt x="10641" y="11361"/>
                </a:cubicBezTo>
                <a:cubicBezTo>
                  <a:pt x="10660" y="11590"/>
                  <a:pt x="10644" y="11794"/>
                  <a:pt x="10567" y="12005"/>
                </a:cubicBezTo>
                <a:cubicBezTo>
                  <a:pt x="10556" y="12037"/>
                  <a:pt x="10519" y="12160"/>
                  <a:pt x="10492" y="12179"/>
                </a:cubicBezTo>
                <a:cubicBezTo>
                  <a:pt x="10468" y="12179"/>
                  <a:pt x="10460" y="12179"/>
                  <a:pt x="10468" y="122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22920" y="1820880"/>
            <a:ext cx="2919240" cy="46080"/>
          </a:xfrm>
          <a:custGeom>
            <a:avLst/>
            <a:gdLst/>
            <a:ahLst/>
            <a:rect l="l" t="t" r="r" b="b"/>
            <a:pathLst>
              <a:path w="8112" h="125">
                <a:moveTo>
                  <a:pt x="13395" y="5135"/>
                </a:moveTo>
                <a:cubicBezTo>
                  <a:pt x="13535" y="5135"/>
                  <a:pt x="13693" y="5152"/>
                  <a:pt x="13816" y="5159"/>
                </a:cubicBezTo>
                <a:cubicBezTo>
                  <a:pt x="14000" y="5169"/>
                  <a:pt x="14179" y="5138"/>
                  <a:pt x="14362" y="5135"/>
                </a:cubicBezTo>
                <a:cubicBezTo>
                  <a:pt x="14455" y="5134"/>
                  <a:pt x="14550" y="5114"/>
                  <a:pt x="14635" y="5110"/>
                </a:cubicBezTo>
                <a:cubicBezTo>
                  <a:pt x="14737" y="5105"/>
                  <a:pt x="14831" y="5091"/>
                  <a:pt x="14932" y="5085"/>
                </a:cubicBezTo>
                <a:cubicBezTo>
                  <a:pt x="15042" y="5079"/>
                  <a:pt x="15146" y="5066"/>
                  <a:pt x="15255" y="5060"/>
                </a:cubicBezTo>
                <a:cubicBezTo>
                  <a:pt x="15425" y="5050"/>
                  <a:pt x="15586" y="5082"/>
                  <a:pt x="15751" y="5085"/>
                </a:cubicBezTo>
                <a:cubicBezTo>
                  <a:pt x="15849" y="5087"/>
                  <a:pt x="15929" y="5104"/>
                  <a:pt x="16024" y="5110"/>
                </a:cubicBezTo>
                <a:cubicBezTo>
                  <a:pt x="16206" y="5121"/>
                  <a:pt x="16390" y="5131"/>
                  <a:pt x="16570" y="5135"/>
                </a:cubicBezTo>
                <a:cubicBezTo>
                  <a:pt x="16738" y="5139"/>
                  <a:pt x="16900" y="5156"/>
                  <a:pt x="17066" y="5159"/>
                </a:cubicBezTo>
                <a:cubicBezTo>
                  <a:pt x="17258" y="5163"/>
                  <a:pt x="17445" y="5180"/>
                  <a:pt x="17636" y="5184"/>
                </a:cubicBezTo>
                <a:cubicBezTo>
                  <a:pt x="17895" y="5189"/>
                  <a:pt x="18149" y="5176"/>
                  <a:pt x="18405" y="5159"/>
                </a:cubicBezTo>
                <a:cubicBezTo>
                  <a:pt x="18710" y="5138"/>
                  <a:pt x="19022" y="5167"/>
                  <a:pt x="19323" y="5184"/>
                </a:cubicBezTo>
                <a:cubicBezTo>
                  <a:pt x="19471" y="5192"/>
                  <a:pt x="19619" y="5161"/>
                  <a:pt x="19769" y="5159"/>
                </a:cubicBezTo>
                <a:cubicBezTo>
                  <a:pt x="20167" y="5154"/>
                  <a:pt x="20563" y="5135"/>
                  <a:pt x="20960" y="5135"/>
                </a:cubicBezTo>
                <a:cubicBezTo>
                  <a:pt x="21139" y="5135"/>
                  <a:pt x="21308" y="5105"/>
                  <a:pt x="21481" y="5085"/>
                </a:cubicBezTo>
                <a:cubicBezTo>
                  <a:pt x="21489" y="5085"/>
                  <a:pt x="21498" y="5085"/>
                  <a:pt x="21506" y="50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triangle FGH with vertices F(0,2),G(-3,1), and H(-1,1). Then draw the image after a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counterclockwise rotation about the origin. Name the coordinates of the rotated fig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otating a Figure -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unterclockwi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962520" cy="3849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08000" y="-712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45080" y="3510000"/>
            <a:ext cx="1135080" cy="650880"/>
          </a:xfrm>
          <a:custGeom>
            <a:avLst/>
            <a:gdLst/>
            <a:ahLst/>
            <a:rect l="l" t="t" r="r" b="b"/>
            <a:pathLst>
              <a:path w="3151" h="1812">
                <a:moveTo>
                  <a:pt x="17983" y="10021"/>
                </a:moveTo>
                <a:cubicBezTo>
                  <a:pt x="18019" y="10021"/>
                  <a:pt x="17909" y="10032"/>
                  <a:pt x="17909" y="10120"/>
                </a:cubicBezTo>
                <a:cubicBezTo>
                  <a:pt x="17909" y="10261"/>
                  <a:pt x="18001" y="10176"/>
                  <a:pt x="18058" y="10145"/>
                </a:cubicBezTo>
                <a:cubicBezTo>
                  <a:pt x="18086" y="10009"/>
                  <a:pt x="17973" y="10011"/>
                  <a:pt x="17909" y="10120"/>
                </a:cubicBezTo>
                <a:cubicBezTo>
                  <a:pt x="17846" y="10227"/>
                  <a:pt x="18008" y="10163"/>
                  <a:pt x="18033" y="10145"/>
                </a:cubicBezTo>
                <a:cubicBezTo>
                  <a:pt x="18049" y="10050"/>
                  <a:pt x="17989" y="10089"/>
                  <a:pt x="17983" y="10145"/>
                </a:cubicBezTo>
                <a:cubicBezTo>
                  <a:pt x="17973" y="10237"/>
                  <a:pt x="18116" y="10071"/>
                  <a:pt x="18033" y="10071"/>
                </a:cubicBezTo>
                <a:cubicBezTo>
                  <a:pt x="17973" y="10091"/>
                  <a:pt x="17959" y="10090"/>
                  <a:pt x="17934" y="10120"/>
                </a:cubicBezTo>
              </a:path>
              <a:path w="3151" h="1812">
                <a:moveTo>
                  <a:pt x="18256" y="9897"/>
                </a:moveTo>
                <a:cubicBezTo>
                  <a:pt x="18270" y="10012"/>
                  <a:pt x="18298" y="10107"/>
                  <a:pt x="18331" y="10220"/>
                </a:cubicBezTo>
                <a:cubicBezTo>
                  <a:pt x="18314" y="10086"/>
                  <a:pt x="18287" y="9958"/>
                  <a:pt x="18281" y="9823"/>
                </a:cubicBezTo>
                <a:cubicBezTo>
                  <a:pt x="18281" y="9815"/>
                  <a:pt x="18281" y="9806"/>
                  <a:pt x="18281" y="9798"/>
                </a:cubicBezTo>
                <a:cubicBezTo>
                  <a:pt x="18366" y="9788"/>
                  <a:pt x="18444" y="9758"/>
                  <a:pt x="18529" y="9748"/>
                </a:cubicBezTo>
              </a:path>
              <a:path w="3151" h="1812">
                <a:moveTo>
                  <a:pt x="18306" y="10046"/>
                </a:moveTo>
                <a:cubicBezTo>
                  <a:pt x="18357" y="10044"/>
                  <a:pt x="18537" y="10037"/>
                  <a:pt x="18554" y="10046"/>
                </a:cubicBezTo>
              </a:path>
              <a:path w="3151" h="1812">
                <a:moveTo>
                  <a:pt x="15701" y="10815"/>
                </a:moveTo>
                <a:cubicBezTo>
                  <a:pt x="15564" y="10711"/>
                  <a:pt x="15552" y="10834"/>
                  <a:pt x="15503" y="10964"/>
                </a:cubicBezTo>
                <a:cubicBezTo>
                  <a:pt x="15554" y="10994"/>
                  <a:pt x="15713" y="11000"/>
                  <a:pt x="15652" y="10864"/>
                </a:cubicBezTo>
                <a:cubicBezTo>
                  <a:pt x="15619" y="10864"/>
                  <a:pt x="15602" y="10864"/>
                  <a:pt x="15577" y="10864"/>
                </a:cubicBezTo>
                <a:cubicBezTo>
                  <a:pt x="15577" y="10933"/>
                  <a:pt x="15654" y="11017"/>
                  <a:pt x="15677" y="10914"/>
                </a:cubicBezTo>
                <a:cubicBezTo>
                  <a:pt x="15702" y="10804"/>
                  <a:pt x="15629" y="10840"/>
                  <a:pt x="15553" y="10840"/>
                </a:cubicBezTo>
              </a:path>
              <a:path w="3151" h="1812">
                <a:moveTo>
                  <a:pt x="15974" y="11088"/>
                </a:moveTo>
                <a:cubicBezTo>
                  <a:pt x="15944" y="10999"/>
                  <a:pt x="15819" y="11050"/>
                  <a:pt x="15776" y="11137"/>
                </a:cubicBezTo>
                <a:cubicBezTo>
                  <a:pt x="15671" y="11352"/>
                  <a:pt x="15828" y="11725"/>
                  <a:pt x="16098" y="11509"/>
                </a:cubicBezTo>
                <a:cubicBezTo>
                  <a:pt x="16224" y="11409"/>
                  <a:pt x="16115" y="11144"/>
                  <a:pt x="15949" y="11336"/>
                </a:cubicBezTo>
                <a:cubicBezTo>
                  <a:pt x="15941" y="11361"/>
                  <a:pt x="15933" y="11385"/>
                  <a:pt x="15925" y="11410"/>
                </a:cubicBezTo>
              </a:path>
              <a:path w="3151" h="1812">
                <a:moveTo>
                  <a:pt x="15652" y="10988"/>
                </a:moveTo>
                <a:cubicBezTo>
                  <a:pt x="15697" y="10963"/>
                  <a:pt x="15826" y="10891"/>
                  <a:pt x="15900" y="10864"/>
                </a:cubicBezTo>
                <a:cubicBezTo>
                  <a:pt x="16051" y="10809"/>
                  <a:pt x="16226" y="10784"/>
                  <a:pt x="16371" y="10716"/>
                </a:cubicBezTo>
                <a:cubicBezTo>
                  <a:pt x="16446" y="10681"/>
                  <a:pt x="16527" y="10610"/>
                  <a:pt x="16594" y="10567"/>
                </a:cubicBezTo>
                <a:cubicBezTo>
                  <a:pt x="16679" y="10512"/>
                  <a:pt x="16747" y="10451"/>
                  <a:pt x="16818" y="10393"/>
                </a:cubicBezTo>
                <a:cubicBezTo>
                  <a:pt x="16865" y="10354"/>
                  <a:pt x="16969" y="10326"/>
                  <a:pt x="17016" y="10319"/>
                </a:cubicBezTo>
                <a:cubicBezTo>
                  <a:pt x="17097" y="10308"/>
                  <a:pt x="17158" y="10284"/>
                  <a:pt x="17239" y="10269"/>
                </a:cubicBezTo>
                <a:cubicBezTo>
                  <a:pt x="17312" y="10256"/>
                  <a:pt x="17368" y="10263"/>
                  <a:pt x="17438" y="10244"/>
                </a:cubicBezTo>
                <a:cubicBezTo>
                  <a:pt x="17534" y="10218"/>
                  <a:pt x="17624" y="10152"/>
                  <a:pt x="17711" y="10120"/>
                </a:cubicBezTo>
                <a:cubicBezTo>
                  <a:pt x="17773" y="10097"/>
                  <a:pt x="17823" y="10081"/>
                  <a:pt x="17884" y="10046"/>
                </a:cubicBezTo>
                <a:cubicBezTo>
                  <a:pt x="17938" y="10015"/>
                  <a:pt x="17938" y="10036"/>
                  <a:pt x="17983" y="10021"/>
                </a:cubicBezTo>
              </a:path>
              <a:path w="3151" h="1812">
                <a:moveTo>
                  <a:pt x="17239" y="10864"/>
                </a:moveTo>
                <a:cubicBezTo>
                  <a:pt x="17239" y="10840"/>
                  <a:pt x="17239" y="10832"/>
                  <a:pt x="17214" y="10840"/>
                </a:cubicBezTo>
                <a:cubicBezTo>
                  <a:pt x="17194" y="10913"/>
                  <a:pt x="17244" y="10961"/>
                  <a:pt x="17289" y="10889"/>
                </a:cubicBezTo>
                <a:cubicBezTo>
                  <a:pt x="17351" y="10789"/>
                  <a:pt x="17281" y="10815"/>
                  <a:pt x="17214" y="10840"/>
                </a:cubicBezTo>
                <a:cubicBezTo>
                  <a:pt x="17233" y="10868"/>
                  <a:pt x="17264" y="10895"/>
                  <a:pt x="17264" y="10864"/>
                </a:cubicBezTo>
              </a:path>
              <a:path w="3151" h="1812">
                <a:moveTo>
                  <a:pt x="17289" y="11137"/>
                </a:moveTo>
                <a:cubicBezTo>
                  <a:pt x="17326" y="11267"/>
                  <a:pt x="17335" y="11324"/>
                  <a:pt x="17314" y="11460"/>
                </a:cubicBezTo>
                <a:cubicBezTo>
                  <a:pt x="17314" y="11488"/>
                  <a:pt x="17316" y="11494"/>
                  <a:pt x="17338" y="11460"/>
                </a:cubicBezTo>
              </a:path>
              <a:path w="3151" h="1812">
                <a:moveTo>
                  <a:pt x="17487" y="11112"/>
                </a:moveTo>
                <a:cubicBezTo>
                  <a:pt x="17521" y="11213"/>
                  <a:pt x="17548" y="11306"/>
                  <a:pt x="17562" y="11410"/>
                </a:cubicBezTo>
              </a:path>
              <a:path w="3151" h="1812">
                <a:moveTo>
                  <a:pt x="17363" y="11311"/>
                </a:moveTo>
                <a:cubicBezTo>
                  <a:pt x="17421" y="11303"/>
                  <a:pt x="17464" y="11288"/>
                  <a:pt x="17512" y="11261"/>
                </a:cubicBezTo>
              </a:path>
              <a:path w="3151" h="1812">
                <a:moveTo>
                  <a:pt x="15429" y="10964"/>
                </a:moveTo>
                <a:cubicBezTo>
                  <a:pt x="15498" y="10998"/>
                  <a:pt x="15525" y="10967"/>
                  <a:pt x="15602" y="10964"/>
                </a:cubicBezTo>
                <a:cubicBezTo>
                  <a:pt x="15749" y="10958"/>
                  <a:pt x="15880" y="10929"/>
                  <a:pt x="16024" y="10914"/>
                </a:cubicBezTo>
                <a:cubicBezTo>
                  <a:pt x="16100" y="10906"/>
                  <a:pt x="16176" y="10898"/>
                  <a:pt x="16247" y="10889"/>
                </a:cubicBezTo>
                <a:cubicBezTo>
                  <a:pt x="16314" y="10881"/>
                  <a:pt x="16364" y="10874"/>
                  <a:pt x="16421" y="10864"/>
                </a:cubicBezTo>
                <a:cubicBezTo>
                  <a:pt x="16669" y="10822"/>
                  <a:pt x="16943" y="10874"/>
                  <a:pt x="17190" y="10840"/>
                </a:cubicBezTo>
                <a:cubicBezTo>
                  <a:pt x="17214" y="10840"/>
                  <a:pt x="17223" y="10840"/>
                  <a:pt x="17239" y="10840"/>
                </a:cubicBezTo>
              </a:path>
              <a:path w="3151" h="1812">
                <a:moveTo>
                  <a:pt x="17959" y="10120"/>
                </a:moveTo>
                <a:cubicBezTo>
                  <a:pt x="17984" y="10120"/>
                  <a:pt x="18008" y="10120"/>
                  <a:pt x="18033" y="10120"/>
                </a:cubicBezTo>
                <a:cubicBezTo>
                  <a:pt x="18006" y="10189"/>
                  <a:pt x="17934" y="10280"/>
                  <a:pt x="17884" y="10344"/>
                </a:cubicBezTo>
                <a:cubicBezTo>
                  <a:pt x="17846" y="10393"/>
                  <a:pt x="17812" y="10438"/>
                  <a:pt x="17760" y="10468"/>
                </a:cubicBezTo>
                <a:cubicBezTo>
                  <a:pt x="17710" y="10497"/>
                  <a:pt x="17670" y="10573"/>
                  <a:pt x="17636" y="10592"/>
                </a:cubicBezTo>
                <a:cubicBezTo>
                  <a:pt x="17591" y="10618"/>
                  <a:pt x="17552" y="10663"/>
                  <a:pt x="17512" y="10691"/>
                </a:cubicBezTo>
                <a:cubicBezTo>
                  <a:pt x="17484" y="10711"/>
                  <a:pt x="17393" y="10756"/>
                  <a:pt x="17363" y="10790"/>
                </a:cubicBezTo>
                <a:cubicBezTo>
                  <a:pt x="17353" y="10801"/>
                  <a:pt x="17321" y="10894"/>
                  <a:pt x="17314" y="10914"/>
                </a:cubicBezTo>
                <a:cubicBezTo>
                  <a:pt x="17314" y="10939"/>
                  <a:pt x="17314" y="10947"/>
                  <a:pt x="17289" y="109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652840"/>
            <a:ext cx="1098360" cy="482400"/>
          </a:xfrm>
          <a:custGeom>
            <a:avLst/>
            <a:gdLst/>
            <a:ahLst/>
            <a:rect l="l" t="t" r="r" b="b"/>
            <a:pathLst>
              <a:path w="3052" h="1340">
                <a:moveTo>
                  <a:pt x="2133" y="8310"/>
                </a:moveTo>
                <a:cubicBezTo>
                  <a:pt x="2045" y="8479"/>
                  <a:pt x="2010" y="8517"/>
                  <a:pt x="2034" y="8706"/>
                </a:cubicBezTo>
                <a:cubicBezTo>
                  <a:pt x="2164" y="8661"/>
                  <a:pt x="2507" y="8534"/>
                  <a:pt x="2257" y="8384"/>
                </a:cubicBezTo>
                <a:cubicBezTo>
                  <a:pt x="2224" y="8376"/>
                  <a:pt x="2191" y="8367"/>
                  <a:pt x="2158" y="8359"/>
                </a:cubicBezTo>
              </a:path>
              <a:path w="3052" h="1340">
                <a:moveTo>
                  <a:pt x="2555" y="8334"/>
                </a:moveTo>
                <a:cubicBezTo>
                  <a:pt x="2563" y="8342"/>
                  <a:pt x="2572" y="8351"/>
                  <a:pt x="2580" y="8359"/>
                </a:cubicBezTo>
                <a:cubicBezTo>
                  <a:pt x="2580" y="8233"/>
                  <a:pt x="2589" y="8164"/>
                  <a:pt x="2654" y="8062"/>
                </a:cubicBezTo>
              </a:path>
              <a:path w="3052" h="1340">
                <a:moveTo>
                  <a:pt x="2952" y="8285"/>
                </a:moveTo>
                <a:cubicBezTo>
                  <a:pt x="2971" y="8342"/>
                  <a:pt x="2980" y="8385"/>
                  <a:pt x="2977" y="8334"/>
                </a:cubicBezTo>
              </a:path>
              <a:path w="3052" h="1340">
                <a:moveTo>
                  <a:pt x="2977" y="8334"/>
                </a:moveTo>
                <a:lnTo>
                  <a:pt x="2977" y="8334"/>
                </a:lnTo>
              </a:path>
              <a:path w="3052" h="1340">
                <a:moveTo>
                  <a:pt x="2803" y="7913"/>
                </a:moveTo>
                <a:lnTo>
                  <a:pt x="2803" y="7913"/>
                </a:lnTo>
              </a:path>
              <a:path w="3052" h="1340">
                <a:moveTo>
                  <a:pt x="3299" y="7962"/>
                </a:moveTo>
                <a:cubicBezTo>
                  <a:pt x="3263" y="8002"/>
                  <a:pt x="3089" y="8262"/>
                  <a:pt x="3249" y="8285"/>
                </a:cubicBezTo>
                <a:cubicBezTo>
                  <a:pt x="3370" y="8302"/>
                  <a:pt x="3362" y="8156"/>
                  <a:pt x="3373" y="8086"/>
                </a:cubicBezTo>
                <a:cubicBezTo>
                  <a:pt x="3426" y="8204"/>
                  <a:pt x="3625" y="8515"/>
                  <a:pt x="3473" y="8632"/>
                </a:cubicBezTo>
                <a:cubicBezTo>
                  <a:pt x="3325" y="8662"/>
                  <a:pt x="3262" y="8658"/>
                  <a:pt x="3175" y="8558"/>
                </a:cubicBezTo>
              </a:path>
              <a:path w="3052" h="1340">
                <a:moveTo>
                  <a:pt x="3522" y="8037"/>
                </a:moveTo>
                <a:cubicBezTo>
                  <a:pt x="3578" y="8130"/>
                  <a:pt x="3578" y="8144"/>
                  <a:pt x="3621" y="8186"/>
                </a:cubicBezTo>
              </a:path>
              <a:path w="3052" h="1340">
                <a:moveTo>
                  <a:pt x="3448" y="7813"/>
                </a:moveTo>
                <a:lnTo>
                  <a:pt x="3448" y="7813"/>
                </a:lnTo>
                <a:lnTo>
                  <a:pt x="3448" y="7813"/>
                </a:lnTo>
              </a:path>
              <a:path w="3052" h="1340">
                <a:moveTo>
                  <a:pt x="3448" y="7813"/>
                </a:moveTo>
                <a:lnTo>
                  <a:pt x="3448" y="7813"/>
                </a:lnTo>
              </a:path>
              <a:path w="3052" h="1340">
                <a:moveTo>
                  <a:pt x="3721" y="8012"/>
                </a:moveTo>
                <a:cubicBezTo>
                  <a:pt x="3779" y="8070"/>
                  <a:pt x="3787" y="8078"/>
                  <a:pt x="3820" y="8111"/>
                </a:cubicBezTo>
                <a:cubicBezTo>
                  <a:pt x="3810" y="8029"/>
                  <a:pt x="3729" y="7834"/>
                  <a:pt x="3845" y="7789"/>
                </a:cubicBezTo>
                <a:cubicBezTo>
                  <a:pt x="3970" y="7740"/>
                  <a:pt x="4094" y="8006"/>
                  <a:pt x="4142" y="8086"/>
                </a:cubicBezTo>
              </a:path>
              <a:path w="3052" h="1340">
                <a:moveTo>
                  <a:pt x="4440" y="7714"/>
                </a:moveTo>
                <a:cubicBezTo>
                  <a:pt x="4370" y="7767"/>
                  <a:pt x="4283" y="7929"/>
                  <a:pt x="4341" y="8037"/>
                </a:cubicBezTo>
                <a:cubicBezTo>
                  <a:pt x="4450" y="8241"/>
                  <a:pt x="4532" y="7897"/>
                  <a:pt x="4539" y="7838"/>
                </a:cubicBezTo>
                <a:cubicBezTo>
                  <a:pt x="4553" y="7724"/>
                  <a:pt x="4698" y="7970"/>
                  <a:pt x="4812" y="7962"/>
                </a:cubicBezTo>
              </a:path>
              <a:path w="3052" h="1340">
                <a:moveTo>
                  <a:pt x="4688" y="7367"/>
                </a:moveTo>
                <a:cubicBezTo>
                  <a:pt x="4775" y="7576"/>
                  <a:pt x="4896" y="7779"/>
                  <a:pt x="5035" y="7962"/>
                </a:cubicBezTo>
                <a:cubicBezTo>
                  <a:pt x="5043" y="7970"/>
                  <a:pt x="5052" y="7979"/>
                  <a:pt x="5060" y="79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6880" y="3321000"/>
            <a:ext cx="1089000" cy="376200"/>
          </a:xfrm>
          <a:custGeom>
            <a:avLst/>
            <a:gdLst/>
            <a:ahLst/>
            <a:rect l="l" t="t" r="r" b="b"/>
            <a:pathLst>
              <a:path w="3027" h="1043">
                <a:moveTo>
                  <a:pt x="2406" y="9401"/>
                </a:moveTo>
                <a:cubicBezTo>
                  <a:pt x="2467" y="9661"/>
                  <a:pt x="2477" y="9942"/>
                  <a:pt x="2555" y="10195"/>
                </a:cubicBezTo>
                <a:cubicBezTo>
                  <a:pt x="2555" y="10187"/>
                  <a:pt x="2555" y="10178"/>
                  <a:pt x="2555" y="10170"/>
                </a:cubicBezTo>
                <a:cubicBezTo>
                  <a:pt x="2501" y="9955"/>
                  <a:pt x="2467" y="9746"/>
                  <a:pt x="2456" y="9525"/>
                </a:cubicBezTo>
                <a:cubicBezTo>
                  <a:pt x="2639" y="9472"/>
                  <a:pt x="2812" y="9479"/>
                  <a:pt x="3001" y="9451"/>
                </a:cubicBezTo>
                <a:cubicBezTo>
                  <a:pt x="3034" y="9443"/>
                  <a:pt x="3068" y="9434"/>
                  <a:pt x="3101" y="9426"/>
                </a:cubicBezTo>
              </a:path>
              <a:path w="3027" h="1043">
                <a:moveTo>
                  <a:pt x="2555" y="9872"/>
                </a:moveTo>
                <a:cubicBezTo>
                  <a:pt x="2738" y="9860"/>
                  <a:pt x="2919" y="9825"/>
                  <a:pt x="3101" y="9798"/>
                </a:cubicBezTo>
              </a:path>
              <a:path w="3027" h="1043">
                <a:moveTo>
                  <a:pt x="3522" y="9227"/>
                </a:moveTo>
                <a:cubicBezTo>
                  <a:pt x="3453" y="9502"/>
                  <a:pt x="3361" y="9819"/>
                  <a:pt x="3473" y="10096"/>
                </a:cubicBezTo>
                <a:cubicBezTo>
                  <a:pt x="3560" y="10205"/>
                  <a:pt x="3575" y="10251"/>
                  <a:pt x="3671" y="10195"/>
                </a:cubicBezTo>
              </a:path>
              <a:path w="3027" h="1043">
                <a:moveTo>
                  <a:pt x="4068" y="9401"/>
                </a:moveTo>
                <a:cubicBezTo>
                  <a:pt x="3966" y="9675"/>
                  <a:pt x="3937" y="9831"/>
                  <a:pt x="4018" y="10096"/>
                </a:cubicBezTo>
                <a:cubicBezTo>
                  <a:pt x="4241" y="10053"/>
                  <a:pt x="4472" y="9916"/>
                  <a:pt x="4266" y="9649"/>
                </a:cubicBezTo>
                <a:cubicBezTo>
                  <a:pt x="4136" y="9562"/>
                  <a:pt x="4107" y="9539"/>
                  <a:pt x="4018" y="9500"/>
                </a:cubicBezTo>
              </a:path>
              <a:path w="3027" h="1043">
                <a:moveTo>
                  <a:pt x="4589" y="9401"/>
                </a:moveTo>
                <a:cubicBezTo>
                  <a:pt x="4689" y="9401"/>
                  <a:pt x="4752" y="9388"/>
                  <a:pt x="4837" y="9475"/>
                </a:cubicBezTo>
                <a:cubicBezTo>
                  <a:pt x="5020" y="9663"/>
                  <a:pt x="4964" y="9899"/>
                  <a:pt x="4762" y="10021"/>
                </a:cubicBezTo>
                <a:cubicBezTo>
                  <a:pt x="4754" y="10021"/>
                  <a:pt x="4746" y="10021"/>
                  <a:pt x="4738" y="10021"/>
                </a:cubicBezTo>
                <a:cubicBezTo>
                  <a:pt x="4763" y="9855"/>
                  <a:pt x="4819" y="9760"/>
                  <a:pt x="5011" y="9823"/>
                </a:cubicBezTo>
                <a:cubicBezTo>
                  <a:pt x="5119" y="9858"/>
                  <a:pt x="5200" y="9924"/>
                  <a:pt x="5283" y="9996"/>
                </a:cubicBezTo>
              </a:path>
              <a:path w="3027" h="1043">
                <a:moveTo>
                  <a:pt x="4614" y="10071"/>
                </a:moveTo>
                <a:cubicBezTo>
                  <a:pt x="4644" y="10163"/>
                  <a:pt x="4693" y="10214"/>
                  <a:pt x="4638" y="10269"/>
                </a:cubicBezTo>
              </a:path>
              <a:path w="3027" h="1043">
                <a:moveTo>
                  <a:pt x="5234" y="9401"/>
                </a:moveTo>
                <a:cubicBezTo>
                  <a:pt x="5455" y="9764"/>
                  <a:pt x="5509" y="9854"/>
                  <a:pt x="5159" y="101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65160" y="3884760"/>
            <a:ext cx="150840" cy="330120"/>
          </a:xfrm>
          <a:custGeom>
            <a:avLst/>
            <a:gdLst/>
            <a:ahLst/>
            <a:rect l="l" t="t" r="r" b="b"/>
            <a:pathLst>
              <a:path w="423" h="919">
                <a:moveTo>
                  <a:pt x="3026" y="10889"/>
                </a:moveTo>
                <a:cubicBezTo>
                  <a:pt x="3026" y="10864"/>
                  <a:pt x="3026" y="10856"/>
                  <a:pt x="3026" y="10840"/>
                </a:cubicBezTo>
                <a:cubicBezTo>
                  <a:pt x="2831" y="10761"/>
                  <a:pt x="2787" y="10812"/>
                  <a:pt x="2729" y="11038"/>
                </a:cubicBezTo>
                <a:cubicBezTo>
                  <a:pt x="2654" y="11330"/>
                  <a:pt x="2662" y="11465"/>
                  <a:pt x="2778" y="11708"/>
                </a:cubicBezTo>
                <a:cubicBezTo>
                  <a:pt x="2895" y="11691"/>
                  <a:pt x="3218" y="11644"/>
                  <a:pt x="3076" y="11435"/>
                </a:cubicBezTo>
                <a:cubicBezTo>
                  <a:pt x="3029" y="11366"/>
                  <a:pt x="2730" y="11315"/>
                  <a:pt x="2729" y="11435"/>
                </a:cubicBezTo>
                <a:cubicBezTo>
                  <a:pt x="2847" y="11435"/>
                  <a:pt x="2923" y="11402"/>
                  <a:pt x="3001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85920" y="3714840"/>
            <a:ext cx="946080" cy="428400"/>
          </a:xfrm>
          <a:custGeom>
            <a:avLst/>
            <a:gdLst/>
            <a:ahLst/>
            <a:rect l="l" t="t" r="r" b="b"/>
            <a:pathLst>
              <a:path w="2630" h="1191">
                <a:moveTo>
                  <a:pt x="3795" y="10542"/>
                </a:moveTo>
                <a:cubicBezTo>
                  <a:pt x="3632" y="10568"/>
                  <a:pt x="3570" y="11047"/>
                  <a:pt x="3572" y="11212"/>
                </a:cubicBezTo>
                <a:cubicBezTo>
                  <a:pt x="3576" y="11565"/>
                  <a:pt x="3781" y="11521"/>
                  <a:pt x="3994" y="11410"/>
                </a:cubicBezTo>
              </a:path>
              <a:path w="2630" h="1191">
                <a:moveTo>
                  <a:pt x="4043" y="10889"/>
                </a:moveTo>
                <a:cubicBezTo>
                  <a:pt x="4141" y="10889"/>
                  <a:pt x="4186" y="10877"/>
                  <a:pt x="4242" y="10815"/>
                </a:cubicBezTo>
              </a:path>
              <a:path w="2630" h="1191">
                <a:moveTo>
                  <a:pt x="4465" y="10517"/>
                </a:moveTo>
                <a:cubicBezTo>
                  <a:pt x="4679" y="10506"/>
                  <a:pt x="4836" y="10540"/>
                  <a:pt x="4688" y="10790"/>
                </a:cubicBezTo>
                <a:cubicBezTo>
                  <a:pt x="4663" y="10815"/>
                  <a:pt x="4639" y="10839"/>
                  <a:pt x="4614" y="10864"/>
                </a:cubicBezTo>
                <a:cubicBezTo>
                  <a:pt x="4715" y="10765"/>
                  <a:pt x="4937" y="10778"/>
                  <a:pt x="4911" y="10988"/>
                </a:cubicBezTo>
                <a:cubicBezTo>
                  <a:pt x="4894" y="11126"/>
                  <a:pt x="4529" y="11366"/>
                  <a:pt x="4465" y="11162"/>
                </a:cubicBezTo>
                <a:cubicBezTo>
                  <a:pt x="4481" y="11145"/>
                  <a:pt x="4498" y="11129"/>
                  <a:pt x="4514" y="11112"/>
                </a:cubicBezTo>
              </a:path>
              <a:path w="2630" h="1191">
                <a:moveTo>
                  <a:pt x="5159" y="11112"/>
                </a:moveTo>
                <a:cubicBezTo>
                  <a:pt x="5164" y="11209"/>
                  <a:pt x="5172" y="11289"/>
                  <a:pt x="5184" y="11385"/>
                </a:cubicBezTo>
              </a:path>
              <a:path w="2630" h="1191">
                <a:moveTo>
                  <a:pt x="5482" y="10616"/>
                </a:moveTo>
                <a:cubicBezTo>
                  <a:pt x="5526" y="10792"/>
                  <a:pt x="5499" y="11030"/>
                  <a:pt x="5556" y="11187"/>
                </a:cubicBezTo>
                <a:cubicBezTo>
                  <a:pt x="5564" y="11179"/>
                  <a:pt x="5573" y="11170"/>
                  <a:pt x="5581" y="11162"/>
                </a:cubicBezTo>
              </a:path>
              <a:path w="2630" h="1191">
                <a:moveTo>
                  <a:pt x="5804" y="10319"/>
                </a:moveTo>
                <a:cubicBezTo>
                  <a:pt x="5909" y="10528"/>
                  <a:pt x="6158" y="10745"/>
                  <a:pt x="6201" y="10988"/>
                </a:cubicBezTo>
                <a:cubicBezTo>
                  <a:pt x="6253" y="11276"/>
                  <a:pt x="6093" y="11386"/>
                  <a:pt x="5904" y="115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27080" y="4464000"/>
            <a:ext cx="231840" cy="322200"/>
          </a:xfrm>
          <a:custGeom>
            <a:avLst/>
            <a:gdLst/>
            <a:ahLst/>
            <a:rect l="l" t="t" r="r" b="b"/>
            <a:pathLst>
              <a:path w="645" h="894">
                <a:moveTo>
                  <a:pt x="2902" y="12799"/>
                </a:moveTo>
                <a:cubicBezTo>
                  <a:pt x="2902" y="12716"/>
                  <a:pt x="2902" y="12634"/>
                  <a:pt x="2902" y="12551"/>
                </a:cubicBezTo>
                <a:cubicBezTo>
                  <a:pt x="2815" y="12723"/>
                  <a:pt x="2892" y="12998"/>
                  <a:pt x="2877" y="13196"/>
                </a:cubicBezTo>
                <a:cubicBezTo>
                  <a:pt x="2857" y="13280"/>
                  <a:pt x="2842" y="13327"/>
                  <a:pt x="2877" y="13246"/>
                </a:cubicBezTo>
              </a:path>
              <a:path w="645" h="894">
                <a:moveTo>
                  <a:pt x="3423" y="12402"/>
                </a:moveTo>
                <a:cubicBezTo>
                  <a:pt x="3472" y="12617"/>
                  <a:pt x="3574" y="12928"/>
                  <a:pt x="3473" y="13146"/>
                </a:cubicBezTo>
                <a:cubicBezTo>
                  <a:pt x="3456" y="13154"/>
                  <a:pt x="3440" y="13163"/>
                  <a:pt x="3423" y="13171"/>
                </a:cubicBezTo>
              </a:path>
              <a:path w="645" h="894">
                <a:moveTo>
                  <a:pt x="2977" y="13022"/>
                </a:moveTo>
                <a:cubicBezTo>
                  <a:pt x="3150" y="12967"/>
                  <a:pt x="3321" y="12919"/>
                  <a:pt x="3497" y="128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38200" y="4375080"/>
            <a:ext cx="204840" cy="349200"/>
          </a:xfrm>
          <a:custGeom>
            <a:avLst/>
            <a:gdLst/>
            <a:ahLst/>
            <a:rect l="l" t="t" r="r" b="b"/>
            <a:pathLst>
              <a:path w="571" h="969">
                <a:moveTo>
                  <a:pt x="4043" y="12154"/>
                </a:moveTo>
                <a:cubicBezTo>
                  <a:pt x="3993" y="12432"/>
                  <a:pt x="3931" y="12733"/>
                  <a:pt x="4068" y="12998"/>
                </a:cubicBezTo>
                <a:cubicBezTo>
                  <a:pt x="4115" y="13088"/>
                  <a:pt x="4166" y="13111"/>
                  <a:pt x="4242" y="13122"/>
                </a:cubicBezTo>
              </a:path>
              <a:path w="571" h="969">
                <a:moveTo>
                  <a:pt x="4291" y="12551"/>
                </a:moveTo>
                <a:cubicBezTo>
                  <a:pt x="4333" y="12594"/>
                  <a:pt x="4457" y="12628"/>
                  <a:pt x="4539" y="12601"/>
                </a:cubicBezTo>
                <a:cubicBezTo>
                  <a:pt x="4547" y="12593"/>
                  <a:pt x="4556" y="12584"/>
                  <a:pt x="4564" y="125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8320" y="4384800"/>
            <a:ext cx="27000" cy="250560"/>
          </a:xfrm>
          <a:custGeom>
            <a:avLst/>
            <a:gdLst/>
            <a:ahLst/>
            <a:rect l="l" t="t" r="r" b="b"/>
            <a:pathLst>
              <a:path w="76" h="696">
                <a:moveTo>
                  <a:pt x="4911" y="12179"/>
                </a:moveTo>
                <a:lnTo>
                  <a:pt x="4911" y="12204"/>
                </a:lnTo>
                <a:lnTo>
                  <a:pt x="4961" y="12378"/>
                </a:lnTo>
                <a:lnTo>
                  <a:pt x="4986" y="12601"/>
                </a:lnTo>
                <a:lnTo>
                  <a:pt x="4961" y="12799"/>
                </a:lnTo>
                <a:lnTo>
                  <a:pt x="4961" y="12874"/>
                </a:lnTo>
                <a:lnTo>
                  <a:pt x="4961" y="1284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19160" y="4562640"/>
            <a:ext cx="9720" cy="161640"/>
          </a:xfrm>
          <a:custGeom>
            <a:avLst/>
            <a:gdLst/>
            <a:ahLst/>
            <a:rect l="l" t="t" r="r" b="b"/>
            <a:pathLst>
              <a:path w="26" h="448">
                <a:moveTo>
                  <a:pt x="5333" y="12675"/>
                </a:moveTo>
                <a:cubicBezTo>
                  <a:pt x="5350" y="12827"/>
                  <a:pt x="5358" y="12969"/>
                  <a:pt x="5358" y="131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89080" y="4357800"/>
            <a:ext cx="268200" cy="36648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5804" y="12105"/>
                </a:moveTo>
                <a:cubicBezTo>
                  <a:pt x="5830" y="12281"/>
                  <a:pt x="5803" y="12598"/>
                  <a:pt x="5879" y="12750"/>
                </a:cubicBezTo>
                <a:cubicBezTo>
                  <a:pt x="5887" y="12742"/>
                  <a:pt x="5896" y="12733"/>
                  <a:pt x="5904" y="12725"/>
                </a:cubicBezTo>
              </a:path>
              <a:path w="745" h="1018">
                <a:moveTo>
                  <a:pt x="6276" y="12129"/>
                </a:moveTo>
                <a:cubicBezTo>
                  <a:pt x="6440" y="12439"/>
                  <a:pt x="6731" y="12818"/>
                  <a:pt x="6325" y="13097"/>
                </a:cubicBezTo>
                <a:cubicBezTo>
                  <a:pt x="6275" y="13105"/>
                  <a:pt x="6226" y="13114"/>
                  <a:pt x="6176" y="131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46080" y="2098800"/>
            <a:ext cx="1036800" cy="71280"/>
          </a:xfrm>
          <a:custGeom>
            <a:avLst/>
            <a:gdLst/>
            <a:ahLst/>
            <a:rect l="l" t="t" r="r" b="b"/>
            <a:pathLst>
              <a:path w="2879" h="200">
                <a:moveTo>
                  <a:pt x="2629" y="5953"/>
                </a:moveTo>
                <a:cubicBezTo>
                  <a:pt x="2697" y="5961"/>
                  <a:pt x="2758" y="5975"/>
                  <a:pt x="2828" y="5978"/>
                </a:cubicBezTo>
                <a:cubicBezTo>
                  <a:pt x="2946" y="5983"/>
                  <a:pt x="3053" y="6019"/>
                  <a:pt x="3175" y="6003"/>
                </a:cubicBezTo>
                <a:cubicBezTo>
                  <a:pt x="3293" y="5987"/>
                  <a:pt x="3400" y="5989"/>
                  <a:pt x="3522" y="5978"/>
                </a:cubicBezTo>
                <a:cubicBezTo>
                  <a:pt x="3663" y="5966"/>
                  <a:pt x="3852" y="5989"/>
                  <a:pt x="3994" y="6003"/>
                </a:cubicBezTo>
                <a:cubicBezTo>
                  <a:pt x="4231" y="6026"/>
                  <a:pt x="4451" y="5991"/>
                  <a:pt x="4688" y="5953"/>
                </a:cubicBezTo>
                <a:cubicBezTo>
                  <a:pt x="4845" y="5928"/>
                  <a:pt x="5005" y="5913"/>
                  <a:pt x="5159" y="5879"/>
                </a:cubicBezTo>
                <a:cubicBezTo>
                  <a:pt x="5274" y="5853"/>
                  <a:pt x="5391" y="5841"/>
                  <a:pt x="5507" y="58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27160" y="2795760"/>
            <a:ext cx="758880" cy="366480"/>
          </a:xfrm>
          <a:custGeom>
            <a:avLst/>
            <a:gdLst/>
            <a:ahLst/>
            <a:rect l="l" t="t" r="r" b="b"/>
            <a:pathLst>
              <a:path w="2109" h="1018">
                <a:moveTo>
                  <a:pt x="5904" y="8161"/>
                </a:moveTo>
                <a:cubicBezTo>
                  <a:pt x="5891" y="8110"/>
                  <a:pt x="5834" y="7985"/>
                  <a:pt x="5755" y="8037"/>
                </a:cubicBezTo>
                <a:cubicBezTo>
                  <a:pt x="5678" y="8138"/>
                  <a:pt x="5652" y="8174"/>
                  <a:pt x="5631" y="8260"/>
                </a:cubicBezTo>
                <a:cubicBezTo>
                  <a:pt x="5631" y="8268"/>
                  <a:pt x="5631" y="8277"/>
                  <a:pt x="5631" y="8285"/>
                </a:cubicBezTo>
                <a:cubicBezTo>
                  <a:pt x="5791" y="8235"/>
                  <a:pt x="5870" y="8013"/>
                  <a:pt x="5879" y="8235"/>
                </a:cubicBezTo>
                <a:cubicBezTo>
                  <a:pt x="5882" y="8296"/>
                  <a:pt x="5854" y="8640"/>
                  <a:pt x="5854" y="8607"/>
                </a:cubicBezTo>
              </a:path>
              <a:path w="2109" h="1018">
                <a:moveTo>
                  <a:pt x="6127" y="8086"/>
                </a:moveTo>
                <a:cubicBezTo>
                  <a:pt x="6024" y="8301"/>
                  <a:pt x="5975" y="8412"/>
                  <a:pt x="6077" y="8632"/>
                </a:cubicBezTo>
                <a:cubicBezTo>
                  <a:pt x="6291" y="8592"/>
                  <a:pt x="6328" y="8531"/>
                  <a:pt x="6300" y="8310"/>
                </a:cubicBezTo>
                <a:cubicBezTo>
                  <a:pt x="6280" y="8154"/>
                  <a:pt x="6258" y="8158"/>
                  <a:pt x="6127" y="8136"/>
                </a:cubicBezTo>
              </a:path>
              <a:path w="2109" h="1018">
                <a:moveTo>
                  <a:pt x="6350" y="7764"/>
                </a:moveTo>
                <a:cubicBezTo>
                  <a:pt x="6309" y="7845"/>
                  <a:pt x="6292" y="7858"/>
                  <a:pt x="6300" y="7913"/>
                </a:cubicBezTo>
                <a:cubicBezTo>
                  <a:pt x="6324" y="7910"/>
                  <a:pt x="6529" y="7881"/>
                  <a:pt x="6474" y="7813"/>
                </a:cubicBezTo>
                <a:cubicBezTo>
                  <a:pt x="6430" y="7792"/>
                  <a:pt x="6418" y="7789"/>
                  <a:pt x="6400" y="7764"/>
                </a:cubicBezTo>
              </a:path>
              <a:path w="2109" h="1018">
                <a:moveTo>
                  <a:pt x="7640" y="7987"/>
                </a:moveTo>
                <a:cubicBezTo>
                  <a:pt x="7655" y="8169"/>
                  <a:pt x="7696" y="8351"/>
                  <a:pt x="7714" y="8533"/>
                </a:cubicBezTo>
                <a:cubicBezTo>
                  <a:pt x="7714" y="8591"/>
                  <a:pt x="7714" y="8599"/>
                  <a:pt x="7714" y="8632"/>
                </a:cubicBezTo>
                <a:cubicBezTo>
                  <a:pt x="7592" y="8640"/>
                  <a:pt x="7436" y="8707"/>
                  <a:pt x="7317" y="8682"/>
                </a:cubicBezTo>
                <a:cubicBezTo>
                  <a:pt x="7273" y="8673"/>
                  <a:pt x="7221" y="8692"/>
                  <a:pt x="7193" y="8657"/>
                </a:cubicBezTo>
                <a:cubicBezTo>
                  <a:pt x="7157" y="8612"/>
                  <a:pt x="7147" y="8670"/>
                  <a:pt x="7094" y="8632"/>
                </a:cubicBezTo>
                <a:cubicBezTo>
                  <a:pt x="7094" y="8624"/>
                  <a:pt x="7094" y="8615"/>
                  <a:pt x="7094" y="8607"/>
                </a:cubicBezTo>
              </a:path>
              <a:path w="2109" h="1018">
                <a:moveTo>
                  <a:pt x="7193" y="8359"/>
                </a:moveTo>
                <a:cubicBezTo>
                  <a:pt x="7157" y="8451"/>
                  <a:pt x="7061" y="8549"/>
                  <a:pt x="6995" y="8632"/>
                </a:cubicBezTo>
                <a:cubicBezTo>
                  <a:pt x="6972" y="8655"/>
                  <a:pt x="6964" y="8659"/>
                  <a:pt x="6970" y="8682"/>
                </a:cubicBezTo>
                <a:cubicBezTo>
                  <a:pt x="7094" y="8716"/>
                  <a:pt x="7216" y="8763"/>
                  <a:pt x="7342" y="8781"/>
                </a:cubicBezTo>
              </a:path>
              <a:path w="2109" h="1018">
                <a:moveTo>
                  <a:pt x="7516" y="7962"/>
                </a:moveTo>
                <a:cubicBezTo>
                  <a:pt x="7484" y="7900"/>
                  <a:pt x="7421" y="8175"/>
                  <a:pt x="7417" y="8186"/>
                </a:cubicBezTo>
                <a:cubicBezTo>
                  <a:pt x="7409" y="8211"/>
                  <a:pt x="7400" y="8235"/>
                  <a:pt x="7392" y="8260"/>
                </a:cubicBezTo>
                <a:cubicBezTo>
                  <a:pt x="7372" y="8250"/>
                  <a:pt x="7417" y="8163"/>
                  <a:pt x="7441" y="8111"/>
                </a:cubicBezTo>
                <a:cubicBezTo>
                  <a:pt x="7483" y="8028"/>
                  <a:pt x="7491" y="8012"/>
                  <a:pt x="7516" y="7962"/>
                </a:cubicBezTo>
                <a:cubicBezTo>
                  <a:pt x="7582" y="8002"/>
                  <a:pt x="7627" y="8110"/>
                  <a:pt x="7689" y="8161"/>
                </a:cubicBezTo>
                <a:cubicBezTo>
                  <a:pt x="7708" y="8177"/>
                  <a:pt x="7713" y="8177"/>
                  <a:pt x="7739" y="81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00240" y="3268800"/>
            <a:ext cx="1009800" cy="901440"/>
          </a:xfrm>
          <a:custGeom>
            <a:avLst/>
            <a:gdLst/>
            <a:ahLst/>
            <a:rect l="l" t="t" r="r" b="b"/>
            <a:pathLst>
              <a:path w="2804" h="2506">
                <a:moveTo>
                  <a:pt x="8905" y="9351"/>
                </a:moveTo>
                <a:cubicBezTo>
                  <a:pt x="8927" y="9373"/>
                  <a:pt x="8915" y="9375"/>
                  <a:pt x="8905" y="9426"/>
                </a:cubicBezTo>
                <a:cubicBezTo>
                  <a:pt x="8960" y="9259"/>
                  <a:pt x="9121" y="9295"/>
                  <a:pt x="9153" y="9500"/>
                </a:cubicBezTo>
                <a:cubicBezTo>
                  <a:pt x="9207" y="9849"/>
                  <a:pt x="8961" y="10047"/>
                  <a:pt x="8682" y="10120"/>
                </a:cubicBezTo>
                <a:cubicBezTo>
                  <a:pt x="8702" y="9978"/>
                  <a:pt x="8734" y="9798"/>
                  <a:pt x="8930" y="9847"/>
                </a:cubicBezTo>
                <a:cubicBezTo>
                  <a:pt x="9017" y="9869"/>
                  <a:pt x="9217" y="9942"/>
                  <a:pt x="9227" y="10046"/>
                </a:cubicBezTo>
                <a:cubicBezTo>
                  <a:pt x="9227" y="10054"/>
                  <a:pt x="9227" y="10063"/>
                  <a:pt x="9227" y="10071"/>
                </a:cubicBezTo>
              </a:path>
              <a:path w="2804" h="2506">
                <a:moveTo>
                  <a:pt x="9599" y="9971"/>
                </a:moveTo>
                <a:cubicBezTo>
                  <a:pt x="9628" y="10092"/>
                  <a:pt x="9606" y="10188"/>
                  <a:pt x="9674" y="10071"/>
                </a:cubicBezTo>
              </a:path>
              <a:path w="2804" h="2506">
                <a:moveTo>
                  <a:pt x="10071" y="9376"/>
                </a:moveTo>
                <a:cubicBezTo>
                  <a:pt x="9918" y="9555"/>
                  <a:pt x="9890" y="9688"/>
                  <a:pt x="9872" y="9922"/>
                </a:cubicBezTo>
                <a:cubicBezTo>
                  <a:pt x="10097" y="9938"/>
                  <a:pt x="10508" y="9884"/>
                  <a:pt x="10443" y="9525"/>
                </a:cubicBezTo>
                <a:cubicBezTo>
                  <a:pt x="10417" y="9379"/>
                  <a:pt x="10251" y="9369"/>
                  <a:pt x="10145" y="9351"/>
                </a:cubicBezTo>
              </a:path>
              <a:path w="2804" h="2506">
                <a:moveTo>
                  <a:pt x="10542" y="9079"/>
                </a:moveTo>
                <a:cubicBezTo>
                  <a:pt x="10750" y="9428"/>
                  <a:pt x="10919" y="9643"/>
                  <a:pt x="10666" y="10021"/>
                </a:cubicBezTo>
                <a:cubicBezTo>
                  <a:pt x="10599" y="10089"/>
                  <a:pt x="10585" y="10114"/>
                  <a:pt x="10517" y="10096"/>
                </a:cubicBezTo>
              </a:path>
              <a:path w="2804" h="2506">
                <a:moveTo>
                  <a:pt x="8632" y="9128"/>
                </a:moveTo>
                <a:cubicBezTo>
                  <a:pt x="8372" y="9374"/>
                  <a:pt x="8250" y="9796"/>
                  <a:pt x="8359" y="10170"/>
                </a:cubicBezTo>
                <a:cubicBezTo>
                  <a:pt x="8409" y="10342"/>
                  <a:pt x="8587" y="10368"/>
                  <a:pt x="8731" y="10368"/>
                </a:cubicBezTo>
              </a:path>
              <a:path w="2804" h="2506">
                <a:moveTo>
                  <a:pt x="8781" y="10517"/>
                </a:moveTo>
                <a:cubicBezTo>
                  <a:pt x="8681" y="10584"/>
                  <a:pt x="8613" y="10965"/>
                  <a:pt x="8607" y="11088"/>
                </a:cubicBezTo>
                <a:cubicBezTo>
                  <a:pt x="8597" y="11293"/>
                  <a:pt x="8646" y="11490"/>
                  <a:pt x="8830" y="11584"/>
                </a:cubicBezTo>
              </a:path>
              <a:path w="2804" h="2506">
                <a:moveTo>
                  <a:pt x="9203" y="10765"/>
                </a:moveTo>
                <a:cubicBezTo>
                  <a:pt x="9221" y="10937"/>
                  <a:pt x="9216" y="11116"/>
                  <a:pt x="9252" y="11286"/>
                </a:cubicBezTo>
                <a:cubicBezTo>
                  <a:pt x="9252" y="11287"/>
                  <a:pt x="9277" y="11404"/>
                  <a:pt x="9277" y="11336"/>
                </a:cubicBezTo>
              </a:path>
              <a:path w="2804" h="2506">
                <a:moveTo>
                  <a:pt x="9699" y="11212"/>
                </a:moveTo>
                <a:cubicBezTo>
                  <a:pt x="9714" y="11321"/>
                  <a:pt x="9723" y="11422"/>
                  <a:pt x="9723" y="11534"/>
                </a:cubicBezTo>
                <a:cubicBezTo>
                  <a:pt x="9723" y="11526"/>
                  <a:pt x="9723" y="11517"/>
                  <a:pt x="9723" y="11509"/>
                </a:cubicBezTo>
              </a:path>
              <a:path w="2804" h="2506">
                <a:moveTo>
                  <a:pt x="10021" y="10914"/>
                </a:moveTo>
                <a:cubicBezTo>
                  <a:pt x="10062" y="10914"/>
                  <a:pt x="10104" y="10914"/>
                  <a:pt x="10145" y="10914"/>
                </a:cubicBezTo>
              </a:path>
              <a:path w="2804" h="2506">
                <a:moveTo>
                  <a:pt x="10418" y="10542"/>
                </a:moveTo>
                <a:cubicBezTo>
                  <a:pt x="10484" y="10489"/>
                  <a:pt x="10656" y="10459"/>
                  <a:pt x="10666" y="10616"/>
                </a:cubicBezTo>
                <a:cubicBezTo>
                  <a:pt x="10641" y="10717"/>
                  <a:pt x="10632" y="10750"/>
                  <a:pt x="10567" y="10790"/>
                </a:cubicBezTo>
                <a:cubicBezTo>
                  <a:pt x="10566" y="10722"/>
                  <a:pt x="10790" y="10724"/>
                  <a:pt x="10840" y="10840"/>
                </a:cubicBezTo>
                <a:cubicBezTo>
                  <a:pt x="10925" y="11038"/>
                  <a:pt x="10721" y="11163"/>
                  <a:pt x="10567" y="11187"/>
                </a:cubicBezTo>
                <a:cubicBezTo>
                  <a:pt x="10493" y="11187"/>
                  <a:pt x="10460" y="11212"/>
                  <a:pt x="10468" y="11162"/>
                </a:cubicBezTo>
              </a:path>
              <a:path w="2804" h="2506">
                <a:moveTo>
                  <a:pt x="10815" y="10319"/>
                </a:moveTo>
                <a:cubicBezTo>
                  <a:pt x="11073" y="10649"/>
                  <a:pt x="11232" y="10808"/>
                  <a:pt x="11038" y="11212"/>
                </a:cubicBezTo>
                <a:cubicBezTo>
                  <a:pt x="11005" y="11280"/>
                  <a:pt x="10981" y="11315"/>
                  <a:pt x="10964" y="11261"/>
                </a:cubicBezTo>
              </a:path>
              <a:path w="2804" h="2506">
                <a:moveTo>
                  <a:pt x="8458" y="9699"/>
                </a:moveTo>
                <a:cubicBezTo>
                  <a:pt x="8502" y="9690"/>
                  <a:pt x="8536" y="9680"/>
                  <a:pt x="8582" y="9674"/>
                </a:cubicBezTo>
              </a:path>
              <a:path w="2804" h="2506">
                <a:moveTo>
                  <a:pt x="8756" y="11112"/>
                </a:moveTo>
                <a:cubicBezTo>
                  <a:pt x="8819" y="11097"/>
                  <a:pt x="8887" y="11056"/>
                  <a:pt x="8954" y="11038"/>
                </a:cubicBezTo>
                <a:cubicBezTo>
                  <a:pt x="8962" y="11038"/>
                  <a:pt x="8971" y="11038"/>
                  <a:pt x="8979" y="110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62120" y="3197160"/>
            <a:ext cx="358920" cy="2017800"/>
          </a:xfrm>
          <a:custGeom>
            <a:avLst/>
            <a:gdLst/>
            <a:ahLst/>
            <a:rect l="l" t="t" r="r" b="b"/>
            <a:pathLst>
              <a:path w="993" h="5607">
                <a:moveTo>
                  <a:pt x="7119" y="8880"/>
                </a:moveTo>
                <a:cubicBezTo>
                  <a:pt x="7128" y="8913"/>
                  <a:pt x="7163" y="9012"/>
                  <a:pt x="7169" y="9079"/>
                </a:cubicBezTo>
                <a:cubicBezTo>
                  <a:pt x="7181" y="9220"/>
                  <a:pt x="7168" y="9360"/>
                  <a:pt x="7193" y="9500"/>
                </a:cubicBezTo>
                <a:cubicBezTo>
                  <a:pt x="7234" y="9734"/>
                  <a:pt x="7301" y="9961"/>
                  <a:pt x="7342" y="10195"/>
                </a:cubicBezTo>
                <a:cubicBezTo>
                  <a:pt x="7375" y="10381"/>
                  <a:pt x="7430" y="10556"/>
                  <a:pt x="7466" y="10740"/>
                </a:cubicBezTo>
                <a:cubicBezTo>
                  <a:pt x="7507" y="10949"/>
                  <a:pt x="7559" y="11149"/>
                  <a:pt x="7590" y="11361"/>
                </a:cubicBezTo>
                <a:cubicBezTo>
                  <a:pt x="7622" y="11579"/>
                  <a:pt x="7681" y="11786"/>
                  <a:pt x="7714" y="12005"/>
                </a:cubicBezTo>
                <a:cubicBezTo>
                  <a:pt x="7743" y="12196"/>
                  <a:pt x="7764" y="12387"/>
                  <a:pt x="7789" y="12576"/>
                </a:cubicBezTo>
                <a:cubicBezTo>
                  <a:pt x="7812" y="12756"/>
                  <a:pt x="7851" y="12941"/>
                  <a:pt x="7863" y="13122"/>
                </a:cubicBezTo>
                <a:cubicBezTo>
                  <a:pt x="7882" y="13400"/>
                  <a:pt x="7913" y="13688"/>
                  <a:pt x="7962" y="13965"/>
                </a:cubicBezTo>
                <a:cubicBezTo>
                  <a:pt x="7993" y="14142"/>
                  <a:pt x="7906" y="14576"/>
                  <a:pt x="8062" y="14486"/>
                </a:cubicBezTo>
                <a:cubicBezTo>
                  <a:pt x="8078" y="14436"/>
                  <a:pt x="8095" y="14387"/>
                  <a:pt x="8111" y="143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62160" y="2500200"/>
            <a:ext cx="1117800" cy="411120"/>
          </a:xfrm>
          <a:custGeom>
            <a:avLst/>
            <a:gdLst/>
            <a:ahLst/>
            <a:rect l="l" t="t" r="r" b="b"/>
            <a:pathLst>
              <a:path w="3102" h="1142">
                <a:moveTo>
                  <a:pt x="8508" y="7789"/>
                </a:moveTo>
                <a:cubicBezTo>
                  <a:pt x="8571" y="7920"/>
                  <a:pt x="8591" y="7981"/>
                  <a:pt x="8682" y="8086"/>
                </a:cubicBezTo>
                <a:cubicBezTo>
                  <a:pt x="8598" y="7962"/>
                  <a:pt x="8499" y="7809"/>
                  <a:pt x="8607" y="7665"/>
                </a:cubicBezTo>
                <a:cubicBezTo>
                  <a:pt x="8706" y="7590"/>
                  <a:pt x="8739" y="7565"/>
                  <a:pt x="8830" y="7590"/>
                </a:cubicBezTo>
              </a:path>
              <a:path w="3102" h="1142">
                <a:moveTo>
                  <a:pt x="9029" y="7615"/>
                </a:moveTo>
                <a:cubicBezTo>
                  <a:pt x="8902" y="7760"/>
                  <a:pt x="8896" y="7791"/>
                  <a:pt x="8905" y="7987"/>
                </a:cubicBezTo>
                <a:cubicBezTo>
                  <a:pt x="9017" y="7987"/>
                  <a:pt x="9365" y="7910"/>
                  <a:pt x="9153" y="7714"/>
                </a:cubicBezTo>
                <a:cubicBezTo>
                  <a:pt x="9042" y="7670"/>
                  <a:pt x="9013" y="7662"/>
                  <a:pt x="8954" y="7615"/>
                </a:cubicBezTo>
              </a:path>
              <a:path w="3102" h="1142">
                <a:moveTo>
                  <a:pt x="9277" y="7317"/>
                </a:moveTo>
                <a:cubicBezTo>
                  <a:pt x="9376" y="7494"/>
                  <a:pt x="9459" y="7777"/>
                  <a:pt x="9550" y="7913"/>
                </a:cubicBezTo>
              </a:path>
              <a:path w="3102" h="1142">
                <a:moveTo>
                  <a:pt x="9302" y="7590"/>
                </a:moveTo>
                <a:cubicBezTo>
                  <a:pt x="9444" y="7547"/>
                  <a:pt x="9580" y="7502"/>
                  <a:pt x="9723" y="7466"/>
                </a:cubicBezTo>
              </a:path>
              <a:path w="3102" h="1142">
                <a:moveTo>
                  <a:pt x="9971" y="7466"/>
                </a:moveTo>
                <a:cubicBezTo>
                  <a:pt x="9879" y="7325"/>
                  <a:pt x="9770" y="7670"/>
                  <a:pt x="9773" y="7739"/>
                </a:cubicBezTo>
                <a:cubicBezTo>
                  <a:pt x="9785" y="8010"/>
                  <a:pt x="9980" y="7737"/>
                  <a:pt x="9996" y="7640"/>
                </a:cubicBezTo>
                <a:cubicBezTo>
                  <a:pt x="9988" y="7623"/>
                  <a:pt x="9979" y="7607"/>
                  <a:pt x="9971" y="7590"/>
                </a:cubicBezTo>
                <a:cubicBezTo>
                  <a:pt x="10091" y="7733"/>
                  <a:pt x="10178" y="7706"/>
                  <a:pt x="10344" y="7665"/>
                </a:cubicBezTo>
              </a:path>
              <a:path w="3102" h="1142">
                <a:moveTo>
                  <a:pt x="10269" y="7169"/>
                </a:moveTo>
                <a:cubicBezTo>
                  <a:pt x="10344" y="7355"/>
                  <a:pt x="10451" y="7557"/>
                  <a:pt x="10542" y="7739"/>
                </a:cubicBezTo>
                <a:cubicBezTo>
                  <a:pt x="10550" y="7747"/>
                  <a:pt x="10559" y="7756"/>
                  <a:pt x="10567" y="7764"/>
                </a:cubicBezTo>
              </a:path>
              <a:path w="3102" h="1142">
                <a:moveTo>
                  <a:pt x="10220" y="7516"/>
                </a:moveTo>
                <a:cubicBezTo>
                  <a:pt x="10408" y="7467"/>
                  <a:pt x="10602" y="7411"/>
                  <a:pt x="10790" y="7441"/>
                </a:cubicBezTo>
              </a:path>
              <a:path w="3102" h="1142">
                <a:moveTo>
                  <a:pt x="10790" y="7516"/>
                </a:moveTo>
                <a:cubicBezTo>
                  <a:pt x="10877" y="7479"/>
                  <a:pt x="10968" y="7443"/>
                  <a:pt x="11013" y="7367"/>
                </a:cubicBezTo>
                <a:cubicBezTo>
                  <a:pt x="10868" y="7346"/>
                  <a:pt x="10655" y="7397"/>
                  <a:pt x="10790" y="7615"/>
                </a:cubicBezTo>
                <a:cubicBezTo>
                  <a:pt x="10953" y="7878"/>
                  <a:pt x="11247" y="7697"/>
                  <a:pt x="11361" y="7516"/>
                </a:cubicBezTo>
                <a:cubicBezTo>
                  <a:pt x="11433" y="7402"/>
                  <a:pt x="11433" y="7378"/>
                  <a:pt x="11361" y="7317"/>
                </a:cubicBezTo>
                <a:cubicBezTo>
                  <a:pt x="11231" y="7377"/>
                  <a:pt x="11027" y="7545"/>
                  <a:pt x="11237" y="7689"/>
                </a:cubicBezTo>
                <a:cubicBezTo>
                  <a:pt x="11549" y="7903"/>
                  <a:pt x="11529" y="7348"/>
                  <a:pt x="11485" y="7218"/>
                </a:cubicBezTo>
                <a:cubicBezTo>
                  <a:pt x="11452" y="7160"/>
                  <a:pt x="11418" y="7103"/>
                  <a:pt x="11385" y="7045"/>
                </a:cubicBezTo>
                <a:cubicBezTo>
                  <a:pt x="11369" y="7012"/>
                  <a:pt x="11352" y="6978"/>
                  <a:pt x="11336" y="6945"/>
                </a:cubicBezTo>
                <a:cubicBezTo>
                  <a:pt x="11361" y="7190"/>
                  <a:pt x="11485" y="7416"/>
                  <a:pt x="11584" y="7640"/>
                </a:cubicBezTo>
                <a:cubicBezTo>
                  <a:pt x="11592" y="7656"/>
                  <a:pt x="11601" y="7673"/>
                  <a:pt x="11609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16160" y="4321080"/>
            <a:ext cx="241560" cy="366840"/>
          </a:xfrm>
          <a:custGeom>
            <a:avLst/>
            <a:gdLst/>
            <a:ahLst/>
            <a:rect l="l" t="t" r="r" b="b"/>
            <a:pathLst>
              <a:path w="671" h="1018">
                <a:moveTo>
                  <a:pt x="8781" y="12005"/>
                </a:moveTo>
                <a:cubicBezTo>
                  <a:pt x="8743" y="12194"/>
                  <a:pt x="8653" y="12402"/>
                  <a:pt x="8657" y="12601"/>
                </a:cubicBezTo>
                <a:cubicBezTo>
                  <a:pt x="8661" y="12766"/>
                  <a:pt x="8746" y="12951"/>
                  <a:pt x="8905" y="13022"/>
                </a:cubicBezTo>
                <a:cubicBezTo>
                  <a:pt x="8913" y="13022"/>
                  <a:pt x="8922" y="13022"/>
                  <a:pt x="8930" y="13022"/>
                </a:cubicBezTo>
              </a:path>
              <a:path w="671" h="1018">
                <a:moveTo>
                  <a:pt x="9252" y="12278"/>
                </a:moveTo>
                <a:cubicBezTo>
                  <a:pt x="9275" y="12256"/>
                  <a:pt x="9283" y="12251"/>
                  <a:pt x="9277" y="12229"/>
                </a:cubicBezTo>
                <a:cubicBezTo>
                  <a:pt x="9277" y="12379"/>
                  <a:pt x="9297" y="12525"/>
                  <a:pt x="9302" y="12675"/>
                </a:cubicBezTo>
                <a:cubicBezTo>
                  <a:pt x="9304" y="12747"/>
                  <a:pt x="9327" y="12707"/>
                  <a:pt x="9327" y="12774"/>
                </a:cubicBezTo>
                <a:cubicBezTo>
                  <a:pt x="9327" y="12830"/>
                  <a:pt x="9342" y="12836"/>
                  <a:pt x="9302" y="12849"/>
                </a:cubicBezTo>
              </a:path>
              <a:path w="671" h="1018">
                <a:moveTo>
                  <a:pt x="8756" y="12601"/>
                </a:moveTo>
                <a:cubicBezTo>
                  <a:pt x="8814" y="12601"/>
                  <a:pt x="8872" y="12601"/>
                  <a:pt x="8930" y="12601"/>
                </a:cubicBezTo>
                <a:cubicBezTo>
                  <a:pt x="8942" y="12563"/>
                  <a:pt x="8959" y="12576"/>
                  <a:pt x="9004" y="12576"/>
                </a:cubicBezTo>
                <a:cubicBezTo>
                  <a:pt x="9012" y="12576"/>
                  <a:pt x="9021" y="12576"/>
                  <a:pt x="9029" y="125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10000" y="4259160"/>
            <a:ext cx="500040" cy="500040"/>
          </a:xfrm>
          <a:custGeom>
            <a:avLst/>
            <a:gdLst/>
            <a:ahLst/>
            <a:rect l="l" t="t" r="r" b="b"/>
            <a:pathLst>
              <a:path w="1390" h="1390">
                <a:moveTo>
                  <a:pt x="9823" y="12923"/>
                </a:moveTo>
                <a:cubicBezTo>
                  <a:pt x="9823" y="13039"/>
                  <a:pt x="9878" y="13215"/>
                  <a:pt x="9748" y="13196"/>
                </a:cubicBezTo>
              </a:path>
              <a:path w="1390" h="1390">
                <a:moveTo>
                  <a:pt x="10145" y="12526"/>
                </a:moveTo>
                <a:cubicBezTo>
                  <a:pt x="10086" y="12526"/>
                  <a:pt x="10212" y="12518"/>
                  <a:pt x="10269" y="12502"/>
                </a:cubicBezTo>
                <a:cubicBezTo>
                  <a:pt x="10392" y="12467"/>
                  <a:pt x="10331" y="12506"/>
                  <a:pt x="10418" y="12477"/>
                </a:cubicBezTo>
              </a:path>
              <a:path w="1390" h="1390">
                <a:moveTo>
                  <a:pt x="10666" y="12105"/>
                </a:moveTo>
                <a:cubicBezTo>
                  <a:pt x="10666" y="12281"/>
                  <a:pt x="10704" y="12451"/>
                  <a:pt x="10716" y="12626"/>
                </a:cubicBezTo>
                <a:cubicBezTo>
                  <a:pt x="10721" y="12700"/>
                  <a:pt x="10717" y="12844"/>
                  <a:pt x="10740" y="12774"/>
                </a:cubicBezTo>
              </a:path>
              <a:path w="1390" h="1390">
                <a:moveTo>
                  <a:pt x="10641" y="11832"/>
                </a:moveTo>
                <a:cubicBezTo>
                  <a:pt x="10872" y="11960"/>
                  <a:pt x="11094" y="12240"/>
                  <a:pt x="11137" y="12526"/>
                </a:cubicBezTo>
                <a:cubicBezTo>
                  <a:pt x="11151" y="12621"/>
                  <a:pt x="11099" y="12924"/>
                  <a:pt x="11013" y="12998"/>
                </a:cubicBezTo>
                <a:cubicBezTo>
                  <a:pt x="11005" y="12998"/>
                  <a:pt x="10996" y="12998"/>
                  <a:pt x="10988" y="129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92840" y="3938760"/>
            <a:ext cx="608040" cy="1463400"/>
          </a:xfrm>
          <a:custGeom>
            <a:avLst/>
            <a:gdLst/>
            <a:ahLst/>
            <a:rect l="l" t="t" r="r" b="b"/>
            <a:pathLst>
              <a:path w="1688" h="4069">
                <a:moveTo>
                  <a:pt x="16371" y="11733"/>
                </a:moveTo>
                <a:cubicBezTo>
                  <a:pt x="16398" y="11724"/>
                  <a:pt x="16417" y="11715"/>
                  <a:pt x="16421" y="11683"/>
                </a:cubicBezTo>
                <a:cubicBezTo>
                  <a:pt x="16430" y="11613"/>
                  <a:pt x="16413" y="11726"/>
                  <a:pt x="16421" y="11733"/>
                </a:cubicBezTo>
                <a:cubicBezTo>
                  <a:pt x="16429" y="11733"/>
                  <a:pt x="16438" y="11733"/>
                  <a:pt x="16446" y="11733"/>
                </a:cubicBezTo>
                <a:cubicBezTo>
                  <a:pt x="16480" y="11724"/>
                  <a:pt x="16540" y="11671"/>
                  <a:pt x="16470" y="11633"/>
                </a:cubicBezTo>
                <a:cubicBezTo>
                  <a:pt x="16356" y="11570"/>
                  <a:pt x="16405" y="11753"/>
                  <a:pt x="16421" y="11782"/>
                </a:cubicBezTo>
                <a:cubicBezTo>
                  <a:pt x="16468" y="11735"/>
                  <a:pt x="16496" y="11735"/>
                  <a:pt x="16446" y="11683"/>
                </a:cubicBezTo>
                <a:cubicBezTo>
                  <a:pt x="16391" y="11628"/>
                  <a:pt x="16362" y="11756"/>
                  <a:pt x="16421" y="11807"/>
                </a:cubicBezTo>
                <a:cubicBezTo>
                  <a:pt x="16450" y="11832"/>
                  <a:pt x="16467" y="11814"/>
                  <a:pt x="16446" y="11782"/>
                </a:cubicBezTo>
              </a:path>
              <a:path w="1688" h="4069">
                <a:moveTo>
                  <a:pt x="16694" y="11733"/>
                </a:moveTo>
                <a:cubicBezTo>
                  <a:pt x="16766" y="11708"/>
                  <a:pt x="16776" y="11773"/>
                  <a:pt x="16818" y="11857"/>
                </a:cubicBezTo>
                <a:cubicBezTo>
                  <a:pt x="16828" y="11811"/>
                  <a:pt x="16756" y="11750"/>
                  <a:pt x="16743" y="11683"/>
                </a:cubicBezTo>
                <a:cubicBezTo>
                  <a:pt x="16728" y="11607"/>
                  <a:pt x="16845" y="11592"/>
                  <a:pt x="16892" y="11584"/>
                </a:cubicBezTo>
              </a:path>
              <a:path w="1688" h="4069">
                <a:moveTo>
                  <a:pt x="16743" y="11782"/>
                </a:moveTo>
                <a:cubicBezTo>
                  <a:pt x="16801" y="11782"/>
                  <a:pt x="16843" y="11794"/>
                  <a:pt x="16867" y="11757"/>
                </a:cubicBezTo>
              </a:path>
              <a:path w="1688" h="4069">
                <a:moveTo>
                  <a:pt x="16942" y="11385"/>
                </a:moveTo>
                <a:cubicBezTo>
                  <a:pt x="16980" y="11462"/>
                  <a:pt x="16978" y="11478"/>
                  <a:pt x="17016" y="11509"/>
                </a:cubicBezTo>
              </a:path>
              <a:path w="1688" h="4069">
                <a:moveTo>
                  <a:pt x="17363" y="14163"/>
                </a:moveTo>
                <a:cubicBezTo>
                  <a:pt x="17385" y="14163"/>
                  <a:pt x="17307" y="14213"/>
                  <a:pt x="17264" y="14263"/>
                </a:cubicBezTo>
                <a:cubicBezTo>
                  <a:pt x="17230" y="14302"/>
                  <a:pt x="17332" y="14301"/>
                  <a:pt x="17363" y="14213"/>
                </a:cubicBezTo>
                <a:cubicBezTo>
                  <a:pt x="17363" y="14180"/>
                  <a:pt x="17355" y="14172"/>
                  <a:pt x="17314" y="14188"/>
                </a:cubicBezTo>
                <a:cubicBezTo>
                  <a:pt x="17286" y="14223"/>
                  <a:pt x="17273" y="14245"/>
                  <a:pt x="17264" y="14288"/>
                </a:cubicBezTo>
                <a:cubicBezTo>
                  <a:pt x="17335" y="14274"/>
                  <a:pt x="17435" y="14141"/>
                  <a:pt x="17314" y="14163"/>
                </a:cubicBezTo>
                <a:cubicBezTo>
                  <a:pt x="17236" y="14177"/>
                  <a:pt x="17291" y="14282"/>
                  <a:pt x="17314" y="14213"/>
                </a:cubicBezTo>
                <a:cubicBezTo>
                  <a:pt x="17314" y="14196"/>
                  <a:pt x="17314" y="14180"/>
                  <a:pt x="17314" y="14163"/>
                </a:cubicBezTo>
              </a:path>
              <a:path w="1688" h="4069">
                <a:moveTo>
                  <a:pt x="17066" y="14560"/>
                </a:moveTo>
                <a:cubicBezTo>
                  <a:pt x="16927" y="14539"/>
                  <a:pt x="16896" y="14729"/>
                  <a:pt x="16917" y="14858"/>
                </a:cubicBezTo>
                <a:cubicBezTo>
                  <a:pt x="16945" y="15030"/>
                  <a:pt x="17156" y="15068"/>
                  <a:pt x="17239" y="14908"/>
                </a:cubicBezTo>
                <a:cubicBezTo>
                  <a:pt x="17239" y="14883"/>
                  <a:pt x="17239" y="14858"/>
                  <a:pt x="17239" y="14833"/>
                </a:cubicBezTo>
                <a:cubicBezTo>
                  <a:pt x="17166" y="14802"/>
                  <a:pt x="16963" y="14869"/>
                  <a:pt x="17041" y="14858"/>
                </a:cubicBezTo>
                <a:cubicBezTo>
                  <a:pt x="17057" y="14850"/>
                  <a:pt x="17074" y="14841"/>
                  <a:pt x="17090" y="14833"/>
                </a:cubicBezTo>
              </a:path>
              <a:path w="1688" h="4069">
                <a:moveTo>
                  <a:pt x="17363" y="14536"/>
                </a:moveTo>
                <a:cubicBezTo>
                  <a:pt x="17393" y="14476"/>
                  <a:pt x="17388" y="14597"/>
                  <a:pt x="17388" y="14635"/>
                </a:cubicBezTo>
                <a:cubicBezTo>
                  <a:pt x="17388" y="14660"/>
                  <a:pt x="17388" y="14668"/>
                  <a:pt x="17388" y="14635"/>
                </a:cubicBezTo>
              </a:path>
              <a:path w="1688" h="4069">
                <a:moveTo>
                  <a:pt x="16421" y="11757"/>
                </a:moveTo>
                <a:cubicBezTo>
                  <a:pt x="16455" y="11796"/>
                  <a:pt x="16497" y="11837"/>
                  <a:pt x="16520" y="11881"/>
                </a:cubicBezTo>
                <a:cubicBezTo>
                  <a:pt x="16557" y="11951"/>
                  <a:pt x="16568" y="12052"/>
                  <a:pt x="16594" y="12129"/>
                </a:cubicBezTo>
                <a:cubicBezTo>
                  <a:pt x="16615" y="12190"/>
                  <a:pt x="16621" y="12228"/>
                  <a:pt x="16644" y="12278"/>
                </a:cubicBezTo>
                <a:cubicBezTo>
                  <a:pt x="16665" y="12324"/>
                  <a:pt x="16693" y="12376"/>
                  <a:pt x="16718" y="12427"/>
                </a:cubicBezTo>
                <a:cubicBezTo>
                  <a:pt x="16747" y="12485"/>
                  <a:pt x="16747" y="12544"/>
                  <a:pt x="16768" y="12601"/>
                </a:cubicBezTo>
                <a:cubicBezTo>
                  <a:pt x="16785" y="12649"/>
                  <a:pt x="16800" y="12705"/>
                  <a:pt x="16818" y="12750"/>
                </a:cubicBezTo>
                <a:cubicBezTo>
                  <a:pt x="16831" y="12782"/>
                  <a:pt x="16839" y="12800"/>
                  <a:pt x="16842" y="12824"/>
                </a:cubicBezTo>
                <a:cubicBezTo>
                  <a:pt x="16851" y="12892"/>
                  <a:pt x="16847" y="12957"/>
                  <a:pt x="16867" y="13022"/>
                </a:cubicBezTo>
                <a:cubicBezTo>
                  <a:pt x="16892" y="13102"/>
                  <a:pt x="16960" y="13167"/>
                  <a:pt x="16991" y="13246"/>
                </a:cubicBezTo>
                <a:cubicBezTo>
                  <a:pt x="17011" y="13298"/>
                  <a:pt x="17021" y="13364"/>
                  <a:pt x="17041" y="13419"/>
                </a:cubicBezTo>
                <a:cubicBezTo>
                  <a:pt x="17061" y="13475"/>
                  <a:pt x="17093" y="13541"/>
                  <a:pt x="17115" y="13593"/>
                </a:cubicBezTo>
                <a:cubicBezTo>
                  <a:pt x="17138" y="13647"/>
                  <a:pt x="17145" y="13693"/>
                  <a:pt x="17165" y="13742"/>
                </a:cubicBezTo>
                <a:cubicBezTo>
                  <a:pt x="17180" y="13779"/>
                  <a:pt x="17198" y="13828"/>
                  <a:pt x="17214" y="13866"/>
                </a:cubicBezTo>
                <a:cubicBezTo>
                  <a:pt x="17230" y="13903"/>
                  <a:pt x="17247" y="13952"/>
                  <a:pt x="17264" y="13990"/>
                </a:cubicBezTo>
                <a:cubicBezTo>
                  <a:pt x="17278" y="14023"/>
                  <a:pt x="17328" y="14055"/>
                  <a:pt x="17338" y="14089"/>
                </a:cubicBezTo>
                <a:cubicBezTo>
                  <a:pt x="17351" y="14132"/>
                  <a:pt x="17344" y="14148"/>
                  <a:pt x="17363" y="14188"/>
                </a:cubicBezTo>
                <a:cubicBezTo>
                  <a:pt x="17386" y="14211"/>
                  <a:pt x="17394" y="14215"/>
                  <a:pt x="17388" y="14238"/>
                </a:cubicBezTo>
              </a:path>
              <a:path w="1688" h="4069">
                <a:moveTo>
                  <a:pt x="17338" y="12576"/>
                </a:moveTo>
                <a:cubicBezTo>
                  <a:pt x="17289" y="12559"/>
                  <a:pt x="17343" y="12528"/>
                  <a:pt x="17289" y="12502"/>
                </a:cubicBezTo>
                <a:cubicBezTo>
                  <a:pt x="17246" y="12481"/>
                  <a:pt x="17215" y="12526"/>
                  <a:pt x="17190" y="12551"/>
                </a:cubicBezTo>
                <a:cubicBezTo>
                  <a:pt x="17200" y="12551"/>
                  <a:pt x="17396" y="12526"/>
                  <a:pt x="17314" y="12452"/>
                </a:cubicBezTo>
                <a:cubicBezTo>
                  <a:pt x="17245" y="12452"/>
                  <a:pt x="17223" y="12446"/>
                  <a:pt x="17214" y="12502"/>
                </a:cubicBezTo>
                <a:cubicBezTo>
                  <a:pt x="17231" y="12569"/>
                  <a:pt x="17275" y="12576"/>
                  <a:pt x="17289" y="12502"/>
                </a:cubicBezTo>
                <a:cubicBezTo>
                  <a:pt x="17289" y="12477"/>
                  <a:pt x="17289" y="12469"/>
                  <a:pt x="17289" y="12502"/>
                </a:cubicBezTo>
              </a:path>
              <a:path w="1688" h="4069">
                <a:moveTo>
                  <a:pt x="17413" y="12650"/>
                </a:moveTo>
                <a:cubicBezTo>
                  <a:pt x="17458" y="12762"/>
                  <a:pt x="17463" y="12888"/>
                  <a:pt x="17512" y="12998"/>
                </a:cubicBezTo>
                <a:cubicBezTo>
                  <a:pt x="17512" y="12990"/>
                  <a:pt x="17512" y="12981"/>
                  <a:pt x="17512" y="12973"/>
                </a:cubicBezTo>
              </a:path>
              <a:path w="1688" h="4069">
                <a:moveTo>
                  <a:pt x="17636" y="12675"/>
                </a:moveTo>
                <a:cubicBezTo>
                  <a:pt x="17662" y="12754"/>
                  <a:pt x="17700" y="12869"/>
                  <a:pt x="17735" y="12948"/>
                </a:cubicBezTo>
                <a:cubicBezTo>
                  <a:pt x="17743" y="12956"/>
                  <a:pt x="17752" y="12965"/>
                  <a:pt x="17760" y="12973"/>
                </a:cubicBezTo>
              </a:path>
              <a:path w="1688" h="4069">
                <a:moveTo>
                  <a:pt x="17413" y="12898"/>
                </a:moveTo>
                <a:cubicBezTo>
                  <a:pt x="17526" y="12853"/>
                  <a:pt x="17641" y="12794"/>
                  <a:pt x="17760" y="12774"/>
                </a:cubicBezTo>
              </a:path>
              <a:path w="1688" h="4069">
                <a:moveTo>
                  <a:pt x="17909" y="12477"/>
                </a:moveTo>
                <a:cubicBezTo>
                  <a:pt x="17946" y="12534"/>
                  <a:pt x="17971" y="12563"/>
                  <a:pt x="17983" y="12626"/>
                </a:cubicBezTo>
              </a:path>
              <a:path w="1688" h="4069">
                <a:moveTo>
                  <a:pt x="17289" y="12601"/>
                </a:moveTo>
                <a:cubicBezTo>
                  <a:pt x="17273" y="12632"/>
                  <a:pt x="17264" y="12631"/>
                  <a:pt x="17264" y="12700"/>
                </a:cubicBezTo>
                <a:cubicBezTo>
                  <a:pt x="17264" y="12790"/>
                  <a:pt x="17274" y="12871"/>
                  <a:pt x="17289" y="12948"/>
                </a:cubicBezTo>
                <a:cubicBezTo>
                  <a:pt x="17298" y="12991"/>
                  <a:pt x="17309" y="13063"/>
                  <a:pt x="17314" y="13097"/>
                </a:cubicBezTo>
                <a:cubicBezTo>
                  <a:pt x="17321" y="13146"/>
                  <a:pt x="17320" y="13179"/>
                  <a:pt x="17338" y="13221"/>
                </a:cubicBezTo>
                <a:cubicBezTo>
                  <a:pt x="17363" y="13278"/>
                  <a:pt x="17351" y="13314"/>
                  <a:pt x="17363" y="13370"/>
                </a:cubicBezTo>
                <a:cubicBezTo>
                  <a:pt x="17376" y="13431"/>
                  <a:pt x="17388" y="13477"/>
                  <a:pt x="17388" y="13543"/>
                </a:cubicBezTo>
                <a:cubicBezTo>
                  <a:pt x="17388" y="13577"/>
                  <a:pt x="17379" y="13650"/>
                  <a:pt x="17363" y="13692"/>
                </a:cubicBezTo>
                <a:cubicBezTo>
                  <a:pt x="17346" y="13737"/>
                  <a:pt x="17332" y="13792"/>
                  <a:pt x="17314" y="13841"/>
                </a:cubicBezTo>
                <a:cubicBezTo>
                  <a:pt x="17293" y="13895"/>
                  <a:pt x="17304" y="13938"/>
                  <a:pt x="17289" y="13990"/>
                </a:cubicBezTo>
                <a:cubicBezTo>
                  <a:pt x="17271" y="14053"/>
                  <a:pt x="17264" y="14094"/>
                  <a:pt x="17264" y="14163"/>
                </a:cubicBezTo>
                <a:cubicBezTo>
                  <a:pt x="17264" y="14196"/>
                  <a:pt x="17264" y="14230"/>
                  <a:pt x="17264" y="14263"/>
                </a:cubicBezTo>
              </a:path>
              <a:path w="1688" h="4069">
                <a:moveTo>
                  <a:pt x="17239" y="12452"/>
                </a:moveTo>
                <a:cubicBezTo>
                  <a:pt x="17239" y="12460"/>
                  <a:pt x="17239" y="12469"/>
                  <a:pt x="17239" y="12477"/>
                </a:cubicBezTo>
                <a:cubicBezTo>
                  <a:pt x="17211" y="12468"/>
                  <a:pt x="17194" y="12457"/>
                  <a:pt x="17165" y="12427"/>
                </a:cubicBezTo>
                <a:cubicBezTo>
                  <a:pt x="17143" y="12405"/>
                  <a:pt x="17134" y="12400"/>
                  <a:pt x="17140" y="12378"/>
                </a:cubicBezTo>
                <a:cubicBezTo>
                  <a:pt x="17110" y="12368"/>
                  <a:pt x="17099" y="12357"/>
                  <a:pt x="17066" y="12328"/>
                </a:cubicBezTo>
                <a:cubicBezTo>
                  <a:pt x="17034" y="12299"/>
                  <a:pt x="17032" y="12303"/>
                  <a:pt x="16991" y="12303"/>
                </a:cubicBezTo>
                <a:cubicBezTo>
                  <a:pt x="16981" y="12263"/>
                  <a:pt x="16945" y="12211"/>
                  <a:pt x="16917" y="12179"/>
                </a:cubicBezTo>
                <a:cubicBezTo>
                  <a:pt x="16884" y="12142"/>
                  <a:pt x="16893" y="12093"/>
                  <a:pt x="16867" y="12055"/>
                </a:cubicBezTo>
                <a:cubicBezTo>
                  <a:pt x="16849" y="12028"/>
                  <a:pt x="16832" y="12005"/>
                  <a:pt x="16818" y="11981"/>
                </a:cubicBezTo>
                <a:cubicBezTo>
                  <a:pt x="16783" y="11969"/>
                  <a:pt x="16789" y="11926"/>
                  <a:pt x="16743" y="11906"/>
                </a:cubicBezTo>
                <a:cubicBezTo>
                  <a:pt x="16735" y="11906"/>
                  <a:pt x="16726" y="11906"/>
                  <a:pt x="16718" y="11906"/>
                </a:cubicBezTo>
                <a:cubicBezTo>
                  <a:pt x="16709" y="11888"/>
                  <a:pt x="16677" y="11846"/>
                  <a:pt x="16644" y="11832"/>
                </a:cubicBezTo>
                <a:cubicBezTo>
                  <a:pt x="16621" y="11822"/>
                  <a:pt x="16593" y="11817"/>
                  <a:pt x="16570" y="11807"/>
                </a:cubicBezTo>
                <a:cubicBezTo>
                  <a:pt x="16557" y="11768"/>
                  <a:pt x="16531" y="11780"/>
                  <a:pt x="16495" y="11757"/>
                </a:cubicBezTo>
                <a:cubicBezTo>
                  <a:pt x="16473" y="11735"/>
                  <a:pt x="16468" y="11727"/>
                  <a:pt x="16446" y="11733"/>
                </a:cubicBezTo>
                <a:cubicBezTo>
                  <a:pt x="16433" y="11693"/>
                  <a:pt x="16434" y="11723"/>
                  <a:pt x="16421" y="11683"/>
                </a:cubicBezTo>
                <a:cubicBezTo>
                  <a:pt x="16421" y="11724"/>
                  <a:pt x="16421" y="11766"/>
                  <a:pt x="16421" y="11807"/>
                </a:cubicBezTo>
              </a:path>
              <a:path w="1688" h="4069">
                <a:moveTo>
                  <a:pt x="17338" y="12576"/>
                </a:moveTo>
                <a:cubicBezTo>
                  <a:pt x="17338" y="12584"/>
                  <a:pt x="17338" y="12593"/>
                  <a:pt x="17338" y="12601"/>
                </a:cubicBezTo>
                <a:cubicBezTo>
                  <a:pt x="17379" y="12601"/>
                  <a:pt x="17418" y="12595"/>
                  <a:pt x="17438" y="12551"/>
                </a:cubicBezTo>
                <a:cubicBezTo>
                  <a:pt x="17449" y="12527"/>
                  <a:pt x="17483" y="12472"/>
                  <a:pt x="17512" y="12452"/>
                </a:cubicBezTo>
                <a:cubicBezTo>
                  <a:pt x="17578" y="12406"/>
                  <a:pt x="17571" y="12345"/>
                  <a:pt x="17636" y="12303"/>
                </a:cubicBezTo>
                <a:cubicBezTo>
                  <a:pt x="17644" y="12303"/>
                  <a:pt x="17653" y="12303"/>
                  <a:pt x="17661" y="12303"/>
                </a:cubicBezTo>
                <a:cubicBezTo>
                  <a:pt x="17674" y="12264"/>
                  <a:pt x="17673" y="12293"/>
                  <a:pt x="17686" y="12254"/>
                </a:cubicBezTo>
                <a:cubicBezTo>
                  <a:pt x="17708" y="12243"/>
                  <a:pt x="17769" y="12189"/>
                  <a:pt x="17785" y="12154"/>
                </a:cubicBezTo>
                <a:cubicBezTo>
                  <a:pt x="17785" y="12129"/>
                  <a:pt x="17785" y="12121"/>
                  <a:pt x="17785" y="12105"/>
                </a:cubicBezTo>
                <a:cubicBezTo>
                  <a:pt x="17808" y="12097"/>
                  <a:pt x="17824" y="12062"/>
                  <a:pt x="17835" y="12030"/>
                </a:cubicBezTo>
                <a:cubicBezTo>
                  <a:pt x="17849" y="11988"/>
                  <a:pt x="17862" y="11951"/>
                  <a:pt x="17884" y="11906"/>
                </a:cubicBezTo>
                <a:cubicBezTo>
                  <a:pt x="17905" y="11862"/>
                  <a:pt x="17945" y="11823"/>
                  <a:pt x="17959" y="11782"/>
                </a:cubicBezTo>
                <a:cubicBezTo>
                  <a:pt x="17972" y="11743"/>
                  <a:pt x="17982" y="11717"/>
                  <a:pt x="18008" y="11683"/>
                </a:cubicBezTo>
              </a:path>
              <a:path w="1688" h="4069">
                <a:moveTo>
                  <a:pt x="17338" y="10939"/>
                </a:moveTo>
                <a:cubicBezTo>
                  <a:pt x="17369" y="11011"/>
                  <a:pt x="17379" y="11029"/>
                  <a:pt x="17438" y="11088"/>
                </a:cubicBezTo>
                <a:cubicBezTo>
                  <a:pt x="17499" y="11149"/>
                  <a:pt x="17503" y="11165"/>
                  <a:pt x="17537" y="11237"/>
                </a:cubicBezTo>
                <a:cubicBezTo>
                  <a:pt x="17556" y="11276"/>
                  <a:pt x="17590" y="11330"/>
                  <a:pt x="17611" y="11361"/>
                </a:cubicBezTo>
                <a:cubicBezTo>
                  <a:pt x="17631" y="11391"/>
                  <a:pt x="17671" y="11426"/>
                  <a:pt x="17686" y="11460"/>
                </a:cubicBezTo>
                <a:cubicBezTo>
                  <a:pt x="17703" y="11498"/>
                  <a:pt x="17732" y="11546"/>
                  <a:pt x="17760" y="11584"/>
                </a:cubicBezTo>
                <a:cubicBezTo>
                  <a:pt x="17795" y="11631"/>
                  <a:pt x="17838" y="11655"/>
                  <a:pt x="17859" y="11708"/>
                </a:cubicBezTo>
                <a:cubicBezTo>
                  <a:pt x="17899" y="11721"/>
                  <a:pt x="17869" y="11720"/>
                  <a:pt x="17909" y="11733"/>
                </a:cubicBezTo>
                <a:cubicBezTo>
                  <a:pt x="17929" y="11778"/>
                  <a:pt x="17931" y="11814"/>
                  <a:pt x="17983" y="11832"/>
                </a:cubicBezTo>
                <a:cubicBezTo>
                  <a:pt x="18029" y="11848"/>
                  <a:pt x="17986" y="11863"/>
                  <a:pt x="18033" y="11832"/>
                </a:cubicBezTo>
              </a:path>
              <a:path w="1688" h="4069">
                <a:moveTo>
                  <a:pt x="17314" y="12502"/>
                </a:moveTo>
                <a:lnTo>
                  <a:pt x="17314" y="12502"/>
                </a:lnTo>
              </a:path>
              <a:path w="1688" h="4069">
                <a:moveTo>
                  <a:pt x="17289" y="12502"/>
                </a:moveTo>
                <a:cubicBezTo>
                  <a:pt x="17289" y="12450"/>
                  <a:pt x="17300" y="12439"/>
                  <a:pt x="17338" y="12402"/>
                </a:cubicBezTo>
                <a:cubicBezTo>
                  <a:pt x="17390" y="12350"/>
                  <a:pt x="17458" y="12325"/>
                  <a:pt x="17512" y="12278"/>
                </a:cubicBezTo>
                <a:cubicBezTo>
                  <a:pt x="17553" y="12241"/>
                  <a:pt x="17594" y="12229"/>
                  <a:pt x="17636" y="12204"/>
                </a:cubicBezTo>
                <a:cubicBezTo>
                  <a:pt x="17678" y="12179"/>
                  <a:pt x="17712" y="12154"/>
                  <a:pt x="17760" y="12129"/>
                </a:cubicBezTo>
                <a:cubicBezTo>
                  <a:pt x="17800" y="12108"/>
                  <a:pt x="17855" y="12070"/>
                  <a:pt x="17884" y="12030"/>
                </a:cubicBezTo>
                <a:cubicBezTo>
                  <a:pt x="17923" y="11976"/>
                  <a:pt x="17975" y="11959"/>
                  <a:pt x="18008" y="11906"/>
                </a:cubicBezTo>
                <a:cubicBezTo>
                  <a:pt x="18013" y="11898"/>
                  <a:pt x="18026" y="11838"/>
                  <a:pt x="18033" y="11832"/>
                </a:cubicBezTo>
                <a:cubicBezTo>
                  <a:pt x="18058" y="11832"/>
                  <a:pt x="18066" y="11832"/>
                  <a:pt x="18058" y="11807"/>
                </a:cubicBezTo>
                <a:cubicBezTo>
                  <a:pt x="17975" y="11840"/>
                  <a:pt x="17909" y="11924"/>
                  <a:pt x="17835" y="11981"/>
                </a:cubicBezTo>
                <a:cubicBezTo>
                  <a:pt x="17747" y="12049"/>
                  <a:pt x="17646" y="12109"/>
                  <a:pt x="17562" y="12179"/>
                </a:cubicBezTo>
                <a:cubicBezTo>
                  <a:pt x="17497" y="12233"/>
                  <a:pt x="17431" y="12256"/>
                  <a:pt x="17363" y="12303"/>
                </a:cubicBezTo>
                <a:cubicBezTo>
                  <a:pt x="17337" y="12321"/>
                  <a:pt x="17317" y="12373"/>
                  <a:pt x="17314" y="12402"/>
                </a:cubicBezTo>
                <a:cubicBezTo>
                  <a:pt x="17314" y="12442"/>
                  <a:pt x="17324" y="12440"/>
                  <a:pt x="17363" y="12378"/>
                </a:cubicBezTo>
              </a:path>
              <a:path w="1688" h="4069">
                <a:moveTo>
                  <a:pt x="17661" y="11832"/>
                </a:moveTo>
                <a:cubicBezTo>
                  <a:pt x="17716" y="11832"/>
                  <a:pt x="17772" y="11861"/>
                  <a:pt x="17810" y="11906"/>
                </a:cubicBezTo>
                <a:cubicBezTo>
                  <a:pt x="17810" y="11931"/>
                  <a:pt x="17810" y="11939"/>
                  <a:pt x="17835" y="11931"/>
                </a:cubicBezTo>
                <a:cubicBezTo>
                  <a:pt x="17789" y="11893"/>
                  <a:pt x="17714" y="11850"/>
                  <a:pt x="17686" y="11807"/>
                </a:cubicBezTo>
                <a:cubicBezTo>
                  <a:pt x="17659" y="11766"/>
                  <a:pt x="17709" y="11700"/>
                  <a:pt x="17735" y="11683"/>
                </a:cubicBezTo>
                <a:cubicBezTo>
                  <a:pt x="17818" y="11642"/>
                  <a:pt x="17834" y="11633"/>
                  <a:pt x="17884" y="116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22920" y="1830240"/>
            <a:ext cx="2820960" cy="36720"/>
          </a:xfrm>
          <a:custGeom>
            <a:avLst/>
            <a:gdLst/>
            <a:ahLst/>
            <a:rect l="l" t="t" r="r" b="b"/>
            <a:pathLst>
              <a:path w="7839" h="100">
                <a:moveTo>
                  <a:pt x="13395" y="5110"/>
                </a:moveTo>
                <a:cubicBezTo>
                  <a:pt x="13769" y="5110"/>
                  <a:pt x="14142" y="5116"/>
                  <a:pt x="14511" y="5135"/>
                </a:cubicBezTo>
                <a:cubicBezTo>
                  <a:pt x="14857" y="5153"/>
                  <a:pt x="15209" y="5159"/>
                  <a:pt x="15553" y="5159"/>
                </a:cubicBezTo>
                <a:cubicBezTo>
                  <a:pt x="15666" y="5159"/>
                  <a:pt x="15765" y="5140"/>
                  <a:pt x="15875" y="5135"/>
                </a:cubicBezTo>
                <a:cubicBezTo>
                  <a:pt x="16018" y="5129"/>
                  <a:pt x="16155" y="5117"/>
                  <a:pt x="16297" y="5110"/>
                </a:cubicBezTo>
                <a:cubicBezTo>
                  <a:pt x="16474" y="5101"/>
                  <a:pt x="16644" y="5148"/>
                  <a:pt x="16818" y="5159"/>
                </a:cubicBezTo>
                <a:cubicBezTo>
                  <a:pt x="17055" y="5174"/>
                  <a:pt x="17302" y="5174"/>
                  <a:pt x="17537" y="5184"/>
                </a:cubicBezTo>
                <a:cubicBezTo>
                  <a:pt x="18265" y="5215"/>
                  <a:pt x="18997" y="5178"/>
                  <a:pt x="19720" y="5135"/>
                </a:cubicBezTo>
                <a:cubicBezTo>
                  <a:pt x="19866" y="5126"/>
                  <a:pt x="20024" y="5116"/>
                  <a:pt x="20166" y="5110"/>
                </a:cubicBezTo>
                <a:cubicBezTo>
                  <a:pt x="20439" y="5098"/>
                  <a:pt x="20714" y="5098"/>
                  <a:pt x="20985" y="5085"/>
                </a:cubicBezTo>
                <a:cubicBezTo>
                  <a:pt x="21067" y="5081"/>
                  <a:pt x="21150" y="5088"/>
                  <a:pt x="21233" y="50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triangle FGH with vertices F(0,2),G(-3,1), and H(-1,1). Then draw the image after a 18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rotation about the origin. Name the coordinates of the rotated fig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Rotating a Figure - 180</a:t>
            </a:r>
            <a:r>
              <a:rPr b="1" lang="en-US" sz="4000" spc="-1" strike="noStrike" baseline="30000">
                <a:solidFill>
                  <a:srgbClr val="ffffc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962520" cy="3849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5520" y="1522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75160" y="3429000"/>
            <a:ext cx="1224000" cy="696960"/>
          </a:xfrm>
          <a:custGeom>
            <a:avLst/>
            <a:gdLst/>
            <a:ahLst/>
            <a:rect l="l" t="t" r="r" b="b"/>
            <a:pathLst>
              <a:path w="3400" h="1936">
                <a:moveTo>
                  <a:pt x="17810" y="9922"/>
                </a:moveTo>
                <a:cubicBezTo>
                  <a:pt x="17782" y="9838"/>
                  <a:pt x="17683" y="9982"/>
                  <a:pt x="17661" y="10021"/>
                </a:cubicBezTo>
                <a:cubicBezTo>
                  <a:pt x="17628" y="10080"/>
                  <a:pt x="17857" y="10025"/>
                  <a:pt x="17909" y="9922"/>
                </a:cubicBezTo>
                <a:cubicBezTo>
                  <a:pt x="17825" y="9887"/>
                  <a:pt x="17591" y="9939"/>
                  <a:pt x="17760" y="10046"/>
                </a:cubicBezTo>
                <a:cubicBezTo>
                  <a:pt x="17846" y="10101"/>
                  <a:pt x="17934" y="9972"/>
                  <a:pt x="17835" y="9922"/>
                </a:cubicBezTo>
                <a:cubicBezTo>
                  <a:pt x="17740" y="10016"/>
                  <a:pt x="17847" y="10075"/>
                  <a:pt x="17884" y="9996"/>
                </a:cubicBezTo>
                <a:cubicBezTo>
                  <a:pt x="17931" y="9894"/>
                  <a:pt x="17747" y="9968"/>
                  <a:pt x="17735" y="9971"/>
                </a:cubicBezTo>
              </a:path>
              <a:path w="3400" h="1936">
                <a:moveTo>
                  <a:pt x="15404" y="10864"/>
                </a:moveTo>
                <a:cubicBezTo>
                  <a:pt x="15393" y="10786"/>
                  <a:pt x="15366" y="10789"/>
                  <a:pt x="15304" y="10740"/>
                </a:cubicBezTo>
                <a:cubicBezTo>
                  <a:pt x="15242" y="10824"/>
                  <a:pt x="15169" y="11027"/>
                  <a:pt x="15379" y="10939"/>
                </a:cubicBezTo>
                <a:cubicBezTo>
                  <a:pt x="15459" y="10905"/>
                  <a:pt x="15464" y="10712"/>
                  <a:pt x="15354" y="10790"/>
                </a:cubicBezTo>
                <a:cubicBezTo>
                  <a:pt x="15337" y="10807"/>
                  <a:pt x="15321" y="10823"/>
                  <a:pt x="15304" y="10840"/>
                </a:cubicBezTo>
                <a:cubicBezTo>
                  <a:pt x="15367" y="10902"/>
                  <a:pt x="15352" y="10881"/>
                  <a:pt x="15429" y="10815"/>
                </a:cubicBezTo>
                <a:cubicBezTo>
                  <a:pt x="15425" y="10811"/>
                  <a:pt x="15242" y="10819"/>
                  <a:pt x="15404" y="10864"/>
                </a:cubicBezTo>
              </a:path>
              <a:path w="3400" h="1936">
                <a:moveTo>
                  <a:pt x="17140" y="10790"/>
                </a:moveTo>
                <a:cubicBezTo>
                  <a:pt x="17124" y="10794"/>
                  <a:pt x="16988" y="10871"/>
                  <a:pt x="17066" y="10889"/>
                </a:cubicBezTo>
                <a:cubicBezTo>
                  <a:pt x="17192" y="10919"/>
                  <a:pt x="17153" y="10836"/>
                  <a:pt x="17140" y="10765"/>
                </a:cubicBezTo>
                <a:cubicBezTo>
                  <a:pt x="17105" y="10765"/>
                  <a:pt x="17092" y="10774"/>
                  <a:pt x="17090" y="10815"/>
                </a:cubicBezTo>
                <a:cubicBezTo>
                  <a:pt x="17110" y="10933"/>
                  <a:pt x="17190" y="10801"/>
                  <a:pt x="17190" y="10740"/>
                </a:cubicBezTo>
                <a:cubicBezTo>
                  <a:pt x="17182" y="10732"/>
                  <a:pt x="17173" y="10724"/>
                  <a:pt x="17165" y="10716"/>
                </a:cubicBezTo>
              </a:path>
              <a:path w="3400" h="1936">
                <a:moveTo>
                  <a:pt x="17090" y="10889"/>
                </a:moveTo>
                <a:cubicBezTo>
                  <a:pt x="17219" y="10789"/>
                  <a:pt x="17284" y="10638"/>
                  <a:pt x="17363" y="10492"/>
                </a:cubicBezTo>
                <a:cubicBezTo>
                  <a:pt x="17425" y="10378"/>
                  <a:pt x="17449" y="10389"/>
                  <a:pt x="17537" y="10319"/>
                </a:cubicBezTo>
                <a:cubicBezTo>
                  <a:pt x="17585" y="10281"/>
                  <a:pt x="17631" y="10221"/>
                  <a:pt x="17661" y="10170"/>
                </a:cubicBezTo>
                <a:cubicBezTo>
                  <a:pt x="17706" y="10093"/>
                  <a:pt x="17705" y="10024"/>
                  <a:pt x="17760" y="9947"/>
                </a:cubicBezTo>
                <a:cubicBezTo>
                  <a:pt x="17783" y="9914"/>
                  <a:pt x="17794" y="9879"/>
                  <a:pt x="17810" y="9847"/>
                </a:cubicBezTo>
                <a:cubicBezTo>
                  <a:pt x="17729" y="9861"/>
                  <a:pt x="17663" y="9880"/>
                  <a:pt x="17587" y="9922"/>
                </a:cubicBezTo>
                <a:cubicBezTo>
                  <a:pt x="17499" y="9971"/>
                  <a:pt x="17402" y="10005"/>
                  <a:pt x="17314" y="10046"/>
                </a:cubicBezTo>
                <a:cubicBezTo>
                  <a:pt x="17226" y="10087"/>
                  <a:pt x="17152" y="10129"/>
                  <a:pt x="17066" y="10170"/>
                </a:cubicBezTo>
                <a:cubicBezTo>
                  <a:pt x="16979" y="10212"/>
                  <a:pt x="16908" y="10256"/>
                  <a:pt x="16818" y="10294"/>
                </a:cubicBezTo>
                <a:cubicBezTo>
                  <a:pt x="16725" y="10333"/>
                  <a:pt x="16672" y="10375"/>
                  <a:pt x="16570" y="10393"/>
                </a:cubicBezTo>
                <a:cubicBezTo>
                  <a:pt x="16490" y="10407"/>
                  <a:pt x="16387" y="10427"/>
                  <a:pt x="16321" y="10468"/>
                </a:cubicBezTo>
                <a:cubicBezTo>
                  <a:pt x="16252" y="10511"/>
                  <a:pt x="16179" y="10555"/>
                  <a:pt x="16098" y="10592"/>
                </a:cubicBezTo>
                <a:cubicBezTo>
                  <a:pt x="15992" y="10640"/>
                  <a:pt x="15921" y="10674"/>
                  <a:pt x="15825" y="10740"/>
                </a:cubicBezTo>
                <a:cubicBezTo>
                  <a:pt x="15760" y="10785"/>
                  <a:pt x="15653" y="10818"/>
                  <a:pt x="15577" y="10840"/>
                </a:cubicBezTo>
                <a:cubicBezTo>
                  <a:pt x="15520" y="10856"/>
                  <a:pt x="15455" y="10867"/>
                  <a:pt x="15404" y="10889"/>
                </a:cubicBezTo>
                <a:cubicBezTo>
                  <a:pt x="15381" y="10912"/>
                  <a:pt x="15377" y="10920"/>
                  <a:pt x="15354" y="10914"/>
                </a:cubicBezTo>
                <a:cubicBezTo>
                  <a:pt x="15458" y="10900"/>
                  <a:pt x="15539" y="10891"/>
                  <a:pt x="15652" y="10889"/>
                </a:cubicBezTo>
                <a:cubicBezTo>
                  <a:pt x="15843" y="10885"/>
                  <a:pt x="16030" y="10914"/>
                  <a:pt x="16222" y="10914"/>
                </a:cubicBezTo>
                <a:cubicBezTo>
                  <a:pt x="16377" y="10914"/>
                  <a:pt x="16518" y="10924"/>
                  <a:pt x="16669" y="10939"/>
                </a:cubicBezTo>
                <a:cubicBezTo>
                  <a:pt x="16758" y="10948"/>
                  <a:pt x="16850" y="10917"/>
                  <a:pt x="16942" y="10914"/>
                </a:cubicBezTo>
                <a:cubicBezTo>
                  <a:pt x="17015" y="10912"/>
                  <a:pt x="17073" y="10896"/>
                  <a:pt x="17140" y="10889"/>
                </a:cubicBezTo>
                <a:cubicBezTo>
                  <a:pt x="17198" y="10883"/>
                  <a:pt x="17206" y="10889"/>
                  <a:pt x="17264" y="10889"/>
                </a:cubicBezTo>
              </a:path>
              <a:path w="3400" h="1936">
                <a:moveTo>
                  <a:pt x="18008" y="9699"/>
                </a:moveTo>
                <a:cubicBezTo>
                  <a:pt x="17996" y="9834"/>
                  <a:pt x="17992" y="9866"/>
                  <a:pt x="18008" y="9996"/>
                </a:cubicBezTo>
                <a:cubicBezTo>
                  <a:pt x="18001" y="9905"/>
                  <a:pt x="17959" y="9791"/>
                  <a:pt x="17983" y="9699"/>
                </a:cubicBezTo>
                <a:cubicBezTo>
                  <a:pt x="18004" y="9621"/>
                  <a:pt x="18160" y="9576"/>
                  <a:pt x="18231" y="9550"/>
                </a:cubicBezTo>
                <a:cubicBezTo>
                  <a:pt x="18289" y="9531"/>
                  <a:pt x="18296" y="9522"/>
                  <a:pt x="18331" y="9525"/>
                </a:cubicBezTo>
              </a:path>
              <a:path w="3400" h="1936">
                <a:moveTo>
                  <a:pt x="18033" y="9847"/>
                </a:moveTo>
                <a:cubicBezTo>
                  <a:pt x="18095" y="9842"/>
                  <a:pt x="18147" y="9833"/>
                  <a:pt x="18207" y="9823"/>
                </a:cubicBezTo>
              </a:path>
              <a:path w="3400" h="1936">
                <a:moveTo>
                  <a:pt x="15230" y="11112"/>
                </a:moveTo>
                <a:cubicBezTo>
                  <a:pt x="15136" y="11057"/>
                  <a:pt x="15005" y="11171"/>
                  <a:pt x="14957" y="11261"/>
                </a:cubicBezTo>
                <a:cubicBezTo>
                  <a:pt x="14864" y="11438"/>
                  <a:pt x="15096" y="11534"/>
                  <a:pt x="15205" y="11410"/>
                </a:cubicBezTo>
                <a:cubicBezTo>
                  <a:pt x="15337" y="11260"/>
                  <a:pt x="15105" y="11290"/>
                  <a:pt x="15056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67200" y="1751040"/>
            <a:ext cx="1616040" cy="195120"/>
          </a:xfrm>
          <a:custGeom>
            <a:avLst/>
            <a:gdLst/>
            <a:ahLst/>
            <a:rect l="l" t="t" r="r" b="b"/>
            <a:pathLst>
              <a:path w="4490" h="546">
                <a:moveTo>
                  <a:pt x="13618" y="5407"/>
                </a:moveTo>
                <a:cubicBezTo>
                  <a:pt x="13581" y="5396"/>
                  <a:pt x="13592" y="5393"/>
                  <a:pt x="13543" y="5383"/>
                </a:cubicBezTo>
                <a:cubicBezTo>
                  <a:pt x="13535" y="5383"/>
                  <a:pt x="13527" y="5383"/>
                  <a:pt x="13519" y="5383"/>
                </a:cubicBezTo>
                <a:cubicBezTo>
                  <a:pt x="13583" y="5361"/>
                  <a:pt x="13723" y="5304"/>
                  <a:pt x="13816" y="5283"/>
                </a:cubicBezTo>
                <a:cubicBezTo>
                  <a:pt x="14017" y="5238"/>
                  <a:pt x="14207" y="5209"/>
                  <a:pt x="14412" y="5209"/>
                </a:cubicBezTo>
                <a:cubicBezTo>
                  <a:pt x="14595" y="5209"/>
                  <a:pt x="14774" y="5169"/>
                  <a:pt x="14957" y="5159"/>
                </a:cubicBezTo>
                <a:cubicBezTo>
                  <a:pt x="15155" y="5148"/>
                  <a:pt x="15355" y="5129"/>
                  <a:pt x="15553" y="5110"/>
                </a:cubicBezTo>
                <a:cubicBezTo>
                  <a:pt x="15888" y="5077"/>
                  <a:pt x="16219" y="5008"/>
                  <a:pt x="16545" y="4936"/>
                </a:cubicBezTo>
                <a:cubicBezTo>
                  <a:pt x="16740" y="4893"/>
                  <a:pt x="16941" y="4866"/>
                  <a:pt x="17140" y="4862"/>
                </a:cubicBezTo>
                <a:cubicBezTo>
                  <a:pt x="17382" y="4857"/>
                  <a:pt x="17623" y="4867"/>
                  <a:pt x="17859" y="4887"/>
                </a:cubicBezTo>
                <a:cubicBezTo>
                  <a:pt x="17942" y="4894"/>
                  <a:pt x="17945" y="4886"/>
                  <a:pt x="18008" y="4911"/>
                </a:cubicBezTo>
                <a:cubicBezTo>
                  <a:pt x="18000" y="4911"/>
                  <a:pt x="17991" y="4911"/>
                  <a:pt x="17983" y="49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8120" y="2803680"/>
            <a:ext cx="1054080" cy="563400"/>
          </a:xfrm>
          <a:custGeom>
            <a:avLst/>
            <a:gdLst/>
            <a:ahLst/>
            <a:rect l="l" t="t" r="r" b="b"/>
            <a:pathLst>
              <a:path w="2928" h="1563">
                <a:moveTo>
                  <a:pt x="1364" y="8533"/>
                </a:moveTo>
                <a:cubicBezTo>
                  <a:pt x="1236" y="8733"/>
                  <a:pt x="1218" y="8851"/>
                  <a:pt x="1240" y="9079"/>
                </a:cubicBezTo>
                <a:cubicBezTo>
                  <a:pt x="1417" y="8999"/>
                  <a:pt x="1673" y="8796"/>
                  <a:pt x="1439" y="8582"/>
                </a:cubicBezTo>
                <a:cubicBezTo>
                  <a:pt x="1381" y="8582"/>
                  <a:pt x="1356" y="8565"/>
                  <a:pt x="1364" y="8607"/>
                </a:cubicBezTo>
              </a:path>
              <a:path w="2928" h="1563">
                <a:moveTo>
                  <a:pt x="1736" y="8682"/>
                </a:moveTo>
                <a:cubicBezTo>
                  <a:pt x="1756" y="8840"/>
                  <a:pt x="1751" y="8867"/>
                  <a:pt x="1786" y="8954"/>
                </a:cubicBezTo>
                <a:cubicBezTo>
                  <a:pt x="1786" y="8817"/>
                  <a:pt x="1764" y="8654"/>
                  <a:pt x="1836" y="8533"/>
                </a:cubicBezTo>
                <a:cubicBezTo>
                  <a:pt x="1871" y="8474"/>
                  <a:pt x="1966" y="8541"/>
                  <a:pt x="2034" y="8533"/>
                </a:cubicBezTo>
              </a:path>
              <a:path w="2928" h="1563">
                <a:moveTo>
                  <a:pt x="2158" y="8731"/>
                </a:moveTo>
                <a:cubicBezTo>
                  <a:pt x="2178" y="8830"/>
                  <a:pt x="2186" y="8846"/>
                  <a:pt x="2183" y="8905"/>
                </a:cubicBezTo>
              </a:path>
              <a:path w="2928" h="1563">
                <a:moveTo>
                  <a:pt x="2183" y="8905"/>
                </a:moveTo>
                <a:lnTo>
                  <a:pt x="2183" y="8905"/>
                </a:lnTo>
              </a:path>
              <a:path w="2928" h="1563">
                <a:moveTo>
                  <a:pt x="2084" y="8434"/>
                </a:moveTo>
                <a:cubicBezTo>
                  <a:pt x="2117" y="8434"/>
                  <a:pt x="2150" y="8434"/>
                  <a:pt x="2183" y="8434"/>
                </a:cubicBezTo>
              </a:path>
              <a:path w="2928" h="1563">
                <a:moveTo>
                  <a:pt x="2580" y="8458"/>
                </a:moveTo>
                <a:cubicBezTo>
                  <a:pt x="2534" y="8498"/>
                  <a:pt x="2208" y="8982"/>
                  <a:pt x="2431" y="8855"/>
                </a:cubicBezTo>
                <a:cubicBezTo>
                  <a:pt x="2562" y="8724"/>
                  <a:pt x="2605" y="8674"/>
                  <a:pt x="2604" y="8533"/>
                </a:cubicBezTo>
                <a:cubicBezTo>
                  <a:pt x="2612" y="8525"/>
                  <a:pt x="2621" y="8516"/>
                  <a:pt x="2629" y="8508"/>
                </a:cubicBezTo>
                <a:cubicBezTo>
                  <a:pt x="2671" y="8730"/>
                  <a:pt x="2836" y="9066"/>
                  <a:pt x="2654" y="9277"/>
                </a:cubicBezTo>
                <a:cubicBezTo>
                  <a:pt x="2487" y="9470"/>
                  <a:pt x="2371" y="9335"/>
                  <a:pt x="2307" y="9227"/>
                </a:cubicBezTo>
              </a:path>
              <a:path w="2928" h="1563">
                <a:moveTo>
                  <a:pt x="2853" y="8533"/>
                </a:moveTo>
                <a:cubicBezTo>
                  <a:pt x="2878" y="8611"/>
                  <a:pt x="2887" y="8812"/>
                  <a:pt x="2927" y="8731"/>
                </a:cubicBezTo>
              </a:path>
              <a:path w="2928" h="1563">
                <a:moveTo>
                  <a:pt x="2803" y="8285"/>
                </a:moveTo>
                <a:cubicBezTo>
                  <a:pt x="2820" y="8285"/>
                  <a:pt x="2836" y="8285"/>
                  <a:pt x="2853" y="8285"/>
                </a:cubicBezTo>
              </a:path>
              <a:path w="2928" h="1563">
                <a:moveTo>
                  <a:pt x="2853" y="8285"/>
                </a:moveTo>
                <a:lnTo>
                  <a:pt x="2853" y="8285"/>
                </a:lnTo>
              </a:path>
              <a:path w="2928" h="1563">
                <a:moveTo>
                  <a:pt x="3101" y="8582"/>
                </a:moveTo>
                <a:cubicBezTo>
                  <a:pt x="3109" y="8615"/>
                  <a:pt x="3117" y="8649"/>
                  <a:pt x="3125" y="8682"/>
                </a:cubicBezTo>
                <a:cubicBezTo>
                  <a:pt x="3125" y="8571"/>
                  <a:pt x="3135" y="8491"/>
                  <a:pt x="3150" y="8384"/>
                </a:cubicBezTo>
                <a:cubicBezTo>
                  <a:pt x="3329" y="8384"/>
                  <a:pt x="3364" y="8500"/>
                  <a:pt x="3448" y="8657"/>
                </a:cubicBezTo>
              </a:path>
              <a:path w="2928" h="1563">
                <a:moveTo>
                  <a:pt x="3696" y="8235"/>
                </a:moveTo>
                <a:cubicBezTo>
                  <a:pt x="3626" y="8296"/>
                  <a:pt x="3482" y="8519"/>
                  <a:pt x="3646" y="8582"/>
                </a:cubicBezTo>
                <a:cubicBezTo>
                  <a:pt x="3671" y="8574"/>
                  <a:pt x="3696" y="8566"/>
                  <a:pt x="3721" y="8558"/>
                </a:cubicBezTo>
                <a:cubicBezTo>
                  <a:pt x="3777" y="8344"/>
                  <a:pt x="3681" y="8338"/>
                  <a:pt x="3770" y="8434"/>
                </a:cubicBezTo>
                <a:cubicBezTo>
                  <a:pt x="3803" y="8459"/>
                  <a:pt x="3837" y="8483"/>
                  <a:pt x="3870" y="8508"/>
                </a:cubicBezTo>
                <a:cubicBezTo>
                  <a:pt x="4128" y="8347"/>
                  <a:pt x="4138" y="8187"/>
                  <a:pt x="3994" y="7888"/>
                </a:cubicBezTo>
                <a:cubicBezTo>
                  <a:pt x="3969" y="7855"/>
                  <a:pt x="3944" y="7822"/>
                  <a:pt x="3919" y="7789"/>
                </a:cubicBezTo>
                <a:cubicBezTo>
                  <a:pt x="3919" y="8023"/>
                  <a:pt x="4005" y="8217"/>
                  <a:pt x="4142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9960" y="3732120"/>
            <a:ext cx="268200" cy="447840"/>
          </a:xfrm>
          <a:custGeom>
            <a:avLst/>
            <a:gdLst/>
            <a:ahLst/>
            <a:rect l="l" t="t" r="r" b="b"/>
            <a:pathLst>
              <a:path w="745" h="1242">
                <a:moveTo>
                  <a:pt x="2084" y="10393"/>
                </a:moveTo>
                <a:cubicBezTo>
                  <a:pt x="1972" y="10169"/>
                  <a:pt x="1926" y="10815"/>
                  <a:pt x="1885" y="11063"/>
                </a:cubicBezTo>
                <a:cubicBezTo>
                  <a:pt x="1863" y="11198"/>
                  <a:pt x="1798" y="11551"/>
                  <a:pt x="2009" y="11609"/>
                </a:cubicBezTo>
                <a:cubicBezTo>
                  <a:pt x="2017" y="11609"/>
                  <a:pt x="2026" y="11609"/>
                  <a:pt x="2034" y="11609"/>
                </a:cubicBezTo>
              </a:path>
              <a:path w="745" h="1242">
                <a:moveTo>
                  <a:pt x="2356" y="10691"/>
                </a:moveTo>
                <a:cubicBezTo>
                  <a:pt x="2285" y="10891"/>
                  <a:pt x="2264" y="11045"/>
                  <a:pt x="2257" y="11261"/>
                </a:cubicBezTo>
                <a:cubicBezTo>
                  <a:pt x="2442" y="11281"/>
                  <a:pt x="2709" y="11168"/>
                  <a:pt x="2604" y="10889"/>
                </a:cubicBezTo>
                <a:cubicBezTo>
                  <a:pt x="2515" y="10652"/>
                  <a:pt x="2397" y="10870"/>
                  <a:pt x="2480" y="106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71720" y="4054320"/>
            <a:ext cx="1440" cy="98640"/>
          </a:xfrm>
          <a:custGeom>
            <a:avLst/>
            <a:gdLst/>
            <a:ahLst/>
            <a:rect l="l" t="t" r="r" b="b"/>
            <a:pathLst>
              <a:path w="1" h="274">
                <a:moveTo>
                  <a:pt x="2977" y="11261"/>
                </a:moveTo>
                <a:cubicBezTo>
                  <a:pt x="2977" y="11377"/>
                  <a:pt x="2977" y="11576"/>
                  <a:pt x="2977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04920" y="3741840"/>
            <a:ext cx="314280" cy="473040"/>
          </a:xfrm>
          <a:custGeom>
            <a:avLst/>
            <a:gdLst/>
            <a:ahLst/>
            <a:rect l="l" t="t" r="r" b="b"/>
            <a:pathLst>
              <a:path w="869" h="1316">
                <a:moveTo>
                  <a:pt x="3398" y="10517"/>
                </a:moveTo>
                <a:cubicBezTo>
                  <a:pt x="3564" y="10712"/>
                  <a:pt x="3836" y="10963"/>
                  <a:pt x="3572" y="11212"/>
                </a:cubicBezTo>
                <a:cubicBezTo>
                  <a:pt x="3455" y="11258"/>
                  <a:pt x="3421" y="11278"/>
                  <a:pt x="3349" y="11212"/>
                </a:cubicBezTo>
                <a:cubicBezTo>
                  <a:pt x="3368" y="11015"/>
                  <a:pt x="3576" y="11137"/>
                  <a:pt x="3696" y="11212"/>
                </a:cubicBezTo>
                <a:cubicBezTo>
                  <a:pt x="3721" y="11237"/>
                  <a:pt x="3745" y="11261"/>
                  <a:pt x="3770" y="11286"/>
                </a:cubicBezTo>
              </a:path>
              <a:path w="869" h="1316">
                <a:moveTo>
                  <a:pt x="3944" y="10393"/>
                </a:moveTo>
                <a:cubicBezTo>
                  <a:pt x="4124" y="10744"/>
                  <a:pt x="4381" y="11187"/>
                  <a:pt x="4118" y="11584"/>
                </a:cubicBezTo>
                <a:cubicBezTo>
                  <a:pt x="4060" y="11625"/>
                  <a:pt x="4002" y="11667"/>
                  <a:pt x="3944" y="117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9960" y="4402080"/>
            <a:ext cx="633240" cy="401760"/>
          </a:xfrm>
          <a:custGeom>
            <a:avLst/>
            <a:gdLst/>
            <a:ahLst/>
            <a:rect l="l" t="t" r="r" b="b"/>
            <a:pathLst>
              <a:path w="1762" h="1117">
                <a:moveTo>
                  <a:pt x="2034" y="12229"/>
                </a:moveTo>
                <a:cubicBezTo>
                  <a:pt x="1952" y="12504"/>
                  <a:pt x="1864" y="12776"/>
                  <a:pt x="1860" y="13072"/>
                </a:cubicBezTo>
                <a:cubicBezTo>
                  <a:pt x="1857" y="13303"/>
                  <a:pt x="1964" y="13397"/>
                  <a:pt x="2133" y="13271"/>
                </a:cubicBezTo>
              </a:path>
              <a:path w="1762" h="1117">
                <a:moveTo>
                  <a:pt x="2232" y="12898"/>
                </a:moveTo>
                <a:cubicBezTo>
                  <a:pt x="2349" y="12898"/>
                  <a:pt x="2398" y="12895"/>
                  <a:pt x="2480" y="12874"/>
                </a:cubicBezTo>
              </a:path>
              <a:path w="1762" h="1117">
                <a:moveTo>
                  <a:pt x="2729" y="12502"/>
                </a:moveTo>
                <a:cubicBezTo>
                  <a:pt x="2841" y="12460"/>
                  <a:pt x="3093" y="12399"/>
                  <a:pt x="3051" y="12626"/>
                </a:cubicBezTo>
                <a:cubicBezTo>
                  <a:pt x="2977" y="12725"/>
                  <a:pt x="2952" y="12758"/>
                  <a:pt x="2877" y="12799"/>
                </a:cubicBezTo>
                <a:cubicBezTo>
                  <a:pt x="3016" y="12688"/>
                  <a:pt x="3112" y="12794"/>
                  <a:pt x="3225" y="12898"/>
                </a:cubicBezTo>
                <a:cubicBezTo>
                  <a:pt x="3094" y="13041"/>
                  <a:pt x="2958" y="13113"/>
                  <a:pt x="2753" y="13047"/>
                </a:cubicBezTo>
                <a:cubicBezTo>
                  <a:pt x="2753" y="13039"/>
                  <a:pt x="2753" y="13030"/>
                  <a:pt x="2753" y="13022"/>
                </a:cubicBezTo>
              </a:path>
              <a:path w="1762" h="1117">
                <a:moveTo>
                  <a:pt x="3522" y="12998"/>
                </a:moveTo>
                <a:cubicBezTo>
                  <a:pt x="3553" y="13086"/>
                  <a:pt x="3633" y="13265"/>
                  <a:pt x="3597" y="133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3120" y="4402080"/>
            <a:ext cx="196920" cy="349200"/>
          </a:xfrm>
          <a:custGeom>
            <a:avLst/>
            <a:gdLst/>
            <a:ahLst/>
            <a:rect l="l" t="t" r="r" b="b"/>
            <a:pathLst>
              <a:path w="546" h="968">
                <a:moveTo>
                  <a:pt x="4093" y="12675"/>
                </a:moveTo>
                <a:cubicBezTo>
                  <a:pt x="4093" y="12760"/>
                  <a:pt x="4086" y="12921"/>
                  <a:pt x="4118" y="12973"/>
                </a:cubicBezTo>
              </a:path>
              <a:path w="546" h="968">
                <a:moveTo>
                  <a:pt x="4316" y="12229"/>
                </a:moveTo>
                <a:cubicBezTo>
                  <a:pt x="4511" y="12499"/>
                  <a:pt x="4867" y="12848"/>
                  <a:pt x="4465" y="13122"/>
                </a:cubicBezTo>
                <a:cubicBezTo>
                  <a:pt x="4391" y="13147"/>
                  <a:pt x="4316" y="13171"/>
                  <a:pt x="4242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12880" y="4894200"/>
            <a:ext cx="108000" cy="446040"/>
          </a:xfrm>
          <a:custGeom>
            <a:avLst/>
            <a:gdLst/>
            <a:ahLst/>
            <a:rect l="l" t="t" r="r" b="b"/>
            <a:pathLst>
              <a:path w="299" h="1241">
                <a:moveTo>
                  <a:pt x="2456" y="13593"/>
                </a:moveTo>
                <a:cubicBezTo>
                  <a:pt x="2317" y="13870"/>
                  <a:pt x="2190" y="14311"/>
                  <a:pt x="2257" y="14635"/>
                </a:cubicBezTo>
                <a:cubicBezTo>
                  <a:pt x="2295" y="14821"/>
                  <a:pt x="2425" y="14818"/>
                  <a:pt x="2555" y="148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81080" y="5099040"/>
            <a:ext cx="88920" cy="1440"/>
          </a:xfrm>
          <a:custGeom>
            <a:avLst/>
            <a:gdLst/>
            <a:ahLst/>
            <a:rect l="l" t="t" r="r" b="b"/>
            <a:pathLst>
              <a:path w="249" h="1">
                <a:moveTo>
                  <a:pt x="3001" y="14163"/>
                </a:moveTo>
                <a:cubicBezTo>
                  <a:pt x="3133" y="14163"/>
                  <a:pt x="3166" y="14163"/>
                  <a:pt x="3249" y="141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03200" y="4991040"/>
            <a:ext cx="9720" cy="250920"/>
          </a:xfrm>
          <a:custGeom>
            <a:avLst/>
            <a:gdLst/>
            <a:ahLst/>
            <a:rect l="l" t="t" r="r" b="b"/>
            <a:pathLst>
              <a:path w="26" h="695">
                <a:moveTo>
                  <a:pt x="3621" y="13866"/>
                </a:moveTo>
                <a:cubicBezTo>
                  <a:pt x="3621" y="14100"/>
                  <a:pt x="3629" y="14328"/>
                  <a:pt x="3646" y="145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82840" y="5259240"/>
            <a:ext cx="9360" cy="135000"/>
          </a:xfrm>
          <a:custGeom>
            <a:avLst/>
            <a:gdLst/>
            <a:ahLst/>
            <a:rect l="l" t="t" r="r" b="b"/>
            <a:pathLst>
              <a:path w="25" h="373">
                <a:moveTo>
                  <a:pt x="4118" y="14610"/>
                </a:moveTo>
                <a:cubicBezTo>
                  <a:pt x="4132" y="14739"/>
                  <a:pt x="4142" y="14853"/>
                  <a:pt x="4142" y="149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70040" y="4830840"/>
            <a:ext cx="214200" cy="465120"/>
          </a:xfrm>
          <a:custGeom>
            <a:avLst/>
            <a:gdLst/>
            <a:ahLst/>
            <a:rect l="l" t="t" r="r" b="b"/>
            <a:pathLst>
              <a:path w="597" h="1291">
                <a:moveTo>
                  <a:pt x="4638" y="14064"/>
                </a:moveTo>
                <a:cubicBezTo>
                  <a:pt x="4658" y="14248"/>
                  <a:pt x="4687" y="14429"/>
                  <a:pt x="4713" y="14610"/>
                </a:cubicBezTo>
              </a:path>
              <a:path w="597" h="1291">
                <a:moveTo>
                  <a:pt x="4812" y="13419"/>
                </a:moveTo>
                <a:cubicBezTo>
                  <a:pt x="5083" y="13835"/>
                  <a:pt x="5349" y="14109"/>
                  <a:pt x="5159" y="14610"/>
                </a:cubicBezTo>
                <a:cubicBezTo>
                  <a:pt x="5119" y="14691"/>
                  <a:pt x="5123" y="14724"/>
                  <a:pt x="5060" y="147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51040" y="3089160"/>
            <a:ext cx="544320" cy="331920"/>
          </a:xfrm>
          <a:custGeom>
            <a:avLst/>
            <a:gdLst/>
            <a:ahLst/>
            <a:rect l="l" t="t" r="r" b="b"/>
            <a:pathLst>
              <a:path w="1514" h="919">
                <a:moveTo>
                  <a:pt x="4911" y="8954"/>
                </a:moveTo>
                <a:cubicBezTo>
                  <a:pt x="4911" y="9127"/>
                  <a:pt x="4885" y="9282"/>
                  <a:pt x="4862" y="9451"/>
                </a:cubicBezTo>
                <a:cubicBezTo>
                  <a:pt x="4862" y="9495"/>
                  <a:pt x="4859" y="9515"/>
                  <a:pt x="4887" y="9475"/>
                </a:cubicBezTo>
              </a:path>
              <a:path w="1514" h="919">
                <a:moveTo>
                  <a:pt x="5531" y="8830"/>
                </a:moveTo>
                <a:cubicBezTo>
                  <a:pt x="5346" y="8895"/>
                  <a:pt x="5194" y="8929"/>
                  <a:pt x="5333" y="9128"/>
                </a:cubicBezTo>
                <a:cubicBezTo>
                  <a:pt x="5477" y="9333"/>
                  <a:pt x="5482" y="9434"/>
                  <a:pt x="5234" y="9475"/>
                </a:cubicBezTo>
                <a:cubicBezTo>
                  <a:pt x="5233" y="9227"/>
                  <a:pt x="5374" y="9121"/>
                  <a:pt x="5556" y="8954"/>
                </a:cubicBezTo>
                <a:cubicBezTo>
                  <a:pt x="5564" y="8946"/>
                  <a:pt x="5573" y="8938"/>
                  <a:pt x="5581" y="8930"/>
                </a:cubicBezTo>
              </a:path>
              <a:path w="1514" h="919">
                <a:moveTo>
                  <a:pt x="5953" y="8954"/>
                </a:moveTo>
                <a:cubicBezTo>
                  <a:pt x="5728" y="9074"/>
                  <a:pt x="5693" y="9174"/>
                  <a:pt x="5705" y="9426"/>
                </a:cubicBezTo>
                <a:cubicBezTo>
                  <a:pt x="5874" y="9408"/>
                  <a:pt x="6131" y="9392"/>
                  <a:pt x="6052" y="9153"/>
                </a:cubicBezTo>
                <a:cubicBezTo>
                  <a:pt x="5985" y="9040"/>
                  <a:pt x="5969" y="9008"/>
                  <a:pt x="5904" y="8954"/>
                </a:cubicBezTo>
              </a:path>
              <a:path w="1514" h="919">
                <a:moveTo>
                  <a:pt x="6300" y="8582"/>
                </a:moveTo>
                <a:cubicBezTo>
                  <a:pt x="6199" y="8715"/>
                  <a:pt x="6160" y="8756"/>
                  <a:pt x="6325" y="8830"/>
                </a:cubicBezTo>
                <a:cubicBezTo>
                  <a:pt x="6397" y="8725"/>
                  <a:pt x="6369" y="8760"/>
                  <a:pt x="6300" y="86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73200" y="2608200"/>
            <a:ext cx="1278000" cy="544680"/>
          </a:xfrm>
          <a:custGeom>
            <a:avLst/>
            <a:gdLst/>
            <a:ahLst/>
            <a:rect l="l" t="t" r="r" b="b"/>
            <a:pathLst>
              <a:path w="3548" h="1514">
                <a:moveTo>
                  <a:pt x="6896" y="8533"/>
                </a:moveTo>
                <a:cubicBezTo>
                  <a:pt x="6896" y="8665"/>
                  <a:pt x="6896" y="8682"/>
                  <a:pt x="6896" y="8756"/>
                </a:cubicBezTo>
                <a:cubicBezTo>
                  <a:pt x="6880" y="8644"/>
                  <a:pt x="6808" y="8447"/>
                  <a:pt x="6921" y="8359"/>
                </a:cubicBezTo>
                <a:cubicBezTo>
                  <a:pt x="7069" y="8329"/>
                  <a:pt x="7134" y="8324"/>
                  <a:pt x="7243" y="8359"/>
                </a:cubicBezTo>
              </a:path>
              <a:path w="3548" h="1514">
                <a:moveTo>
                  <a:pt x="7565" y="8235"/>
                </a:moveTo>
                <a:cubicBezTo>
                  <a:pt x="7470" y="8384"/>
                  <a:pt x="7431" y="8431"/>
                  <a:pt x="7441" y="8607"/>
                </a:cubicBezTo>
                <a:cubicBezTo>
                  <a:pt x="7582" y="8568"/>
                  <a:pt x="7772" y="8438"/>
                  <a:pt x="7565" y="8285"/>
                </a:cubicBezTo>
                <a:cubicBezTo>
                  <a:pt x="7549" y="8285"/>
                  <a:pt x="7532" y="8285"/>
                  <a:pt x="7516" y="8285"/>
                </a:cubicBezTo>
              </a:path>
              <a:path w="3548" h="1514">
                <a:moveTo>
                  <a:pt x="7938" y="7764"/>
                </a:moveTo>
                <a:cubicBezTo>
                  <a:pt x="7987" y="7962"/>
                  <a:pt x="7945" y="8284"/>
                  <a:pt x="8037" y="8458"/>
                </a:cubicBezTo>
                <a:cubicBezTo>
                  <a:pt x="8145" y="8663"/>
                  <a:pt x="8357" y="8389"/>
                  <a:pt x="8384" y="8310"/>
                </a:cubicBezTo>
              </a:path>
              <a:path w="3548" h="1514">
                <a:moveTo>
                  <a:pt x="7739" y="8235"/>
                </a:moveTo>
                <a:cubicBezTo>
                  <a:pt x="7939" y="8136"/>
                  <a:pt x="8006" y="8103"/>
                  <a:pt x="8161" y="8111"/>
                </a:cubicBezTo>
              </a:path>
              <a:path w="3548" h="1514">
                <a:moveTo>
                  <a:pt x="8657" y="8111"/>
                </a:moveTo>
                <a:cubicBezTo>
                  <a:pt x="8456" y="8162"/>
                  <a:pt x="8426" y="8257"/>
                  <a:pt x="8359" y="8434"/>
                </a:cubicBezTo>
                <a:cubicBezTo>
                  <a:pt x="8550" y="8433"/>
                  <a:pt x="8627" y="8411"/>
                  <a:pt x="8682" y="8210"/>
                </a:cubicBezTo>
                <a:cubicBezTo>
                  <a:pt x="8795" y="8415"/>
                  <a:pt x="8899" y="8340"/>
                  <a:pt x="9029" y="8210"/>
                </a:cubicBezTo>
              </a:path>
              <a:path w="3548" h="1514">
                <a:moveTo>
                  <a:pt x="8905" y="7665"/>
                </a:moveTo>
                <a:cubicBezTo>
                  <a:pt x="8933" y="7771"/>
                  <a:pt x="9039" y="8301"/>
                  <a:pt x="9103" y="8235"/>
                </a:cubicBezTo>
              </a:path>
              <a:path w="3548" h="1514">
                <a:moveTo>
                  <a:pt x="8930" y="7962"/>
                </a:moveTo>
                <a:cubicBezTo>
                  <a:pt x="9144" y="7939"/>
                  <a:pt x="9210" y="7931"/>
                  <a:pt x="9351" y="7938"/>
                </a:cubicBezTo>
              </a:path>
              <a:path w="3548" h="1514">
                <a:moveTo>
                  <a:pt x="9351" y="7938"/>
                </a:moveTo>
                <a:lnTo>
                  <a:pt x="9351" y="7938"/>
                </a:lnTo>
              </a:path>
              <a:path w="3548" h="1514">
                <a:moveTo>
                  <a:pt x="9550" y="7987"/>
                </a:moveTo>
                <a:cubicBezTo>
                  <a:pt x="9662" y="7965"/>
                  <a:pt x="9805" y="7988"/>
                  <a:pt x="9823" y="7863"/>
                </a:cubicBezTo>
                <a:cubicBezTo>
                  <a:pt x="9718" y="7825"/>
                  <a:pt x="9435" y="7855"/>
                  <a:pt x="9525" y="8062"/>
                </a:cubicBezTo>
                <a:cubicBezTo>
                  <a:pt x="9657" y="8364"/>
                  <a:pt x="10185" y="8069"/>
                  <a:pt x="10294" y="7913"/>
                </a:cubicBezTo>
                <a:cubicBezTo>
                  <a:pt x="10318" y="7796"/>
                  <a:pt x="10331" y="7759"/>
                  <a:pt x="10244" y="7714"/>
                </a:cubicBezTo>
                <a:cubicBezTo>
                  <a:pt x="9989" y="7781"/>
                  <a:pt x="9907" y="7855"/>
                  <a:pt x="10021" y="8111"/>
                </a:cubicBezTo>
                <a:cubicBezTo>
                  <a:pt x="10377" y="8001"/>
                  <a:pt x="10431" y="7832"/>
                  <a:pt x="10319" y="7441"/>
                </a:cubicBezTo>
                <a:cubicBezTo>
                  <a:pt x="10261" y="7327"/>
                  <a:pt x="10236" y="7317"/>
                  <a:pt x="10244" y="7243"/>
                </a:cubicBezTo>
                <a:cubicBezTo>
                  <a:pt x="10263" y="7493"/>
                  <a:pt x="10249" y="7914"/>
                  <a:pt x="10393" y="8136"/>
                </a:cubicBezTo>
                <a:cubicBezTo>
                  <a:pt x="10401" y="8119"/>
                  <a:pt x="10410" y="8103"/>
                  <a:pt x="10418" y="80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55920" y="3786120"/>
            <a:ext cx="393480" cy="349200"/>
          </a:xfrm>
          <a:custGeom>
            <a:avLst/>
            <a:gdLst/>
            <a:ahLst/>
            <a:rect l="l" t="t" r="r" b="b"/>
            <a:pathLst>
              <a:path w="1093" h="969">
                <a:moveTo>
                  <a:pt x="7045" y="10517"/>
                </a:moveTo>
                <a:cubicBezTo>
                  <a:pt x="6920" y="10788"/>
                  <a:pt x="6765" y="11014"/>
                  <a:pt x="6846" y="11336"/>
                </a:cubicBezTo>
                <a:cubicBezTo>
                  <a:pt x="6853" y="11364"/>
                  <a:pt x="6943" y="11476"/>
                  <a:pt x="6970" y="11485"/>
                </a:cubicBezTo>
              </a:path>
              <a:path w="1093" h="969">
                <a:moveTo>
                  <a:pt x="7615" y="10716"/>
                </a:moveTo>
                <a:cubicBezTo>
                  <a:pt x="7405" y="10899"/>
                  <a:pt x="7364" y="11030"/>
                  <a:pt x="7441" y="11286"/>
                </a:cubicBezTo>
                <a:cubicBezTo>
                  <a:pt x="7645" y="11286"/>
                  <a:pt x="8039" y="11258"/>
                  <a:pt x="7913" y="10914"/>
                </a:cubicBezTo>
                <a:cubicBezTo>
                  <a:pt x="7843" y="10723"/>
                  <a:pt x="7715" y="10732"/>
                  <a:pt x="7565" y="107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17880" y="3705120"/>
            <a:ext cx="571320" cy="474840"/>
          </a:xfrm>
          <a:custGeom>
            <a:avLst/>
            <a:gdLst/>
            <a:ahLst/>
            <a:rect l="l" t="t" r="r" b="b"/>
            <a:pathLst>
              <a:path w="1588" h="1316">
                <a:moveTo>
                  <a:pt x="8384" y="11162"/>
                </a:moveTo>
                <a:cubicBezTo>
                  <a:pt x="8384" y="11240"/>
                  <a:pt x="8384" y="11657"/>
                  <a:pt x="8384" y="11559"/>
                </a:cubicBezTo>
              </a:path>
              <a:path w="1588" h="1316">
                <a:moveTo>
                  <a:pt x="8880" y="10691"/>
                </a:moveTo>
                <a:cubicBezTo>
                  <a:pt x="9049" y="10843"/>
                  <a:pt x="9312" y="11069"/>
                  <a:pt x="9004" y="11261"/>
                </a:cubicBezTo>
                <a:cubicBezTo>
                  <a:pt x="8868" y="11284"/>
                  <a:pt x="8831" y="11298"/>
                  <a:pt x="8756" y="11237"/>
                </a:cubicBezTo>
                <a:cubicBezTo>
                  <a:pt x="8838" y="11050"/>
                  <a:pt x="8963" y="10953"/>
                  <a:pt x="9153" y="11137"/>
                </a:cubicBezTo>
                <a:cubicBezTo>
                  <a:pt x="9214" y="11240"/>
                  <a:pt x="9222" y="11264"/>
                  <a:pt x="9277" y="11311"/>
                </a:cubicBezTo>
              </a:path>
              <a:path w="1588" h="1316">
                <a:moveTo>
                  <a:pt x="9451" y="10294"/>
                </a:moveTo>
                <a:cubicBezTo>
                  <a:pt x="9703" y="10547"/>
                  <a:pt x="10119" y="10900"/>
                  <a:pt x="9922" y="11311"/>
                </a:cubicBezTo>
                <a:cubicBezTo>
                  <a:pt x="9754" y="11455"/>
                  <a:pt x="9704" y="11502"/>
                  <a:pt x="9550" y="11509"/>
                </a:cubicBezTo>
              </a:path>
              <a:path w="1588" h="1316">
                <a:moveTo>
                  <a:pt x="8434" y="10864"/>
                </a:moveTo>
                <a:cubicBezTo>
                  <a:pt x="8492" y="10864"/>
                  <a:pt x="8549" y="10864"/>
                  <a:pt x="8607" y="10864"/>
                </a:cubicBezTo>
                <a:cubicBezTo>
                  <a:pt x="8607" y="10889"/>
                  <a:pt x="8607" y="10897"/>
                  <a:pt x="8632" y="108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82920" y="4303800"/>
            <a:ext cx="1160280" cy="482400"/>
          </a:xfrm>
          <a:custGeom>
            <a:avLst/>
            <a:gdLst/>
            <a:ahLst/>
            <a:rect l="l" t="t" r="r" b="b"/>
            <a:pathLst>
              <a:path w="3225" h="1340">
                <a:moveTo>
                  <a:pt x="7268" y="11956"/>
                </a:moveTo>
                <a:cubicBezTo>
                  <a:pt x="7044" y="12160"/>
                  <a:pt x="6850" y="12500"/>
                  <a:pt x="6896" y="12824"/>
                </a:cubicBezTo>
                <a:cubicBezTo>
                  <a:pt x="6930" y="13069"/>
                  <a:pt x="7189" y="13003"/>
                  <a:pt x="7342" y="12998"/>
                </a:cubicBezTo>
              </a:path>
              <a:path w="3225" h="1340">
                <a:moveTo>
                  <a:pt x="7491" y="12526"/>
                </a:moveTo>
                <a:cubicBezTo>
                  <a:pt x="7565" y="12526"/>
                  <a:pt x="7640" y="12526"/>
                  <a:pt x="7714" y="12526"/>
                </a:cubicBezTo>
              </a:path>
              <a:path w="3225" h="1340">
                <a:moveTo>
                  <a:pt x="8062" y="12229"/>
                </a:moveTo>
                <a:cubicBezTo>
                  <a:pt x="8222" y="12309"/>
                  <a:pt x="8381" y="12398"/>
                  <a:pt x="8136" y="12502"/>
                </a:cubicBezTo>
                <a:cubicBezTo>
                  <a:pt x="8103" y="12510"/>
                  <a:pt x="8070" y="12518"/>
                  <a:pt x="8037" y="12526"/>
                </a:cubicBezTo>
                <a:cubicBezTo>
                  <a:pt x="8153" y="12526"/>
                  <a:pt x="8442" y="12557"/>
                  <a:pt x="8260" y="12750"/>
                </a:cubicBezTo>
                <a:cubicBezTo>
                  <a:pt x="8131" y="12886"/>
                  <a:pt x="7893" y="12877"/>
                  <a:pt x="7813" y="12750"/>
                </a:cubicBezTo>
              </a:path>
              <a:path w="3225" h="1340">
                <a:moveTo>
                  <a:pt x="8657" y="12998"/>
                </a:moveTo>
                <a:cubicBezTo>
                  <a:pt x="8655" y="13026"/>
                  <a:pt x="8632" y="13376"/>
                  <a:pt x="8632" y="13246"/>
                </a:cubicBezTo>
              </a:path>
              <a:path w="3225" h="1340">
                <a:moveTo>
                  <a:pt x="9178" y="12526"/>
                </a:moveTo>
                <a:cubicBezTo>
                  <a:pt x="9178" y="12675"/>
                  <a:pt x="9178" y="12824"/>
                  <a:pt x="9178" y="12973"/>
                </a:cubicBezTo>
              </a:path>
              <a:path w="3225" h="1340">
                <a:moveTo>
                  <a:pt x="9599" y="11981"/>
                </a:moveTo>
                <a:cubicBezTo>
                  <a:pt x="9881" y="12292"/>
                  <a:pt x="10324" y="12634"/>
                  <a:pt x="9996" y="13072"/>
                </a:cubicBezTo>
                <a:cubicBezTo>
                  <a:pt x="9840" y="13184"/>
                  <a:pt x="9804" y="13225"/>
                  <a:pt x="9674" y="13196"/>
                </a:cubicBezTo>
              </a:path>
              <a:path w="3225" h="1340">
                <a:moveTo>
                  <a:pt x="7565" y="12402"/>
                </a:moveTo>
                <a:cubicBezTo>
                  <a:pt x="7518" y="12484"/>
                  <a:pt x="7541" y="12601"/>
                  <a:pt x="7541" y="12700"/>
                </a:cubicBezTo>
                <a:cubicBezTo>
                  <a:pt x="7541" y="12751"/>
                  <a:pt x="7500" y="12730"/>
                  <a:pt x="7541" y="12750"/>
                </a:cubicBezTo>
              </a:path>
              <a:path w="3225" h="1340">
                <a:moveTo>
                  <a:pt x="8781" y="12576"/>
                </a:moveTo>
                <a:cubicBezTo>
                  <a:pt x="8837" y="12576"/>
                  <a:pt x="8859" y="12586"/>
                  <a:pt x="8905" y="12601"/>
                </a:cubicBezTo>
                <a:cubicBezTo>
                  <a:pt x="8978" y="12625"/>
                  <a:pt x="8986" y="12608"/>
                  <a:pt x="8930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4857840"/>
            <a:ext cx="285840" cy="455400"/>
          </a:xfrm>
          <a:custGeom>
            <a:avLst/>
            <a:gdLst/>
            <a:ahLst/>
            <a:rect l="l" t="t" r="r" b="b"/>
            <a:pathLst>
              <a:path w="794" h="1266">
                <a:moveTo>
                  <a:pt x="7169" y="13494"/>
                </a:moveTo>
                <a:cubicBezTo>
                  <a:pt x="6918" y="13601"/>
                  <a:pt x="6815" y="13989"/>
                  <a:pt x="6772" y="14238"/>
                </a:cubicBezTo>
                <a:cubicBezTo>
                  <a:pt x="6724" y="14517"/>
                  <a:pt x="6811" y="14710"/>
                  <a:pt x="7069" y="14759"/>
                </a:cubicBezTo>
              </a:path>
              <a:path w="794" h="1266">
                <a:moveTo>
                  <a:pt x="7293" y="14163"/>
                </a:moveTo>
                <a:cubicBezTo>
                  <a:pt x="7385" y="14181"/>
                  <a:pt x="7474" y="14203"/>
                  <a:pt x="7565" y="14213"/>
                </a:cubicBezTo>
              </a:path>
              <a:path w="794" h="1266">
                <a:moveTo>
                  <a:pt x="7441" y="14139"/>
                </a:moveTo>
                <a:cubicBezTo>
                  <a:pt x="7414" y="14109"/>
                  <a:pt x="7377" y="14321"/>
                  <a:pt x="7367" y="14387"/>
                </a:cubicBezTo>
                <a:cubicBezTo>
                  <a:pt x="7367" y="14403"/>
                  <a:pt x="7367" y="14420"/>
                  <a:pt x="7367" y="144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7680" y="5000760"/>
            <a:ext cx="26640" cy="233280"/>
          </a:xfrm>
          <a:custGeom>
            <a:avLst/>
            <a:gdLst/>
            <a:ahLst/>
            <a:rect l="l" t="t" r="r" b="b"/>
            <a:pathLst>
              <a:path w="75" h="646">
                <a:moveTo>
                  <a:pt x="7938" y="13891"/>
                </a:moveTo>
                <a:cubicBezTo>
                  <a:pt x="8073" y="14001"/>
                  <a:pt x="7989" y="14249"/>
                  <a:pt x="7962" y="14412"/>
                </a:cubicBezTo>
                <a:cubicBezTo>
                  <a:pt x="7944" y="14486"/>
                  <a:pt x="7936" y="14493"/>
                  <a:pt x="7938" y="145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54240" y="4919760"/>
            <a:ext cx="473040" cy="492120"/>
          </a:xfrm>
          <a:custGeom>
            <a:avLst/>
            <a:gdLst/>
            <a:ahLst/>
            <a:rect l="l" t="t" r="r" b="b"/>
            <a:pathLst>
              <a:path w="1316" h="1366">
                <a:moveTo>
                  <a:pt x="8508" y="14486"/>
                </a:moveTo>
                <a:cubicBezTo>
                  <a:pt x="8532" y="14664"/>
                  <a:pt x="8467" y="14846"/>
                  <a:pt x="8483" y="15007"/>
                </a:cubicBezTo>
                <a:cubicBezTo>
                  <a:pt x="8491" y="14999"/>
                  <a:pt x="8500" y="14990"/>
                  <a:pt x="8508" y="14982"/>
                </a:cubicBezTo>
              </a:path>
              <a:path w="1316" h="1366">
                <a:moveTo>
                  <a:pt x="9203" y="14089"/>
                </a:moveTo>
                <a:cubicBezTo>
                  <a:pt x="9280" y="14116"/>
                  <a:pt x="9210" y="14458"/>
                  <a:pt x="9203" y="14511"/>
                </a:cubicBezTo>
                <a:cubicBezTo>
                  <a:pt x="9193" y="14589"/>
                  <a:pt x="9178" y="14619"/>
                  <a:pt x="9178" y="14684"/>
                </a:cubicBezTo>
              </a:path>
              <a:path w="1316" h="1366">
                <a:moveTo>
                  <a:pt x="9475" y="13667"/>
                </a:moveTo>
                <a:cubicBezTo>
                  <a:pt x="9706" y="14042"/>
                  <a:pt x="9852" y="14333"/>
                  <a:pt x="9748" y="14784"/>
                </a:cubicBezTo>
                <a:cubicBezTo>
                  <a:pt x="9682" y="14937"/>
                  <a:pt x="9675" y="14982"/>
                  <a:pt x="9575" y="15032"/>
                </a:cubicBezTo>
              </a:path>
              <a:path w="1316" h="1366">
                <a:moveTo>
                  <a:pt x="8781" y="14288"/>
                </a:moveTo>
                <a:cubicBezTo>
                  <a:pt x="8826" y="14299"/>
                  <a:pt x="8852" y="14312"/>
                  <a:pt x="8905" y="14312"/>
                </a:cubicBezTo>
                <a:cubicBezTo>
                  <a:pt x="8913" y="14312"/>
                  <a:pt x="8922" y="14312"/>
                  <a:pt x="8930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4394160"/>
            <a:ext cx="1027440" cy="455760"/>
          </a:xfrm>
          <a:custGeom>
            <a:avLst/>
            <a:gdLst/>
            <a:ahLst/>
            <a:rect l="l" t="t" r="r" b="b"/>
            <a:pathLst>
              <a:path w="2853" h="1266">
                <a:moveTo>
                  <a:pt x="18752" y="12452"/>
                </a:moveTo>
                <a:cubicBezTo>
                  <a:pt x="18690" y="12452"/>
                  <a:pt x="18713" y="12450"/>
                  <a:pt x="18653" y="12502"/>
                </a:cubicBezTo>
                <a:cubicBezTo>
                  <a:pt x="18624" y="12584"/>
                  <a:pt x="18732" y="12512"/>
                  <a:pt x="18703" y="12477"/>
                </a:cubicBezTo>
                <a:cubicBezTo>
                  <a:pt x="18619" y="12375"/>
                  <a:pt x="18654" y="12563"/>
                  <a:pt x="18703" y="12477"/>
                </a:cubicBezTo>
                <a:cubicBezTo>
                  <a:pt x="18747" y="12400"/>
                  <a:pt x="18547" y="12431"/>
                  <a:pt x="18604" y="12502"/>
                </a:cubicBezTo>
                <a:cubicBezTo>
                  <a:pt x="18658" y="12569"/>
                  <a:pt x="18777" y="12439"/>
                  <a:pt x="18703" y="12402"/>
                </a:cubicBezTo>
                <a:cubicBezTo>
                  <a:pt x="18678" y="12402"/>
                  <a:pt x="18653" y="12402"/>
                  <a:pt x="18628" y="12402"/>
                </a:cubicBezTo>
                <a:cubicBezTo>
                  <a:pt x="18587" y="12516"/>
                  <a:pt x="18671" y="12562"/>
                  <a:pt x="18752" y="12452"/>
                </a:cubicBezTo>
                <a:cubicBezTo>
                  <a:pt x="18752" y="12411"/>
                  <a:pt x="18761" y="12394"/>
                  <a:pt x="18728" y="12402"/>
                </a:cubicBezTo>
              </a:path>
              <a:path w="2853" h="1266">
                <a:moveTo>
                  <a:pt x="18728" y="12378"/>
                </a:moveTo>
                <a:lnTo>
                  <a:pt x="18728" y="12378"/>
                </a:lnTo>
              </a:path>
              <a:path w="2853" h="1266">
                <a:moveTo>
                  <a:pt x="17711" y="13469"/>
                </a:moveTo>
                <a:cubicBezTo>
                  <a:pt x="17744" y="13441"/>
                  <a:pt x="17832" y="13360"/>
                  <a:pt x="17884" y="13320"/>
                </a:cubicBezTo>
                <a:cubicBezTo>
                  <a:pt x="17955" y="13265"/>
                  <a:pt x="18019" y="13235"/>
                  <a:pt x="18083" y="13171"/>
                </a:cubicBezTo>
                <a:cubicBezTo>
                  <a:pt x="18138" y="13116"/>
                  <a:pt x="18207" y="13074"/>
                  <a:pt x="18256" y="13022"/>
                </a:cubicBezTo>
                <a:cubicBezTo>
                  <a:pt x="18304" y="12970"/>
                  <a:pt x="18371" y="12908"/>
                  <a:pt x="18405" y="12874"/>
                </a:cubicBezTo>
                <a:cubicBezTo>
                  <a:pt x="18463" y="12816"/>
                  <a:pt x="18493" y="12776"/>
                  <a:pt x="18554" y="12725"/>
                </a:cubicBezTo>
                <a:cubicBezTo>
                  <a:pt x="18613" y="12675"/>
                  <a:pt x="18622" y="12658"/>
                  <a:pt x="18653" y="12601"/>
                </a:cubicBezTo>
                <a:cubicBezTo>
                  <a:pt x="18671" y="12567"/>
                  <a:pt x="18686" y="12535"/>
                  <a:pt x="18703" y="12502"/>
                </a:cubicBezTo>
              </a:path>
              <a:path w="2853" h="1266">
                <a:moveTo>
                  <a:pt x="18703" y="12477"/>
                </a:moveTo>
                <a:cubicBezTo>
                  <a:pt x="18763" y="12460"/>
                  <a:pt x="18810" y="12452"/>
                  <a:pt x="18876" y="12452"/>
                </a:cubicBezTo>
                <a:cubicBezTo>
                  <a:pt x="19045" y="12452"/>
                  <a:pt x="19212" y="12448"/>
                  <a:pt x="19372" y="12427"/>
                </a:cubicBezTo>
                <a:cubicBezTo>
                  <a:pt x="19527" y="12407"/>
                  <a:pt x="19694" y="12421"/>
                  <a:pt x="19844" y="12402"/>
                </a:cubicBezTo>
                <a:cubicBezTo>
                  <a:pt x="19939" y="12390"/>
                  <a:pt x="20043" y="12363"/>
                  <a:pt x="20141" y="12378"/>
                </a:cubicBezTo>
                <a:cubicBezTo>
                  <a:pt x="20270" y="12398"/>
                  <a:pt x="20359" y="12382"/>
                  <a:pt x="20489" y="12378"/>
                </a:cubicBezTo>
                <a:cubicBezTo>
                  <a:pt x="20522" y="12378"/>
                  <a:pt x="20538" y="12378"/>
                  <a:pt x="20563" y="12378"/>
                </a:cubicBezTo>
              </a:path>
              <a:path w="2853" h="1266">
                <a:moveTo>
                  <a:pt x="18256" y="12378"/>
                </a:moveTo>
                <a:cubicBezTo>
                  <a:pt x="18371" y="12406"/>
                  <a:pt x="18328" y="12610"/>
                  <a:pt x="18331" y="12700"/>
                </a:cubicBezTo>
                <a:cubicBezTo>
                  <a:pt x="18331" y="12775"/>
                  <a:pt x="18346" y="12772"/>
                  <a:pt x="18405" y="12650"/>
                </a:cubicBezTo>
              </a:path>
              <a:path w="2853" h="1266">
                <a:moveTo>
                  <a:pt x="18529" y="12303"/>
                </a:moveTo>
                <a:cubicBezTo>
                  <a:pt x="18529" y="12430"/>
                  <a:pt x="18582" y="12676"/>
                  <a:pt x="18479" y="12675"/>
                </a:cubicBezTo>
              </a:path>
              <a:path w="2853" h="1266">
                <a:moveTo>
                  <a:pt x="18331" y="12626"/>
                </a:moveTo>
                <a:cubicBezTo>
                  <a:pt x="18440" y="12571"/>
                  <a:pt x="18483" y="12549"/>
                  <a:pt x="18554" y="12502"/>
                </a:cubicBezTo>
              </a:path>
              <a:path w="2853" h="1266">
                <a:moveTo>
                  <a:pt x="18554" y="12502"/>
                </a:moveTo>
                <a:lnTo>
                  <a:pt x="18554" y="12502"/>
                </a:lnTo>
              </a:path>
              <a:path w="2853" h="1266">
                <a:moveTo>
                  <a:pt x="18703" y="12204"/>
                </a:moveTo>
                <a:cubicBezTo>
                  <a:pt x="18679" y="12252"/>
                  <a:pt x="18671" y="12266"/>
                  <a:pt x="18678" y="123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32680" y="4411800"/>
            <a:ext cx="1357200" cy="660240"/>
          </a:xfrm>
          <a:custGeom>
            <a:avLst/>
            <a:gdLst/>
            <a:ahLst/>
            <a:rect l="l" t="t" r="r" b="b"/>
            <a:pathLst>
              <a:path w="3771" h="1836">
                <a:moveTo>
                  <a:pt x="17859" y="13419"/>
                </a:moveTo>
                <a:cubicBezTo>
                  <a:pt x="17859" y="13371"/>
                  <a:pt x="17864" y="13319"/>
                  <a:pt x="17810" y="13295"/>
                </a:cubicBezTo>
                <a:cubicBezTo>
                  <a:pt x="17775" y="13295"/>
                  <a:pt x="17757" y="13300"/>
                  <a:pt x="17735" y="13320"/>
                </a:cubicBezTo>
                <a:cubicBezTo>
                  <a:pt x="17716" y="13447"/>
                  <a:pt x="17761" y="13529"/>
                  <a:pt x="17909" y="13419"/>
                </a:cubicBezTo>
                <a:cubicBezTo>
                  <a:pt x="18007" y="13346"/>
                  <a:pt x="17808" y="13307"/>
                  <a:pt x="17760" y="13320"/>
                </a:cubicBezTo>
                <a:cubicBezTo>
                  <a:pt x="17752" y="13328"/>
                  <a:pt x="17743" y="13337"/>
                  <a:pt x="17735" y="13345"/>
                </a:cubicBezTo>
                <a:cubicBezTo>
                  <a:pt x="17749" y="13431"/>
                  <a:pt x="17787" y="13402"/>
                  <a:pt x="17835" y="13345"/>
                </a:cubicBezTo>
                <a:cubicBezTo>
                  <a:pt x="17780" y="13308"/>
                  <a:pt x="17573" y="13304"/>
                  <a:pt x="17686" y="13395"/>
                </a:cubicBezTo>
                <a:cubicBezTo>
                  <a:pt x="17776" y="13468"/>
                  <a:pt x="17900" y="13345"/>
                  <a:pt x="17810" y="13320"/>
                </a:cubicBezTo>
                <a:cubicBezTo>
                  <a:pt x="17752" y="13320"/>
                  <a:pt x="17727" y="13303"/>
                  <a:pt x="17735" y="13345"/>
                </a:cubicBezTo>
              </a:path>
              <a:path w="3771" h="1836">
                <a:moveTo>
                  <a:pt x="17314" y="13816"/>
                </a:moveTo>
                <a:cubicBezTo>
                  <a:pt x="17385" y="13767"/>
                  <a:pt x="17362" y="13999"/>
                  <a:pt x="17363" y="14039"/>
                </a:cubicBezTo>
                <a:cubicBezTo>
                  <a:pt x="17363" y="14081"/>
                  <a:pt x="17363" y="14106"/>
                  <a:pt x="17363" y="14064"/>
                </a:cubicBezTo>
                <a:cubicBezTo>
                  <a:pt x="17363" y="13944"/>
                  <a:pt x="17349" y="13835"/>
                  <a:pt x="17338" y="13717"/>
                </a:cubicBezTo>
                <a:cubicBezTo>
                  <a:pt x="17424" y="13705"/>
                  <a:pt x="17499" y="13692"/>
                  <a:pt x="17587" y="13692"/>
                </a:cubicBezTo>
                <a:cubicBezTo>
                  <a:pt x="17595" y="13692"/>
                  <a:pt x="17603" y="13692"/>
                  <a:pt x="17611" y="13692"/>
                </a:cubicBezTo>
              </a:path>
              <a:path w="3771" h="1836">
                <a:moveTo>
                  <a:pt x="17363" y="13891"/>
                </a:moveTo>
                <a:cubicBezTo>
                  <a:pt x="17446" y="13918"/>
                  <a:pt x="17481" y="13907"/>
                  <a:pt x="17562" y="13891"/>
                </a:cubicBezTo>
              </a:path>
              <a:path w="3771" h="1836">
                <a:moveTo>
                  <a:pt x="20439" y="12452"/>
                </a:moveTo>
                <a:cubicBezTo>
                  <a:pt x="20439" y="12415"/>
                  <a:pt x="20455" y="12380"/>
                  <a:pt x="20414" y="12378"/>
                </a:cubicBezTo>
                <a:cubicBezTo>
                  <a:pt x="20295" y="12372"/>
                  <a:pt x="20212" y="12585"/>
                  <a:pt x="20340" y="12576"/>
                </a:cubicBezTo>
                <a:cubicBezTo>
                  <a:pt x="20422" y="12534"/>
                  <a:pt x="20447" y="12534"/>
                  <a:pt x="20464" y="12477"/>
                </a:cubicBezTo>
                <a:cubicBezTo>
                  <a:pt x="20359" y="12459"/>
                  <a:pt x="20353" y="12440"/>
                  <a:pt x="20290" y="12526"/>
                </a:cubicBezTo>
                <a:cubicBezTo>
                  <a:pt x="20331" y="12526"/>
                  <a:pt x="20475" y="12525"/>
                  <a:pt x="20389" y="12452"/>
                </a:cubicBezTo>
                <a:cubicBezTo>
                  <a:pt x="20349" y="12432"/>
                  <a:pt x="20333" y="12413"/>
                  <a:pt x="20340" y="12452"/>
                </a:cubicBezTo>
              </a:path>
              <a:path w="3771" h="1836">
                <a:moveTo>
                  <a:pt x="20836" y="12477"/>
                </a:moveTo>
                <a:cubicBezTo>
                  <a:pt x="20844" y="12477"/>
                  <a:pt x="20853" y="12477"/>
                  <a:pt x="20861" y="12477"/>
                </a:cubicBezTo>
                <a:cubicBezTo>
                  <a:pt x="20833" y="12393"/>
                  <a:pt x="20724" y="12545"/>
                  <a:pt x="20712" y="12576"/>
                </a:cubicBezTo>
                <a:cubicBezTo>
                  <a:pt x="20657" y="12722"/>
                  <a:pt x="20722" y="12932"/>
                  <a:pt x="20910" y="12849"/>
                </a:cubicBezTo>
                <a:cubicBezTo>
                  <a:pt x="20956" y="12803"/>
                  <a:pt x="20971" y="12791"/>
                  <a:pt x="20985" y="12750"/>
                </a:cubicBezTo>
                <a:cubicBezTo>
                  <a:pt x="20936" y="12682"/>
                  <a:pt x="20912" y="12654"/>
                  <a:pt x="20836" y="12700"/>
                </a:cubicBezTo>
              </a:path>
              <a:path w="3771" h="1836">
                <a:moveTo>
                  <a:pt x="20836" y="12626"/>
                </a:moveTo>
                <a:cubicBezTo>
                  <a:pt x="20878" y="12619"/>
                  <a:pt x="20918" y="12608"/>
                  <a:pt x="20960" y="12601"/>
                </a:cubicBezTo>
              </a:path>
              <a:path w="3771" h="1836">
                <a:moveTo>
                  <a:pt x="20414" y="12427"/>
                </a:moveTo>
                <a:cubicBezTo>
                  <a:pt x="20390" y="12423"/>
                  <a:pt x="20372" y="12411"/>
                  <a:pt x="20315" y="12427"/>
                </a:cubicBezTo>
                <a:cubicBezTo>
                  <a:pt x="20278" y="12437"/>
                  <a:pt x="20250" y="12436"/>
                  <a:pt x="20216" y="12452"/>
                </a:cubicBezTo>
                <a:cubicBezTo>
                  <a:pt x="20173" y="12472"/>
                  <a:pt x="20135" y="12502"/>
                  <a:pt x="20092" y="12526"/>
                </a:cubicBezTo>
                <a:cubicBezTo>
                  <a:pt x="20051" y="12549"/>
                  <a:pt x="19986" y="12568"/>
                  <a:pt x="19943" y="12601"/>
                </a:cubicBezTo>
                <a:cubicBezTo>
                  <a:pt x="19862" y="12663"/>
                  <a:pt x="19794" y="12714"/>
                  <a:pt x="19695" y="12750"/>
                </a:cubicBezTo>
                <a:cubicBezTo>
                  <a:pt x="19589" y="12789"/>
                  <a:pt x="19478" y="12773"/>
                  <a:pt x="19372" y="12799"/>
                </a:cubicBezTo>
                <a:cubicBezTo>
                  <a:pt x="19304" y="12815"/>
                  <a:pt x="19244" y="12812"/>
                  <a:pt x="19174" y="12824"/>
                </a:cubicBezTo>
                <a:cubicBezTo>
                  <a:pt x="19109" y="12835"/>
                  <a:pt x="19062" y="12851"/>
                  <a:pt x="19000" y="12874"/>
                </a:cubicBezTo>
                <a:cubicBezTo>
                  <a:pt x="18952" y="12892"/>
                  <a:pt x="18899" y="12885"/>
                  <a:pt x="18852" y="12898"/>
                </a:cubicBezTo>
                <a:cubicBezTo>
                  <a:pt x="18772" y="12921"/>
                  <a:pt x="18705" y="12934"/>
                  <a:pt x="18628" y="12973"/>
                </a:cubicBezTo>
                <a:cubicBezTo>
                  <a:pt x="18593" y="12991"/>
                  <a:pt x="18542" y="13006"/>
                  <a:pt x="18504" y="13022"/>
                </a:cubicBezTo>
                <a:cubicBezTo>
                  <a:pt x="18448" y="13046"/>
                  <a:pt x="18406" y="13092"/>
                  <a:pt x="18355" y="13122"/>
                </a:cubicBezTo>
                <a:cubicBezTo>
                  <a:pt x="18323" y="13141"/>
                  <a:pt x="18270" y="13155"/>
                  <a:pt x="18231" y="13171"/>
                </a:cubicBezTo>
                <a:cubicBezTo>
                  <a:pt x="18181" y="13190"/>
                  <a:pt x="18154" y="13216"/>
                  <a:pt x="18107" y="13246"/>
                </a:cubicBezTo>
                <a:cubicBezTo>
                  <a:pt x="18062" y="13274"/>
                  <a:pt x="18011" y="13294"/>
                  <a:pt x="17959" y="13320"/>
                </a:cubicBezTo>
                <a:cubicBezTo>
                  <a:pt x="17917" y="13341"/>
                  <a:pt x="17815" y="13411"/>
                  <a:pt x="17859" y="13395"/>
                </a:cubicBezTo>
                <a:cubicBezTo>
                  <a:pt x="17909" y="13370"/>
                  <a:pt x="17958" y="13345"/>
                  <a:pt x="18008" y="13320"/>
                </a:cubicBezTo>
              </a:path>
              <a:path w="3771" h="1836">
                <a:moveTo>
                  <a:pt x="21084" y="12254"/>
                </a:moveTo>
                <a:cubicBezTo>
                  <a:pt x="21073" y="12321"/>
                  <a:pt x="21045" y="12385"/>
                  <a:pt x="21034" y="12452"/>
                </a:cubicBezTo>
              </a:path>
              <a:path w="3771" h="1836">
                <a:moveTo>
                  <a:pt x="17859" y="13692"/>
                </a:moveTo>
                <a:cubicBezTo>
                  <a:pt x="17818" y="13745"/>
                  <a:pt x="17797" y="13756"/>
                  <a:pt x="17785" y="137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43760" y="3929040"/>
            <a:ext cx="581040" cy="554040"/>
          </a:xfrm>
          <a:custGeom>
            <a:avLst/>
            <a:gdLst/>
            <a:ahLst/>
            <a:rect l="l" t="t" r="r" b="b"/>
            <a:pathLst>
              <a:path w="1613" h="1539">
                <a:moveTo>
                  <a:pt x="17066" y="10988"/>
                </a:moveTo>
                <a:cubicBezTo>
                  <a:pt x="17066" y="11120"/>
                  <a:pt x="17076" y="11254"/>
                  <a:pt x="17090" y="11385"/>
                </a:cubicBezTo>
                <a:cubicBezTo>
                  <a:pt x="17090" y="11369"/>
                  <a:pt x="17090" y="11352"/>
                  <a:pt x="17090" y="11336"/>
                </a:cubicBezTo>
              </a:path>
              <a:path w="1613" h="1539">
                <a:moveTo>
                  <a:pt x="17214" y="11038"/>
                </a:moveTo>
                <a:cubicBezTo>
                  <a:pt x="17234" y="11156"/>
                  <a:pt x="17239" y="11265"/>
                  <a:pt x="17239" y="11385"/>
                </a:cubicBezTo>
              </a:path>
              <a:path w="1613" h="1539">
                <a:moveTo>
                  <a:pt x="17066" y="11336"/>
                </a:moveTo>
                <a:cubicBezTo>
                  <a:pt x="17169" y="11328"/>
                  <a:pt x="17207" y="11319"/>
                  <a:pt x="17289" y="11261"/>
                </a:cubicBezTo>
              </a:path>
              <a:path w="1613" h="1539">
                <a:moveTo>
                  <a:pt x="17314" y="10939"/>
                </a:moveTo>
                <a:cubicBezTo>
                  <a:pt x="17336" y="10916"/>
                  <a:pt x="17341" y="10908"/>
                  <a:pt x="17363" y="10914"/>
                </a:cubicBezTo>
                <a:cubicBezTo>
                  <a:pt x="17363" y="10967"/>
                  <a:pt x="17376" y="10969"/>
                  <a:pt x="17413" y="11013"/>
                </a:cubicBezTo>
                <a:cubicBezTo>
                  <a:pt x="17435" y="11035"/>
                  <a:pt x="17440" y="11044"/>
                  <a:pt x="17462" y="11038"/>
                </a:cubicBezTo>
                <a:cubicBezTo>
                  <a:pt x="17472" y="11078"/>
                  <a:pt x="17500" y="11100"/>
                  <a:pt x="17512" y="11137"/>
                </a:cubicBezTo>
                <a:cubicBezTo>
                  <a:pt x="17524" y="11172"/>
                  <a:pt x="17523" y="11204"/>
                  <a:pt x="17537" y="11237"/>
                </a:cubicBezTo>
                <a:cubicBezTo>
                  <a:pt x="17559" y="11287"/>
                  <a:pt x="17585" y="11367"/>
                  <a:pt x="17611" y="11410"/>
                </a:cubicBezTo>
                <a:cubicBezTo>
                  <a:pt x="17632" y="11445"/>
                  <a:pt x="17670" y="11488"/>
                  <a:pt x="17686" y="11509"/>
                </a:cubicBezTo>
                <a:cubicBezTo>
                  <a:pt x="17706" y="11550"/>
                  <a:pt x="17715" y="11556"/>
                  <a:pt x="17711" y="11584"/>
                </a:cubicBezTo>
                <a:cubicBezTo>
                  <a:pt x="17746" y="11596"/>
                  <a:pt x="17735" y="11641"/>
                  <a:pt x="17760" y="11658"/>
                </a:cubicBezTo>
                <a:cubicBezTo>
                  <a:pt x="17768" y="11658"/>
                  <a:pt x="17777" y="11658"/>
                  <a:pt x="17785" y="11658"/>
                </a:cubicBezTo>
              </a:path>
              <a:path w="1613" h="1539">
                <a:moveTo>
                  <a:pt x="18678" y="12452"/>
                </a:moveTo>
                <a:cubicBezTo>
                  <a:pt x="18652" y="12408"/>
                  <a:pt x="18642" y="12374"/>
                  <a:pt x="18579" y="12353"/>
                </a:cubicBezTo>
                <a:cubicBezTo>
                  <a:pt x="18571" y="12353"/>
                  <a:pt x="18562" y="12353"/>
                  <a:pt x="18554" y="12353"/>
                </a:cubicBezTo>
                <a:cubicBezTo>
                  <a:pt x="18533" y="12289"/>
                  <a:pt x="18542" y="12311"/>
                  <a:pt x="18479" y="12278"/>
                </a:cubicBezTo>
                <a:cubicBezTo>
                  <a:pt x="18446" y="12261"/>
                  <a:pt x="18414" y="12250"/>
                  <a:pt x="18380" y="12229"/>
                </a:cubicBezTo>
                <a:cubicBezTo>
                  <a:pt x="18328" y="12197"/>
                  <a:pt x="18333" y="12174"/>
                  <a:pt x="18281" y="12154"/>
                </a:cubicBezTo>
                <a:cubicBezTo>
                  <a:pt x="18273" y="12154"/>
                  <a:pt x="18264" y="12154"/>
                  <a:pt x="18256" y="12154"/>
                </a:cubicBezTo>
                <a:cubicBezTo>
                  <a:pt x="18236" y="12124"/>
                  <a:pt x="18238" y="12125"/>
                  <a:pt x="18207" y="12105"/>
                </a:cubicBezTo>
                <a:cubicBezTo>
                  <a:pt x="18192" y="12084"/>
                  <a:pt x="18197" y="12076"/>
                  <a:pt x="18182" y="12055"/>
                </a:cubicBezTo>
                <a:cubicBezTo>
                  <a:pt x="18145" y="12029"/>
                  <a:pt x="18140" y="12018"/>
                  <a:pt x="18107" y="11981"/>
                </a:cubicBezTo>
                <a:cubicBezTo>
                  <a:pt x="18085" y="11958"/>
                  <a:pt x="18077" y="11953"/>
                  <a:pt x="18083" y="11931"/>
                </a:cubicBezTo>
                <a:cubicBezTo>
                  <a:pt x="18062" y="11916"/>
                  <a:pt x="18054" y="11921"/>
                  <a:pt x="18033" y="11906"/>
                </a:cubicBezTo>
                <a:cubicBezTo>
                  <a:pt x="18023" y="11882"/>
                  <a:pt x="18018" y="11856"/>
                  <a:pt x="18008" y="11832"/>
                </a:cubicBezTo>
                <a:cubicBezTo>
                  <a:pt x="17980" y="11816"/>
                  <a:pt x="17937" y="11798"/>
                  <a:pt x="17909" y="11782"/>
                </a:cubicBezTo>
                <a:cubicBezTo>
                  <a:pt x="17885" y="11740"/>
                  <a:pt x="17877" y="11732"/>
                  <a:pt x="17835" y="11708"/>
                </a:cubicBezTo>
                <a:cubicBezTo>
                  <a:pt x="17820" y="11687"/>
                  <a:pt x="17825" y="11679"/>
                  <a:pt x="17810" y="11658"/>
                </a:cubicBezTo>
                <a:cubicBezTo>
                  <a:pt x="17790" y="11632"/>
                  <a:pt x="17793" y="11659"/>
                  <a:pt x="17785" y="11609"/>
                </a:cubicBezTo>
                <a:cubicBezTo>
                  <a:pt x="17759" y="11583"/>
                  <a:pt x="17768" y="11550"/>
                  <a:pt x="17735" y="11534"/>
                </a:cubicBezTo>
                <a:cubicBezTo>
                  <a:pt x="17735" y="11542"/>
                  <a:pt x="17735" y="11551"/>
                  <a:pt x="17735" y="115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5320" y="3500280"/>
            <a:ext cx="258840" cy="2349720"/>
          </a:xfrm>
          <a:custGeom>
            <a:avLst/>
            <a:gdLst/>
            <a:ahLst/>
            <a:rect l="l" t="t" r="r" b="b"/>
            <a:pathLst>
              <a:path w="720" h="6525">
                <a:moveTo>
                  <a:pt x="5705" y="9748"/>
                </a:moveTo>
                <a:cubicBezTo>
                  <a:pt x="5705" y="9847"/>
                  <a:pt x="5705" y="9897"/>
                  <a:pt x="5705" y="9996"/>
                </a:cubicBezTo>
                <a:cubicBezTo>
                  <a:pt x="5705" y="10238"/>
                  <a:pt x="5709" y="10475"/>
                  <a:pt x="5680" y="10716"/>
                </a:cubicBezTo>
                <a:cubicBezTo>
                  <a:pt x="5642" y="11023"/>
                  <a:pt x="5596" y="11332"/>
                  <a:pt x="5531" y="11633"/>
                </a:cubicBezTo>
                <a:cubicBezTo>
                  <a:pt x="5473" y="11900"/>
                  <a:pt x="5389" y="12160"/>
                  <a:pt x="5333" y="12427"/>
                </a:cubicBezTo>
                <a:cubicBezTo>
                  <a:pt x="5212" y="13000"/>
                  <a:pt x="5184" y="13584"/>
                  <a:pt x="5135" y="14163"/>
                </a:cubicBezTo>
                <a:cubicBezTo>
                  <a:pt x="5113" y="14427"/>
                  <a:pt x="5109" y="14693"/>
                  <a:pt x="5085" y="14957"/>
                </a:cubicBezTo>
                <a:cubicBezTo>
                  <a:pt x="5063" y="15197"/>
                  <a:pt x="5057" y="15438"/>
                  <a:pt x="5035" y="15677"/>
                </a:cubicBezTo>
                <a:cubicBezTo>
                  <a:pt x="5020" y="15839"/>
                  <a:pt x="4991" y="15986"/>
                  <a:pt x="4986" y="16148"/>
                </a:cubicBezTo>
                <a:cubicBezTo>
                  <a:pt x="4985" y="16198"/>
                  <a:pt x="4986" y="16147"/>
                  <a:pt x="4986" y="161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tation Workshe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7:23:40Z</dcterms:created>
  <dc:creator>ccps</dc:creator>
  <dc:description/>
  <dc:language>en-US</dc:language>
  <cp:lastModifiedBy>deanne elizabeth mcgrath</cp:lastModifiedBy>
  <dcterms:modified xsi:type="dcterms:W3CDTF">2011-05-04T17:32:29Z</dcterms:modified>
  <cp:revision>14</cp:revision>
  <dc:subject/>
  <dc:title>Obj 10.7:  To identify transformations in figures.</dc:title>
</cp:coreProperties>
</file>